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28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5.png" ContentType="image/png"/>
  <Override PartName="/ppt/media/image35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</p:sldIdLst>
  <p:sldSz cx="9144000" cy="6858000"/>
  <p:notesSz cx="9871075" cy="6854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9871200" cy="68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27680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5594400" y="-360"/>
            <a:ext cx="427680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3222720" y="514080"/>
            <a:ext cx="3425760" cy="257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1316160" y="3255840"/>
            <a:ext cx="7238880" cy="30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0" y="6509880"/>
            <a:ext cx="427680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5594400" y="6509880"/>
            <a:ext cx="427680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827B9-1704-4EE6-8D45-BF2A988AFD21}" type="slidenum">
              <a:rPr b="0" lang="pl-P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3222720" y="514440"/>
            <a:ext cx="3425760" cy="257004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1316160" y="3255840"/>
            <a:ext cx="7238880" cy="30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ozpoczynamy instalacj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5D29C-ABCE-4945-BDE4-83AD7895C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04C05-04D8-4D01-A9D8-4820B66B1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052F7-1DC3-4E5A-9A13-6D264DF2C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494F2-2BB5-4E0F-883C-BBA1C11DF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4A86C-4862-49F8-AE6B-03F53198D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7B7AC-B77E-4A2D-9851-0800A6926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98486-C17B-41D7-A1DE-BE78397B8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4FADC-95EB-4B61-91FF-B8EC2AF38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0B9E9-1294-4360-9643-3B31EF8D1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11C52-8334-44AE-BF3C-E5170B269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3C4E9-2B6C-479F-8BD2-25039F940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C0323-9F52-4B1D-A3A8-DFE473E42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6072C-FBE0-4A86-B4B0-BC291A763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DFBC8-C51E-49C9-8C4A-236F5BD65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6A4B6-3308-4297-B06B-D489CE53D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E4C94-05D3-4E95-9306-AA5155543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47466-A2F8-4AF4-A247-F30832EB8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E9853-13D4-4556-AE11-46677278A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CEC20-E5FA-4C8A-AFC1-28CCB15DD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7212B-B4E3-4BD3-990B-6F1BDD95E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1370A-F9FE-4708-967F-BBBC95E3B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1485E-967A-41A8-B2DD-E4DC696C9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4DAF9-D694-445D-A78B-92AB2A22A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A573B-80AF-4680-8D4A-A57DD14B5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949E8-F821-4423-878D-510AB8C899AC}" type="slidenum">
              <a:rPr b="0" lang="pl-P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99D53-8BFA-4889-A914-11D1A2686897}" type="slidenum">
              <a:rPr b="0" lang="pl-PL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6.xml"/><Relationship Id="rId2" Type="http://schemas.openxmlformats.org/officeDocument/2006/relationships/image" Target="../media/image18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30.xml"/><Relationship Id="rId2" Type="http://schemas.openxmlformats.org/officeDocument/2006/relationships/image" Target="../media/image23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linux_4" descr=""/>
          <p:cNvPicPr/>
          <p:nvPr/>
        </p:nvPicPr>
        <p:blipFill>
          <a:blip r:embed="rId1"/>
          <a:stretch/>
        </p:blipFill>
        <p:spPr>
          <a:xfrm>
            <a:off x="685800" y="762120"/>
            <a:ext cx="2286000" cy="259056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971440" y="1599840"/>
            <a:ext cx="61722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6600" spc="-1" strike="noStrike">
                <a:solidFill>
                  <a:srgbClr val="333399"/>
                </a:solidFill>
                <a:latin typeface="Georgia"/>
              </a:rPr>
              <a:t>Linux</a:t>
            </a:r>
            <a:br>
              <a:rPr sz="6600"/>
            </a:br>
            <a:r>
              <a:rPr b="1" lang="pl-PL" sz="6600" spc="-1" strike="noStrike">
                <a:solidFill>
                  <a:srgbClr val="333399"/>
                </a:solidFill>
                <a:latin typeface="Georgia"/>
              </a:rPr>
              <a:t> Mandrake 6.1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0" y="3809880"/>
            <a:ext cx="9144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Georgia"/>
              </a:rPr>
              <a:t>instalacja i podstawy konfiguracj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2" name="apache" descr=""/>
          <p:cNvPicPr/>
          <p:nvPr/>
        </p:nvPicPr>
        <p:blipFill>
          <a:blip r:embed="rId2"/>
          <a:stretch/>
        </p:blipFill>
        <p:spPr>
          <a:xfrm>
            <a:off x="5638680" y="5867280"/>
            <a:ext cx="2880000" cy="71928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152280" y="4495680"/>
            <a:ext cx="84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Georgia"/>
              </a:rPr>
              <a:t>©</a:t>
            </a: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 Stanisław Rożniatowski, WODIiP Opole, luty 2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164148_Linux_User" descr=""/>
          <p:cNvPicPr/>
          <p:nvPr/>
        </p:nvPicPr>
        <p:blipFill>
          <a:blip r:embed="rId3"/>
          <a:stretch/>
        </p:blipFill>
        <p:spPr>
          <a:xfrm>
            <a:off x="5638680" y="4952880"/>
            <a:ext cx="2880000" cy="719280"/>
          </a:xfrm>
          <a:prstGeom prst="rect">
            <a:avLst/>
          </a:prstGeom>
          <a:ln w="0">
            <a:noFill/>
          </a:ln>
        </p:spPr>
      </p:pic>
      <p:sp>
        <p:nvSpPr>
          <p:cNvPr id="95" name="">
            <a:hlinkClick r:id="" action="ppaction://hlinkshowjump?jump=nextslide"/>
          </p:cNvPr>
          <p:cNvSpPr/>
          <p:nvPr/>
        </p:nvSpPr>
        <p:spPr>
          <a:xfrm>
            <a:off x="7916760" y="358920"/>
            <a:ext cx="1079640" cy="360360"/>
          </a:xfrm>
          <a:custGeom>
            <a:avLst/>
            <a:gdLst>
              <a:gd name="textAreaLeft" fmla="*/ 23040 w 1079640"/>
              <a:gd name="textAreaRight" fmla="*/ 1056600 w 1079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671" h="21600">
                <a:moveTo>
                  <a:pt x="0" y="0"/>
                </a:moveTo>
                <a:lnTo>
                  <a:pt x="64671" y="0"/>
                </a:lnTo>
                <a:lnTo>
                  <a:pt x="64671" y="21600"/>
                </a:lnTo>
                <a:lnTo>
                  <a:pt x="0" y="21600"/>
                </a:lnTo>
                <a:close/>
              </a:path>
              <a:path fill="lightenLess" w="64671" h="21600">
                <a:moveTo>
                  <a:pt x="0" y="0"/>
                </a:moveTo>
                <a:lnTo>
                  <a:pt x="64671" y="0"/>
                </a:lnTo>
                <a:lnTo>
                  <a:pt x="63271" y="1400"/>
                </a:lnTo>
                <a:lnTo>
                  <a:pt x="1400" y="1400"/>
                </a:lnTo>
                <a:close/>
              </a:path>
              <a:path fill="darken" w="64671" h="21600">
                <a:moveTo>
                  <a:pt x="64671" y="0"/>
                </a:moveTo>
                <a:lnTo>
                  <a:pt x="64671" y="21600"/>
                </a:lnTo>
                <a:lnTo>
                  <a:pt x="63271" y="20200"/>
                </a:lnTo>
                <a:lnTo>
                  <a:pt x="63271" y="1400"/>
                </a:lnTo>
                <a:close/>
              </a:path>
              <a:path fill="darkenLess" w="64671" h="21600">
                <a:moveTo>
                  <a:pt x="646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71" y="20200"/>
                </a:lnTo>
                <a:close/>
              </a:path>
              <a:path fill="lighten" w="646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671" h="21600">
                <a:moveTo>
                  <a:pt x="25329" y="3794"/>
                </a:moveTo>
                <a:lnTo>
                  <a:pt x="39342" y="10800"/>
                </a:lnTo>
                <a:lnTo>
                  <a:pt x="25329" y="17806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1438200"/>
            <a:ext cx="9144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Georgia"/>
              </a:rPr>
              <a:t>Określamy program do partycjonowania twardego dysku : zaznaczamy </a:t>
            </a:r>
            <a:r>
              <a:rPr b="1" lang="pl-PL" sz="1200" spc="-1" strike="noStrike">
                <a:solidFill>
                  <a:srgbClr val="000000"/>
                </a:solidFill>
                <a:latin typeface="Georgia"/>
              </a:rPr>
              <a:t>Disk Druid</a:t>
            </a:r>
            <a:r>
              <a:rPr b="0" lang="pl-PL" sz="1200" spc="-1" strike="noStrike">
                <a:solidFill>
                  <a:srgbClr val="000000"/>
                </a:solidFill>
                <a:latin typeface="Georgia"/>
              </a:rPr>
              <a:t>. Drugie narzędzie - fdisk jest trudniejszy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Georgia"/>
              </a:rPr>
              <a:t>w obsłudze dla początkującego użytkownik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6partycje" descr=""/>
          <p:cNvPicPr/>
          <p:nvPr/>
        </p:nvPicPr>
        <p:blipFill>
          <a:blip r:embed="rId1"/>
          <a:stretch/>
        </p:blipFill>
        <p:spPr>
          <a:xfrm>
            <a:off x="2158920" y="2158920"/>
            <a:ext cx="5496120" cy="3598920"/>
          </a:xfrm>
          <a:prstGeom prst="rect">
            <a:avLst/>
          </a:prstGeom>
          <a:ln w="0">
            <a:noFill/>
          </a:ln>
        </p:spPr>
      </p:pic>
      <p:sp>
        <p:nvSpPr>
          <p:cNvPr id="154" name="">
            <a:hlinkClick r:id="" action="ppaction://hlinkshowjump?jump=nextslide"/>
          </p:cNvPr>
          <p:cNvSpPr/>
          <p:nvPr/>
        </p:nvSpPr>
        <p:spPr>
          <a:xfrm>
            <a:off x="7916760" y="358920"/>
            <a:ext cx="1079640" cy="360360"/>
          </a:xfrm>
          <a:custGeom>
            <a:avLst/>
            <a:gdLst>
              <a:gd name="textAreaLeft" fmla="*/ 23040 w 1079640"/>
              <a:gd name="textAreaRight" fmla="*/ 1056600 w 1079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671" h="21600">
                <a:moveTo>
                  <a:pt x="0" y="0"/>
                </a:moveTo>
                <a:lnTo>
                  <a:pt x="64671" y="0"/>
                </a:lnTo>
                <a:lnTo>
                  <a:pt x="64671" y="21600"/>
                </a:lnTo>
                <a:lnTo>
                  <a:pt x="0" y="21600"/>
                </a:lnTo>
                <a:close/>
              </a:path>
              <a:path fill="lightenLess" w="64671" h="21600">
                <a:moveTo>
                  <a:pt x="0" y="0"/>
                </a:moveTo>
                <a:lnTo>
                  <a:pt x="64671" y="0"/>
                </a:lnTo>
                <a:lnTo>
                  <a:pt x="63271" y="1400"/>
                </a:lnTo>
                <a:lnTo>
                  <a:pt x="1400" y="1400"/>
                </a:lnTo>
                <a:close/>
              </a:path>
              <a:path fill="darken" w="64671" h="21600">
                <a:moveTo>
                  <a:pt x="64671" y="0"/>
                </a:moveTo>
                <a:lnTo>
                  <a:pt x="64671" y="21600"/>
                </a:lnTo>
                <a:lnTo>
                  <a:pt x="63271" y="20200"/>
                </a:lnTo>
                <a:lnTo>
                  <a:pt x="63271" y="1400"/>
                </a:lnTo>
                <a:close/>
              </a:path>
              <a:path fill="darkenLess" w="64671" h="21600">
                <a:moveTo>
                  <a:pt x="646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71" y="20200"/>
                </a:lnTo>
                <a:close/>
              </a:path>
              <a:path fill="lighten" w="646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671" h="21600">
                <a:moveTo>
                  <a:pt x="25329" y="3794"/>
                </a:moveTo>
                <a:lnTo>
                  <a:pt x="39342" y="10800"/>
                </a:lnTo>
                <a:lnTo>
                  <a:pt x="25329" y="17806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>
            <a:hlinkClick r:id="" action="ppaction://hlinkshowjump?jump=previousslide"/>
          </p:cNvPr>
          <p:cNvSpPr/>
          <p:nvPr/>
        </p:nvSpPr>
        <p:spPr>
          <a:xfrm>
            <a:off x="5757840" y="358920"/>
            <a:ext cx="1079640" cy="360360"/>
          </a:xfrm>
          <a:custGeom>
            <a:avLst/>
            <a:gdLst>
              <a:gd name="textAreaLeft" fmla="*/ 23040 w 1079640"/>
              <a:gd name="textAreaRight" fmla="*/ 1056600 w 1079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671" h="21600">
                <a:moveTo>
                  <a:pt x="0" y="0"/>
                </a:moveTo>
                <a:lnTo>
                  <a:pt x="64671" y="0"/>
                </a:lnTo>
                <a:lnTo>
                  <a:pt x="64671" y="21600"/>
                </a:lnTo>
                <a:lnTo>
                  <a:pt x="0" y="21600"/>
                </a:lnTo>
                <a:close/>
              </a:path>
              <a:path fill="lightenLess" w="64671" h="21600">
                <a:moveTo>
                  <a:pt x="0" y="0"/>
                </a:moveTo>
                <a:lnTo>
                  <a:pt x="64671" y="0"/>
                </a:lnTo>
                <a:lnTo>
                  <a:pt x="63271" y="1400"/>
                </a:lnTo>
                <a:lnTo>
                  <a:pt x="1400" y="1400"/>
                </a:lnTo>
                <a:close/>
              </a:path>
              <a:path fill="darken" w="64671" h="21600">
                <a:moveTo>
                  <a:pt x="64671" y="0"/>
                </a:moveTo>
                <a:lnTo>
                  <a:pt x="64671" y="21600"/>
                </a:lnTo>
                <a:lnTo>
                  <a:pt x="63271" y="20200"/>
                </a:lnTo>
                <a:lnTo>
                  <a:pt x="63271" y="1400"/>
                </a:lnTo>
                <a:close/>
              </a:path>
              <a:path fill="darkenLess" w="64671" h="21600">
                <a:moveTo>
                  <a:pt x="646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71" y="20200"/>
                </a:lnTo>
                <a:close/>
              </a:path>
              <a:path fill="lighten" w="646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671" h="21600">
                <a:moveTo>
                  <a:pt x="25329" y="10800"/>
                </a:moveTo>
                <a:lnTo>
                  <a:pt x="39342" y="3794"/>
                </a:lnTo>
                <a:lnTo>
                  <a:pt x="39342" y="17806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>
            <a:hlinkClick r:id="" action="ppaction://hlinkshowjump?jump=firstslide"/>
          </p:cNvPr>
          <p:cNvSpPr/>
          <p:nvPr/>
        </p:nvSpPr>
        <p:spPr>
          <a:xfrm>
            <a:off x="6837480" y="358920"/>
            <a:ext cx="1079280" cy="360360"/>
          </a:xfrm>
          <a:custGeom>
            <a:avLst/>
            <a:gdLst>
              <a:gd name="textAreaLeft" fmla="*/ 23040 w 1079280"/>
              <a:gd name="textAreaRight" fmla="*/ 1056240 w 107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649" h="21600">
                <a:moveTo>
                  <a:pt x="0" y="0"/>
                </a:moveTo>
                <a:lnTo>
                  <a:pt x="64649" y="0"/>
                </a:lnTo>
                <a:lnTo>
                  <a:pt x="64649" y="21600"/>
                </a:lnTo>
                <a:lnTo>
                  <a:pt x="0" y="21600"/>
                </a:lnTo>
                <a:close/>
              </a:path>
              <a:path fill="lightenLess" w="64649" h="21600">
                <a:moveTo>
                  <a:pt x="0" y="0"/>
                </a:moveTo>
                <a:lnTo>
                  <a:pt x="64649" y="0"/>
                </a:lnTo>
                <a:lnTo>
                  <a:pt x="63249" y="1400"/>
                </a:lnTo>
                <a:lnTo>
                  <a:pt x="1400" y="1400"/>
                </a:lnTo>
                <a:close/>
              </a:path>
              <a:path fill="darken" w="64649" h="21600">
                <a:moveTo>
                  <a:pt x="64649" y="0"/>
                </a:moveTo>
                <a:lnTo>
                  <a:pt x="64649" y="21600"/>
                </a:lnTo>
                <a:lnTo>
                  <a:pt x="63249" y="20200"/>
                </a:lnTo>
                <a:lnTo>
                  <a:pt x="63249" y="1400"/>
                </a:lnTo>
                <a:close/>
              </a:path>
              <a:path fill="darkenLess" w="64649" h="21600">
                <a:moveTo>
                  <a:pt x="646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49" y="20200"/>
                </a:lnTo>
                <a:close/>
              </a:path>
              <a:path fill="lighten" w="646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649" h="21600">
                <a:moveTo>
                  <a:pt x="32325" y="3837"/>
                </a:moveTo>
                <a:lnTo>
                  <a:pt x="34901" y="6448"/>
                </a:lnTo>
                <a:lnTo>
                  <a:pt x="34901" y="4707"/>
                </a:lnTo>
                <a:lnTo>
                  <a:pt x="36676" y="4707"/>
                </a:lnTo>
                <a:lnTo>
                  <a:pt x="36676" y="8224"/>
                </a:lnTo>
                <a:lnTo>
                  <a:pt x="39288" y="10800"/>
                </a:lnTo>
                <a:lnTo>
                  <a:pt x="37634" y="10800"/>
                </a:lnTo>
                <a:lnTo>
                  <a:pt x="37634" y="17989"/>
                </a:lnTo>
                <a:lnTo>
                  <a:pt x="27015" y="17989"/>
                </a:lnTo>
                <a:lnTo>
                  <a:pt x="27015" y="10800"/>
                </a:lnTo>
                <a:lnTo>
                  <a:pt x="25362" y="10800"/>
                </a:lnTo>
                <a:close/>
              </a:path>
              <a:path fill="darkenLess" w="64649" h="21600">
                <a:moveTo>
                  <a:pt x="34901" y="6448"/>
                </a:moveTo>
                <a:lnTo>
                  <a:pt x="34901" y="4707"/>
                </a:lnTo>
                <a:lnTo>
                  <a:pt x="36676" y="4707"/>
                </a:lnTo>
                <a:lnTo>
                  <a:pt x="36676" y="8224"/>
                </a:lnTo>
                <a:close/>
              </a:path>
              <a:path fill="darkenLess" w="64649" h="21600">
                <a:moveTo>
                  <a:pt x="31402" y="14299"/>
                </a:moveTo>
                <a:lnTo>
                  <a:pt x="33247" y="14299"/>
                </a:lnTo>
                <a:lnTo>
                  <a:pt x="33247" y="17989"/>
                </a:lnTo>
                <a:lnTo>
                  <a:pt x="37634" y="17989"/>
                </a:lnTo>
                <a:lnTo>
                  <a:pt x="37634" y="10800"/>
                </a:lnTo>
                <a:lnTo>
                  <a:pt x="27015" y="10800"/>
                </a:lnTo>
                <a:lnTo>
                  <a:pt x="27015" y="17989"/>
                </a:lnTo>
                <a:lnTo>
                  <a:pt x="31402" y="17989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962160" y="846000"/>
            <a:ext cx="5181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3333ff"/>
                </a:solidFill>
                <a:latin typeface="Georgia"/>
              </a:rPr>
              <a:t>Linux Mandrake 6.1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58" name="linux_4" descr=""/>
          <p:cNvPicPr/>
          <p:nvPr/>
        </p:nvPicPr>
        <p:blipFill>
          <a:blip r:embed="rId2"/>
          <a:stretch/>
        </p:blipFill>
        <p:spPr>
          <a:xfrm>
            <a:off x="1905120" y="5334120"/>
            <a:ext cx="604800" cy="717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9B8E8-B3DF-4353-967A-D25B2DD77EA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0" y="1438200"/>
            <a:ext cx="914400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Georgia"/>
              </a:rPr>
              <a:t>Zanim zaczniemy tworzyć nowe partycje i modyfikować ustawienia istniejących, kilka słów o oznaczeniach dysków i partycji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Georgia"/>
              </a:rPr>
              <a:t>w systemie Linux. Twarde dyski mają oznaczenia </a:t>
            </a:r>
            <a:r>
              <a:rPr b="1" lang="pl-PL" sz="1200" spc="-1" strike="noStrike">
                <a:solidFill>
                  <a:srgbClr val="000000"/>
                </a:solidFill>
                <a:latin typeface="Georgia"/>
              </a:rPr>
              <a:t>hda</a:t>
            </a:r>
            <a:r>
              <a:rPr b="0" lang="pl-PL" sz="1200" spc="-1" strike="noStrike">
                <a:solidFill>
                  <a:srgbClr val="000000"/>
                </a:solidFill>
                <a:latin typeface="Georgia"/>
              </a:rPr>
              <a:t>,</a:t>
            </a:r>
            <a:r>
              <a:rPr b="1" lang="pl-PL" sz="1200" spc="-1" strike="noStrike">
                <a:solidFill>
                  <a:srgbClr val="000000"/>
                </a:solidFill>
                <a:latin typeface="Georgia"/>
              </a:rPr>
              <a:t> hdb</a:t>
            </a:r>
            <a:r>
              <a:rPr b="0" lang="pl-PL" sz="1200" spc="-1" strike="noStrike">
                <a:solidFill>
                  <a:srgbClr val="000000"/>
                </a:solidFill>
                <a:latin typeface="Georgia"/>
              </a:rPr>
              <a:t> i tak dalej /mogą być 4 twarde dyski na 2 kanały IDE/. Oznaczenia </a:t>
            </a:r>
            <a:r>
              <a:rPr b="1" lang="pl-PL" sz="1200" spc="-1" strike="noStrike">
                <a:solidFill>
                  <a:srgbClr val="000000"/>
                </a:solidFill>
                <a:latin typeface="Georgia"/>
              </a:rPr>
              <a:t>sda</a:t>
            </a:r>
            <a:r>
              <a:rPr b="0" lang="pl-PL" sz="12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1" lang="pl-PL" sz="1200" spc="-1" strike="noStrike">
                <a:solidFill>
                  <a:srgbClr val="000000"/>
                </a:solidFill>
                <a:latin typeface="Georgia"/>
              </a:rPr>
              <a:t>sdb</a:t>
            </a:r>
            <a:r>
              <a:rPr b="0" lang="pl-PL" sz="1200" spc="-1" strike="noStrike">
                <a:solidFill>
                  <a:srgbClr val="000000"/>
                </a:solidFill>
                <a:latin typeface="Georgia"/>
              </a:rPr>
              <a:t> odnoszą się do dysków SCSI. Stacje dyskietek to </a:t>
            </a:r>
            <a:r>
              <a:rPr b="1" lang="pl-PL" sz="1200" spc="-1" strike="noStrike">
                <a:solidFill>
                  <a:srgbClr val="000000"/>
                </a:solidFill>
                <a:latin typeface="Georgia"/>
              </a:rPr>
              <a:t>fd0</a:t>
            </a:r>
            <a:r>
              <a:rPr b="0" lang="pl-PL" sz="12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1" lang="pl-PL" sz="1200" spc="-1" strike="noStrike">
                <a:solidFill>
                  <a:srgbClr val="000000"/>
                </a:solidFill>
                <a:latin typeface="Georgia"/>
              </a:rPr>
              <a:t>fd1</a:t>
            </a:r>
            <a:r>
              <a:rPr b="0" lang="pl-PL" sz="1200" spc="-1" strike="noStrike">
                <a:solidFill>
                  <a:srgbClr val="000000"/>
                </a:solidFill>
                <a:latin typeface="Georgia"/>
              </a:rPr>
              <a:t>, ... /a:, b: w systemie DOS lub Windows/. Partycje oznaczamy jako </a:t>
            </a:r>
            <a:r>
              <a:rPr b="1" lang="pl-PL" sz="1200" spc="-1" strike="noStrike">
                <a:solidFill>
                  <a:srgbClr val="000000"/>
                </a:solidFill>
                <a:latin typeface="Georgia"/>
              </a:rPr>
              <a:t>/dev/hda1</a:t>
            </a:r>
            <a:r>
              <a:rPr b="0" lang="pl-PL" sz="12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1" lang="pl-PL" sz="1200" spc="-1" strike="noStrike">
                <a:solidFill>
                  <a:srgbClr val="000000"/>
                </a:solidFill>
                <a:latin typeface="Georgia"/>
              </a:rPr>
              <a:t>/dev/hda2</a:t>
            </a:r>
            <a:r>
              <a:rPr b="0" lang="pl-PL" sz="1200" spc="-1" strike="noStrike">
                <a:solidFill>
                  <a:srgbClr val="000000"/>
                </a:solidFill>
                <a:latin typeface="Georgia"/>
              </a:rPr>
              <a:t>, ..., </a:t>
            </a:r>
            <a:r>
              <a:rPr b="1" lang="pl-PL" sz="1200" spc="-1" strike="noStrike">
                <a:solidFill>
                  <a:srgbClr val="000000"/>
                </a:solidFill>
                <a:latin typeface="Georgia"/>
              </a:rPr>
              <a:t>/dev/hda4</a:t>
            </a:r>
            <a:r>
              <a:rPr b="0" lang="pl-PL" sz="1200" spc="-1" strike="noStrike">
                <a:solidFill>
                  <a:srgbClr val="000000"/>
                </a:solidFill>
                <a:latin typeface="Georgia"/>
              </a:rPr>
              <a:t> – partycje podstawowe pierwszego dysku IDE, </a:t>
            </a:r>
            <a:r>
              <a:rPr b="1" lang="pl-PL" sz="1200" spc="-1" strike="noStrike">
                <a:solidFill>
                  <a:srgbClr val="000000"/>
                </a:solidFill>
                <a:latin typeface="Georgia"/>
              </a:rPr>
              <a:t>/dev/hda5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Georgia"/>
              </a:rPr>
              <a:t>i </a:t>
            </a:r>
            <a:r>
              <a:rPr b="1" lang="pl-PL" sz="1200" spc="-1" strike="noStrike">
                <a:solidFill>
                  <a:srgbClr val="000000"/>
                </a:solidFill>
                <a:latin typeface="Georgia"/>
              </a:rPr>
              <a:t>/dev/hda6</a:t>
            </a:r>
            <a:r>
              <a:rPr b="0" lang="pl-PL" sz="1200" spc="-1" strike="noStrike">
                <a:solidFill>
                  <a:srgbClr val="000000"/>
                </a:solidFill>
                <a:latin typeface="Georgia"/>
              </a:rPr>
              <a:t> to pierwsza i druga partycja logiczna pierwszego dysku IDE. Zwykle na dysku z zainstalowanym systemem Windows istnieje partycja podstawowa, /dev/hda1 /dysk C:/ oraz dodatkowy, logiczny dysk w partycji rozszerzonej/dev/hda5 /dysk D:/.Taki też wpis można dostrzec w programie Disk Druid po jego uruchomieni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Georgia"/>
              </a:rPr>
              <a:t>W wyświetlonej przez program tabeli otrzymamy przegląd naszego dysku /dysków/ i partycji na nim /nich/ istniejących, ich typów i rozmiarów. Na dole w sekcji </a:t>
            </a:r>
            <a:r>
              <a:rPr b="1" lang="pl-PL" sz="1200" spc="-1" strike="noStrike">
                <a:solidFill>
                  <a:srgbClr val="000000"/>
                </a:solidFill>
                <a:latin typeface="Georgia"/>
              </a:rPr>
              <a:t>Drive Summaries</a:t>
            </a:r>
            <a:r>
              <a:rPr b="0" lang="pl-PL" sz="1200" spc="-1" strike="noStrike">
                <a:solidFill>
                  <a:srgbClr val="000000"/>
                </a:solidFill>
                <a:latin typeface="Georgia"/>
              </a:rPr>
              <a:t> widoczne są nasze dyski, podany jest ich rozmiar oraz miejsce wykorzystane /</a:t>
            </a:r>
            <a:r>
              <a:rPr b="1" lang="pl-PL" sz="1200" spc="-1" strike="noStrike">
                <a:solidFill>
                  <a:srgbClr val="000000"/>
                </a:solidFill>
                <a:latin typeface="Georgia"/>
              </a:rPr>
              <a:t>Used</a:t>
            </a:r>
            <a:r>
              <a:rPr b="0" lang="pl-PL" sz="1200" spc="-1" strike="noStrike">
                <a:solidFill>
                  <a:srgbClr val="000000"/>
                </a:solidFill>
                <a:latin typeface="Georgia"/>
              </a:rPr>
              <a:t>/ i wolne /</a:t>
            </a:r>
            <a:r>
              <a:rPr b="1" lang="pl-PL" sz="1200" spc="-1" strike="noStrike">
                <a:solidFill>
                  <a:srgbClr val="000000"/>
                </a:solidFill>
                <a:latin typeface="Georgia"/>
              </a:rPr>
              <a:t>Free</a:t>
            </a:r>
            <a:r>
              <a:rPr b="0" lang="pl-PL" sz="1200" spc="-1" strike="noStrike">
                <a:solidFill>
                  <a:srgbClr val="000000"/>
                </a:solidFill>
                <a:latin typeface="Georgia"/>
              </a:rPr>
              <a:t>/. Na górze w sekcji </a:t>
            </a:r>
            <a:r>
              <a:rPr b="1" lang="pl-PL" sz="1200" spc="-1" strike="noStrike">
                <a:solidFill>
                  <a:srgbClr val="000000"/>
                </a:solidFill>
                <a:latin typeface="Georgia"/>
              </a:rPr>
              <a:t>Current Disk Partitions </a:t>
            </a:r>
            <a:r>
              <a:rPr b="0" lang="pl-PL" sz="1200" spc="-1" strike="noStrike">
                <a:solidFill>
                  <a:srgbClr val="000000"/>
                </a:solidFill>
                <a:latin typeface="Georgia"/>
              </a:rPr>
              <a:t>przedstawione są istniejące partycje na bieżącym dysku, ich rozmiar i ty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Georgia"/>
              </a:rPr>
              <a:t>Dla systemu Linux musimy utworzyć co najmniej 2 partycje : jedna, tzw. dysk wymiany to partycja typu </a:t>
            </a:r>
            <a:r>
              <a:rPr b="1" lang="pl-PL" sz="1200" spc="-1" strike="noStrike">
                <a:solidFill>
                  <a:srgbClr val="000000"/>
                </a:solidFill>
                <a:latin typeface="Georgia"/>
              </a:rPr>
              <a:t>Linux Swap </a:t>
            </a:r>
            <a:r>
              <a:rPr b="0" lang="pl-PL" sz="1200" spc="-1" strike="noStrike">
                <a:solidFill>
                  <a:srgbClr val="000000"/>
                </a:solidFill>
                <a:latin typeface="Georgia"/>
              </a:rPr>
              <a:t>, druga – na której zainstalujemy właściwy system powinna być typu </a:t>
            </a:r>
            <a:r>
              <a:rPr b="1" lang="pl-PL" sz="1200" spc="-1" strike="noStrike">
                <a:solidFill>
                  <a:srgbClr val="000000"/>
                </a:solidFill>
                <a:latin typeface="Georgia"/>
              </a:rPr>
              <a:t>Linux Native</a:t>
            </a:r>
            <a:r>
              <a:rPr b="0" lang="pl-PL" sz="1200" spc="-1" strike="noStrike">
                <a:solidFill>
                  <a:srgbClr val="000000"/>
                </a:solidFill>
                <a:latin typeface="Georgia"/>
              </a:rPr>
              <a:t>. Partycja wymiany powinna posiadać wielkość co najmniej równą pamięci RAM w naszym komputerze. Na właściwy system – jeśli instalujemy wszystkie pakiety systemu Linux powinniśmy przeznaczyć co najmniej 1.4 GB przestrzeni na dysku. Oczywiście pamiętać należy o miejscu na dodatkowe programy przez nas instalowane ... tak więc proponuje się przeznaczyć na tę partycję 1.6-1.9 GB. Program Disk Druid może za naszym pozwoleniem, automatycznie zwiększyć rozmiar partycji – tak, by wykorzystać całą wolną przestrzeń na dysku /opcja </a:t>
            </a:r>
            <a:r>
              <a:rPr b="1" lang="pl-PL" sz="1200" spc="-1" strike="noStrike">
                <a:solidFill>
                  <a:srgbClr val="000000"/>
                </a:solidFill>
                <a:latin typeface="Georgia"/>
              </a:rPr>
              <a:t>Grow to fill disk.</a:t>
            </a:r>
            <a:r>
              <a:rPr b="0" lang="pl-PL" sz="1200" spc="-1" strike="noStrike">
                <a:solidFill>
                  <a:srgbClr val="000000"/>
                </a:solidFill>
                <a:latin typeface="Georgia"/>
              </a:rPr>
              <a:t>/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>
            <a:hlinkClick r:id="" action="ppaction://hlinkshowjump?jump=nextslide"/>
          </p:cNvPr>
          <p:cNvSpPr/>
          <p:nvPr/>
        </p:nvSpPr>
        <p:spPr>
          <a:xfrm>
            <a:off x="7916760" y="358920"/>
            <a:ext cx="1079640" cy="360360"/>
          </a:xfrm>
          <a:custGeom>
            <a:avLst/>
            <a:gdLst>
              <a:gd name="textAreaLeft" fmla="*/ 23040 w 1079640"/>
              <a:gd name="textAreaRight" fmla="*/ 1056600 w 1079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671" h="21600">
                <a:moveTo>
                  <a:pt x="0" y="0"/>
                </a:moveTo>
                <a:lnTo>
                  <a:pt x="64671" y="0"/>
                </a:lnTo>
                <a:lnTo>
                  <a:pt x="64671" y="21600"/>
                </a:lnTo>
                <a:lnTo>
                  <a:pt x="0" y="21600"/>
                </a:lnTo>
                <a:close/>
              </a:path>
              <a:path fill="lightenLess" w="64671" h="21600">
                <a:moveTo>
                  <a:pt x="0" y="0"/>
                </a:moveTo>
                <a:lnTo>
                  <a:pt x="64671" y="0"/>
                </a:lnTo>
                <a:lnTo>
                  <a:pt x="63271" y="1400"/>
                </a:lnTo>
                <a:lnTo>
                  <a:pt x="1400" y="1400"/>
                </a:lnTo>
                <a:close/>
              </a:path>
              <a:path fill="darken" w="64671" h="21600">
                <a:moveTo>
                  <a:pt x="64671" y="0"/>
                </a:moveTo>
                <a:lnTo>
                  <a:pt x="64671" y="21600"/>
                </a:lnTo>
                <a:lnTo>
                  <a:pt x="63271" y="20200"/>
                </a:lnTo>
                <a:lnTo>
                  <a:pt x="63271" y="1400"/>
                </a:lnTo>
                <a:close/>
              </a:path>
              <a:path fill="darkenLess" w="64671" h="21600">
                <a:moveTo>
                  <a:pt x="646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71" y="20200"/>
                </a:lnTo>
                <a:close/>
              </a:path>
              <a:path fill="lighten" w="646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671" h="21600">
                <a:moveTo>
                  <a:pt x="25329" y="3794"/>
                </a:moveTo>
                <a:lnTo>
                  <a:pt x="39342" y="10800"/>
                </a:lnTo>
                <a:lnTo>
                  <a:pt x="25329" y="17806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>
            <a:hlinkClick r:id="" action="ppaction://hlinkshowjump?jump=previousslide"/>
          </p:cNvPr>
          <p:cNvSpPr/>
          <p:nvPr/>
        </p:nvSpPr>
        <p:spPr>
          <a:xfrm>
            <a:off x="5757840" y="358920"/>
            <a:ext cx="1079640" cy="360360"/>
          </a:xfrm>
          <a:custGeom>
            <a:avLst/>
            <a:gdLst>
              <a:gd name="textAreaLeft" fmla="*/ 23040 w 1079640"/>
              <a:gd name="textAreaRight" fmla="*/ 1056600 w 1079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671" h="21600">
                <a:moveTo>
                  <a:pt x="0" y="0"/>
                </a:moveTo>
                <a:lnTo>
                  <a:pt x="64671" y="0"/>
                </a:lnTo>
                <a:lnTo>
                  <a:pt x="64671" y="21600"/>
                </a:lnTo>
                <a:lnTo>
                  <a:pt x="0" y="21600"/>
                </a:lnTo>
                <a:close/>
              </a:path>
              <a:path fill="lightenLess" w="64671" h="21600">
                <a:moveTo>
                  <a:pt x="0" y="0"/>
                </a:moveTo>
                <a:lnTo>
                  <a:pt x="64671" y="0"/>
                </a:lnTo>
                <a:lnTo>
                  <a:pt x="63271" y="1400"/>
                </a:lnTo>
                <a:lnTo>
                  <a:pt x="1400" y="1400"/>
                </a:lnTo>
                <a:close/>
              </a:path>
              <a:path fill="darken" w="64671" h="21600">
                <a:moveTo>
                  <a:pt x="64671" y="0"/>
                </a:moveTo>
                <a:lnTo>
                  <a:pt x="64671" y="21600"/>
                </a:lnTo>
                <a:lnTo>
                  <a:pt x="63271" y="20200"/>
                </a:lnTo>
                <a:lnTo>
                  <a:pt x="63271" y="1400"/>
                </a:lnTo>
                <a:close/>
              </a:path>
              <a:path fill="darkenLess" w="64671" h="21600">
                <a:moveTo>
                  <a:pt x="646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71" y="20200"/>
                </a:lnTo>
                <a:close/>
              </a:path>
              <a:path fill="lighten" w="646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671" h="21600">
                <a:moveTo>
                  <a:pt x="25329" y="10800"/>
                </a:moveTo>
                <a:lnTo>
                  <a:pt x="39342" y="3794"/>
                </a:lnTo>
                <a:lnTo>
                  <a:pt x="39342" y="17806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>
            <a:hlinkClick r:id="" action="ppaction://hlinkshowjump?jump=firstslide"/>
          </p:cNvPr>
          <p:cNvSpPr/>
          <p:nvPr/>
        </p:nvSpPr>
        <p:spPr>
          <a:xfrm>
            <a:off x="6837480" y="358920"/>
            <a:ext cx="1079280" cy="360360"/>
          </a:xfrm>
          <a:custGeom>
            <a:avLst/>
            <a:gdLst>
              <a:gd name="textAreaLeft" fmla="*/ 23040 w 1079280"/>
              <a:gd name="textAreaRight" fmla="*/ 1056240 w 107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649" h="21600">
                <a:moveTo>
                  <a:pt x="0" y="0"/>
                </a:moveTo>
                <a:lnTo>
                  <a:pt x="64649" y="0"/>
                </a:lnTo>
                <a:lnTo>
                  <a:pt x="64649" y="21600"/>
                </a:lnTo>
                <a:lnTo>
                  <a:pt x="0" y="21600"/>
                </a:lnTo>
                <a:close/>
              </a:path>
              <a:path fill="lightenLess" w="64649" h="21600">
                <a:moveTo>
                  <a:pt x="0" y="0"/>
                </a:moveTo>
                <a:lnTo>
                  <a:pt x="64649" y="0"/>
                </a:lnTo>
                <a:lnTo>
                  <a:pt x="63249" y="1400"/>
                </a:lnTo>
                <a:lnTo>
                  <a:pt x="1400" y="1400"/>
                </a:lnTo>
                <a:close/>
              </a:path>
              <a:path fill="darken" w="64649" h="21600">
                <a:moveTo>
                  <a:pt x="64649" y="0"/>
                </a:moveTo>
                <a:lnTo>
                  <a:pt x="64649" y="21600"/>
                </a:lnTo>
                <a:lnTo>
                  <a:pt x="63249" y="20200"/>
                </a:lnTo>
                <a:lnTo>
                  <a:pt x="63249" y="1400"/>
                </a:lnTo>
                <a:close/>
              </a:path>
              <a:path fill="darkenLess" w="64649" h="21600">
                <a:moveTo>
                  <a:pt x="646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49" y="20200"/>
                </a:lnTo>
                <a:close/>
              </a:path>
              <a:path fill="lighten" w="646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649" h="21600">
                <a:moveTo>
                  <a:pt x="32325" y="3837"/>
                </a:moveTo>
                <a:lnTo>
                  <a:pt x="34901" y="6448"/>
                </a:lnTo>
                <a:lnTo>
                  <a:pt x="34901" y="4707"/>
                </a:lnTo>
                <a:lnTo>
                  <a:pt x="36676" y="4707"/>
                </a:lnTo>
                <a:lnTo>
                  <a:pt x="36676" y="8224"/>
                </a:lnTo>
                <a:lnTo>
                  <a:pt x="39288" y="10800"/>
                </a:lnTo>
                <a:lnTo>
                  <a:pt x="37634" y="10800"/>
                </a:lnTo>
                <a:lnTo>
                  <a:pt x="37634" y="17989"/>
                </a:lnTo>
                <a:lnTo>
                  <a:pt x="27015" y="17989"/>
                </a:lnTo>
                <a:lnTo>
                  <a:pt x="27015" y="10800"/>
                </a:lnTo>
                <a:lnTo>
                  <a:pt x="25362" y="10800"/>
                </a:lnTo>
                <a:close/>
              </a:path>
              <a:path fill="darkenLess" w="64649" h="21600">
                <a:moveTo>
                  <a:pt x="34901" y="6448"/>
                </a:moveTo>
                <a:lnTo>
                  <a:pt x="34901" y="4707"/>
                </a:lnTo>
                <a:lnTo>
                  <a:pt x="36676" y="4707"/>
                </a:lnTo>
                <a:lnTo>
                  <a:pt x="36676" y="8224"/>
                </a:lnTo>
                <a:close/>
              </a:path>
              <a:path fill="darkenLess" w="64649" h="21600">
                <a:moveTo>
                  <a:pt x="31402" y="14299"/>
                </a:moveTo>
                <a:lnTo>
                  <a:pt x="33247" y="14299"/>
                </a:lnTo>
                <a:lnTo>
                  <a:pt x="33247" y="17989"/>
                </a:lnTo>
                <a:lnTo>
                  <a:pt x="37634" y="17989"/>
                </a:lnTo>
                <a:lnTo>
                  <a:pt x="37634" y="10800"/>
                </a:lnTo>
                <a:lnTo>
                  <a:pt x="27015" y="10800"/>
                </a:lnTo>
                <a:lnTo>
                  <a:pt x="27015" y="17989"/>
                </a:lnTo>
                <a:lnTo>
                  <a:pt x="31402" y="17989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962160" y="846000"/>
            <a:ext cx="5181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3333ff"/>
                </a:solidFill>
                <a:latin typeface="Georgia"/>
              </a:rPr>
              <a:t>Linux Mandrake 6.1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64" name="linux_4" descr=""/>
          <p:cNvPicPr/>
          <p:nvPr/>
        </p:nvPicPr>
        <p:blipFill>
          <a:blip r:embed="rId1"/>
          <a:stretch/>
        </p:blipFill>
        <p:spPr>
          <a:xfrm>
            <a:off x="0" y="6019920"/>
            <a:ext cx="604800" cy="717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57D2A-FBB7-4D0F-9734-CD53B8964C1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0" y="1438200"/>
            <a:ext cx="9144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7druid" descr=""/>
          <p:cNvPicPr/>
          <p:nvPr/>
        </p:nvPicPr>
        <p:blipFill>
          <a:blip r:embed="rId1"/>
          <a:stretch/>
        </p:blipFill>
        <p:spPr>
          <a:xfrm>
            <a:off x="2158920" y="2158920"/>
            <a:ext cx="5491080" cy="3597480"/>
          </a:xfrm>
          <a:prstGeom prst="rect">
            <a:avLst/>
          </a:prstGeom>
          <a:ln w="0">
            <a:noFill/>
          </a:ln>
        </p:spPr>
      </p:pic>
      <p:sp>
        <p:nvSpPr>
          <p:cNvPr id="167" name="">
            <a:hlinkClick r:id="" action="ppaction://hlinkshowjump?jump=nextslide"/>
          </p:cNvPr>
          <p:cNvSpPr/>
          <p:nvPr/>
        </p:nvSpPr>
        <p:spPr>
          <a:xfrm>
            <a:off x="7916760" y="358920"/>
            <a:ext cx="1079640" cy="360360"/>
          </a:xfrm>
          <a:custGeom>
            <a:avLst/>
            <a:gdLst>
              <a:gd name="textAreaLeft" fmla="*/ 23040 w 1079640"/>
              <a:gd name="textAreaRight" fmla="*/ 1056600 w 1079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671" h="21600">
                <a:moveTo>
                  <a:pt x="0" y="0"/>
                </a:moveTo>
                <a:lnTo>
                  <a:pt x="64671" y="0"/>
                </a:lnTo>
                <a:lnTo>
                  <a:pt x="64671" y="21600"/>
                </a:lnTo>
                <a:lnTo>
                  <a:pt x="0" y="21600"/>
                </a:lnTo>
                <a:close/>
              </a:path>
              <a:path fill="lightenLess" w="64671" h="21600">
                <a:moveTo>
                  <a:pt x="0" y="0"/>
                </a:moveTo>
                <a:lnTo>
                  <a:pt x="64671" y="0"/>
                </a:lnTo>
                <a:lnTo>
                  <a:pt x="63271" y="1400"/>
                </a:lnTo>
                <a:lnTo>
                  <a:pt x="1400" y="1400"/>
                </a:lnTo>
                <a:close/>
              </a:path>
              <a:path fill="darken" w="64671" h="21600">
                <a:moveTo>
                  <a:pt x="64671" y="0"/>
                </a:moveTo>
                <a:lnTo>
                  <a:pt x="64671" y="21600"/>
                </a:lnTo>
                <a:lnTo>
                  <a:pt x="63271" y="20200"/>
                </a:lnTo>
                <a:lnTo>
                  <a:pt x="63271" y="1400"/>
                </a:lnTo>
                <a:close/>
              </a:path>
              <a:path fill="darkenLess" w="64671" h="21600">
                <a:moveTo>
                  <a:pt x="646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71" y="20200"/>
                </a:lnTo>
                <a:close/>
              </a:path>
              <a:path fill="lighten" w="646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671" h="21600">
                <a:moveTo>
                  <a:pt x="25329" y="3794"/>
                </a:moveTo>
                <a:lnTo>
                  <a:pt x="39342" y="10800"/>
                </a:lnTo>
                <a:lnTo>
                  <a:pt x="25329" y="17806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>
            <a:hlinkClick r:id="" action="ppaction://hlinkshowjump?jump=previousslide"/>
          </p:cNvPr>
          <p:cNvSpPr/>
          <p:nvPr/>
        </p:nvSpPr>
        <p:spPr>
          <a:xfrm>
            <a:off x="5757840" y="358920"/>
            <a:ext cx="1079640" cy="360360"/>
          </a:xfrm>
          <a:custGeom>
            <a:avLst/>
            <a:gdLst>
              <a:gd name="textAreaLeft" fmla="*/ 23040 w 1079640"/>
              <a:gd name="textAreaRight" fmla="*/ 1056600 w 1079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671" h="21600">
                <a:moveTo>
                  <a:pt x="0" y="0"/>
                </a:moveTo>
                <a:lnTo>
                  <a:pt x="64671" y="0"/>
                </a:lnTo>
                <a:lnTo>
                  <a:pt x="64671" y="21600"/>
                </a:lnTo>
                <a:lnTo>
                  <a:pt x="0" y="21600"/>
                </a:lnTo>
                <a:close/>
              </a:path>
              <a:path fill="lightenLess" w="64671" h="21600">
                <a:moveTo>
                  <a:pt x="0" y="0"/>
                </a:moveTo>
                <a:lnTo>
                  <a:pt x="64671" y="0"/>
                </a:lnTo>
                <a:lnTo>
                  <a:pt x="63271" y="1400"/>
                </a:lnTo>
                <a:lnTo>
                  <a:pt x="1400" y="1400"/>
                </a:lnTo>
                <a:close/>
              </a:path>
              <a:path fill="darken" w="64671" h="21600">
                <a:moveTo>
                  <a:pt x="64671" y="0"/>
                </a:moveTo>
                <a:lnTo>
                  <a:pt x="64671" y="21600"/>
                </a:lnTo>
                <a:lnTo>
                  <a:pt x="63271" y="20200"/>
                </a:lnTo>
                <a:lnTo>
                  <a:pt x="63271" y="1400"/>
                </a:lnTo>
                <a:close/>
              </a:path>
              <a:path fill="darkenLess" w="64671" h="21600">
                <a:moveTo>
                  <a:pt x="646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71" y="20200"/>
                </a:lnTo>
                <a:close/>
              </a:path>
              <a:path fill="lighten" w="646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671" h="21600">
                <a:moveTo>
                  <a:pt x="25329" y="10800"/>
                </a:moveTo>
                <a:lnTo>
                  <a:pt x="39342" y="3794"/>
                </a:lnTo>
                <a:lnTo>
                  <a:pt x="39342" y="17806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>
            <a:hlinkClick r:id="" action="ppaction://hlinkshowjump?jump=firstslide"/>
          </p:cNvPr>
          <p:cNvSpPr/>
          <p:nvPr/>
        </p:nvSpPr>
        <p:spPr>
          <a:xfrm>
            <a:off x="6837480" y="358920"/>
            <a:ext cx="1079280" cy="360360"/>
          </a:xfrm>
          <a:custGeom>
            <a:avLst/>
            <a:gdLst>
              <a:gd name="textAreaLeft" fmla="*/ 23040 w 1079280"/>
              <a:gd name="textAreaRight" fmla="*/ 1056240 w 107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649" h="21600">
                <a:moveTo>
                  <a:pt x="0" y="0"/>
                </a:moveTo>
                <a:lnTo>
                  <a:pt x="64649" y="0"/>
                </a:lnTo>
                <a:lnTo>
                  <a:pt x="64649" y="21600"/>
                </a:lnTo>
                <a:lnTo>
                  <a:pt x="0" y="21600"/>
                </a:lnTo>
                <a:close/>
              </a:path>
              <a:path fill="lightenLess" w="64649" h="21600">
                <a:moveTo>
                  <a:pt x="0" y="0"/>
                </a:moveTo>
                <a:lnTo>
                  <a:pt x="64649" y="0"/>
                </a:lnTo>
                <a:lnTo>
                  <a:pt x="63249" y="1400"/>
                </a:lnTo>
                <a:lnTo>
                  <a:pt x="1400" y="1400"/>
                </a:lnTo>
                <a:close/>
              </a:path>
              <a:path fill="darken" w="64649" h="21600">
                <a:moveTo>
                  <a:pt x="64649" y="0"/>
                </a:moveTo>
                <a:lnTo>
                  <a:pt x="64649" y="21600"/>
                </a:lnTo>
                <a:lnTo>
                  <a:pt x="63249" y="20200"/>
                </a:lnTo>
                <a:lnTo>
                  <a:pt x="63249" y="1400"/>
                </a:lnTo>
                <a:close/>
              </a:path>
              <a:path fill="darkenLess" w="64649" h="21600">
                <a:moveTo>
                  <a:pt x="646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49" y="20200"/>
                </a:lnTo>
                <a:close/>
              </a:path>
              <a:path fill="lighten" w="646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649" h="21600">
                <a:moveTo>
                  <a:pt x="32325" y="3837"/>
                </a:moveTo>
                <a:lnTo>
                  <a:pt x="34901" y="6448"/>
                </a:lnTo>
                <a:lnTo>
                  <a:pt x="34901" y="4707"/>
                </a:lnTo>
                <a:lnTo>
                  <a:pt x="36676" y="4707"/>
                </a:lnTo>
                <a:lnTo>
                  <a:pt x="36676" y="8224"/>
                </a:lnTo>
                <a:lnTo>
                  <a:pt x="39288" y="10800"/>
                </a:lnTo>
                <a:lnTo>
                  <a:pt x="37634" y="10800"/>
                </a:lnTo>
                <a:lnTo>
                  <a:pt x="37634" y="17989"/>
                </a:lnTo>
                <a:lnTo>
                  <a:pt x="27015" y="17989"/>
                </a:lnTo>
                <a:lnTo>
                  <a:pt x="27015" y="10800"/>
                </a:lnTo>
                <a:lnTo>
                  <a:pt x="25362" y="10800"/>
                </a:lnTo>
                <a:close/>
              </a:path>
              <a:path fill="darkenLess" w="64649" h="21600">
                <a:moveTo>
                  <a:pt x="34901" y="6448"/>
                </a:moveTo>
                <a:lnTo>
                  <a:pt x="34901" y="4707"/>
                </a:lnTo>
                <a:lnTo>
                  <a:pt x="36676" y="4707"/>
                </a:lnTo>
                <a:lnTo>
                  <a:pt x="36676" y="8224"/>
                </a:lnTo>
                <a:close/>
              </a:path>
              <a:path fill="darkenLess" w="64649" h="21600">
                <a:moveTo>
                  <a:pt x="31402" y="14299"/>
                </a:moveTo>
                <a:lnTo>
                  <a:pt x="33247" y="14299"/>
                </a:lnTo>
                <a:lnTo>
                  <a:pt x="33247" y="17989"/>
                </a:lnTo>
                <a:lnTo>
                  <a:pt x="37634" y="17989"/>
                </a:lnTo>
                <a:lnTo>
                  <a:pt x="37634" y="10800"/>
                </a:lnTo>
                <a:lnTo>
                  <a:pt x="27015" y="10800"/>
                </a:lnTo>
                <a:lnTo>
                  <a:pt x="27015" y="17989"/>
                </a:lnTo>
                <a:lnTo>
                  <a:pt x="31402" y="17989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962160" y="846000"/>
            <a:ext cx="5181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3333ff"/>
                </a:solidFill>
                <a:latin typeface="Georgia"/>
              </a:rPr>
              <a:t>Linux Mandrake 6.1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1401840"/>
            <a:ext cx="914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eorgia"/>
              </a:rPr>
              <a:t>Istniejące na naszych dyskach partycje /np.. z systemem Windows/ mogą być w naszym systemie Linux również dostępne – wymaga to ich wcześniejszego „zamontowania”. Linux nie przypisuje dyskom oznaczeń literowych, nasza montowana partycja Windows powinna być dostępna jako „</a:t>
            </a:r>
            <a:r>
              <a:rPr b="1" lang="pl-PL" sz="1200" spc="-1" strike="noStrike">
                <a:solidFill>
                  <a:srgbClr val="000000"/>
                </a:solidFill>
                <a:latin typeface="Georgia"/>
              </a:rPr>
              <a:t>/mnt/windows</a:t>
            </a:r>
            <a:r>
              <a:rPr b="0" lang="pl-PL" sz="1200" spc="-1" strike="noStrike">
                <a:solidFill>
                  <a:srgbClr val="000000"/>
                </a:solidFill>
                <a:latin typeface="Georgia"/>
              </a:rPr>
              <a:t>”, natomiast główna partycja Linux Native jako „</a:t>
            </a:r>
            <a:r>
              <a:rPr b="1" lang="pl-PL" sz="1200" spc="-1" strike="noStrike">
                <a:solidFill>
                  <a:srgbClr val="000000"/>
                </a:solidFill>
                <a:latin typeface="Georgia"/>
              </a:rPr>
              <a:t>/</a:t>
            </a:r>
            <a:r>
              <a:rPr b="0" lang="pl-PL" sz="1200" spc="-1" strike="noStrike">
                <a:solidFill>
                  <a:srgbClr val="000000"/>
                </a:solidFill>
                <a:latin typeface="Georgia"/>
              </a:rPr>
              <a:t>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linux_4" descr=""/>
          <p:cNvPicPr/>
          <p:nvPr/>
        </p:nvPicPr>
        <p:blipFill>
          <a:blip r:embed="rId2"/>
          <a:stretch/>
        </p:blipFill>
        <p:spPr>
          <a:xfrm>
            <a:off x="1828800" y="5410080"/>
            <a:ext cx="604800" cy="71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077C4-B3A4-45F1-9165-1C41F3C0279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0" y="1438200"/>
            <a:ext cx="9144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Georgia"/>
              </a:rPr>
              <a:t>Dodajemy /</a:t>
            </a:r>
            <a:r>
              <a:rPr b="1" lang="pl-PL" sz="1200" spc="-1" strike="noStrike">
                <a:solidFill>
                  <a:srgbClr val="000000"/>
                </a:solidFill>
                <a:latin typeface="Georgia"/>
              </a:rPr>
              <a:t>Add</a:t>
            </a:r>
            <a:r>
              <a:rPr b="0" lang="pl-PL" sz="1200" spc="-1" strike="noStrike">
                <a:solidFill>
                  <a:srgbClr val="000000"/>
                </a:solidFill>
                <a:latin typeface="Georgia"/>
              </a:rPr>
              <a:t>/ nową partycję i nadajemy jej  typ </a:t>
            </a:r>
            <a:r>
              <a:rPr b="1" lang="pl-PL" sz="1200" spc="-1" strike="noStrike">
                <a:solidFill>
                  <a:srgbClr val="000000"/>
                </a:solidFill>
                <a:latin typeface="Georgia"/>
              </a:rPr>
              <a:t>Linux</a:t>
            </a:r>
            <a:r>
              <a:rPr b="0" lang="pl-PL" sz="1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pl-PL" sz="1200" spc="-1" strike="noStrike">
                <a:solidFill>
                  <a:srgbClr val="000000"/>
                </a:solidFill>
                <a:latin typeface="Georgia"/>
              </a:rPr>
              <a:t>Swap</a:t>
            </a:r>
            <a:r>
              <a:rPr b="0" lang="pl-PL" sz="1200" spc="-1" strike="noStrike">
                <a:solidFill>
                  <a:srgbClr val="000000"/>
                </a:solidFill>
                <a:latin typeface="Georgia"/>
              </a:rPr>
              <a:t> oraz pojemność np..  64 MB, następnie dodajemy partycję typu</a:t>
            </a:r>
            <a:r>
              <a:rPr b="1" lang="pl-PL" sz="1200" spc="-1" strike="noStrike">
                <a:solidFill>
                  <a:srgbClr val="000000"/>
                </a:solidFill>
                <a:latin typeface="Georgia"/>
              </a:rPr>
              <a:t> Linux Native</a:t>
            </a:r>
            <a:r>
              <a:rPr b="0" lang="pl-PL" sz="1200" spc="-1" strike="noStrike">
                <a:solidFill>
                  <a:srgbClr val="000000"/>
                </a:solidFill>
                <a:latin typeface="Georgia"/>
              </a:rPr>
              <a:t> /wielkość 1.8 GB/, rozszerzalną /zaznaczamy pole </a:t>
            </a:r>
            <a:r>
              <a:rPr b="1" lang="pl-PL" sz="1200" spc="-1" strike="noStrike">
                <a:solidFill>
                  <a:srgbClr val="000000"/>
                </a:solidFill>
                <a:latin typeface="Georgia"/>
              </a:rPr>
              <a:t>Grow ...</a:t>
            </a:r>
            <a:r>
              <a:rPr b="0" lang="pl-PL" sz="1200" spc="-1" strike="noStrike">
                <a:solidFill>
                  <a:srgbClr val="000000"/>
                </a:solidFill>
                <a:latin typeface="Georgia"/>
              </a:rPr>
              <a:t>/ - z punktem montowania - „</a:t>
            </a:r>
            <a:r>
              <a:rPr b="1" lang="pl-PL" sz="1200" spc="-1" strike="noStrike">
                <a:solidFill>
                  <a:srgbClr val="000000"/>
                </a:solidFill>
                <a:latin typeface="Georgia"/>
              </a:rPr>
              <a:t>/</a:t>
            </a:r>
            <a:r>
              <a:rPr b="0" lang="pl-PL" sz="1200" spc="-1" strike="noStrike">
                <a:solidFill>
                  <a:srgbClr val="000000"/>
                </a:solidFill>
                <a:latin typeface="Georgia"/>
              </a:rPr>
              <a:t>”, a także montujemy /</a:t>
            </a:r>
            <a:r>
              <a:rPr b="1" lang="pl-PL" sz="1200" spc="-1" strike="noStrike">
                <a:solidFill>
                  <a:srgbClr val="000000"/>
                </a:solidFill>
                <a:latin typeface="Georgia"/>
              </a:rPr>
              <a:t>Edit</a:t>
            </a:r>
            <a:r>
              <a:rPr b="0" lang="pl-PL" sz="1200" spc="-1" strike="noStrike">
                <a:solidFill>
                  <a:srgbClr val="000000"/>
                </a:solidFill>
                <a:latin typeface="Georgia"/>
              </a:rPr>
              <a:t>/partycję z systemem Windows, jeśli posiadamy ją na dysku /pod nazwę „</a:t>
            </a:r>
            <a:r>
              <a:rPr b="1" lang="pl-PL" sz="1200" spc="-1" strike="noStrike">
                <a:solidFill>
                  <a:srgbClr val="000000"/>
                </a:solidFill>
                <a:latin typeface="Georgia"/>
              </a:rPr>
              <a:t>/mnt/windows</a:t>
            </a:r>
            <a:r>
              <a:rPr b="0" lang="pl-PL" sz="1200" spc="-1" strike="noStrike">
                <a:solidFill>
                  <a:srgbClr val="000000"/>
                </a:solidFill>
                <a:latin typeface="Georgia"/>
              </a:rPr>
              <a:t>”/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>
            <a:hlinkClick r:id="" action="ppaction://hlinkshowjump?jump=nextslide"/>
          </p:cNvPr>
          <p:cNvSpPr/>
          <p:nvPr/>
        </p:nvSpPr>
        <p:spPr>
          <a:xfrm>
            <a:off x="7916760" y="358920"/>
            <a:ext cx="1079640" cy="360360"/>
          </a:xfrm>
          <a:custGeom>
            <a:avLst/>
            <a:gdLst>
              <a:gd name="textAreaLeft" fmla="*/ 23040 w 1079640"/>
              <a:gd name="textAreaRight" fmla="*/ 1056600 w 1079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671" h="21600">
                <a:moveTo>
                  <a:pt x="0" y="0"/>
                </a:moveTo>
                <a:lnTo>
                  <a:pt x="64671" y="0"/>
                </a:lnTo>
                <a:lnTo>
                  <a:pt x="64671" y="21600"/>
                </a:lnTo>
                <a:lnTo>
                  <a:pt x="0" y="21600"/>
                </a:lnTo>
                <a:close/>
              </a:path>
              <a:path fill="lightenLess" w="64671" h="21600">
                <a:moveTo>
                  <a:pt x="0" y="0"/>
                </a:moveTo>
                <a:lnTo>
                  <a:pt x="64671" y="0"/>
                </a:lnTo>
                <a:lnTo>
                  <a:pt x="63271" y="1400"/>
                </a:lnTo>
                <a:lnTo>
                  <a:pt x="1400" y="1400"/>
                </a:lnTo>
                <a:close/>
              </a:path>
              <a:path fill="darken" w="64671" h="21600">
                <a:moveTo>
                  <a:pt x="64671" y="0"/>
                </a:moveTo>
                <a:lnTo>
                  <a:pt x="64671" y="21600"/>
                </a:lnTo>
                <a:lnTo>
                  <a:pt x="63271" y="20200"/>
                </a:lnTo>
                <a:lnTo>
                  <a:pt x="63271" y="1400"/>
                </a:lnTo>
                <a:close/>
              </a:path>
              <a:path fill="darkenLess" w="64671" h="21600">
                <a:moveTo>
                  <a:pt x="646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71" y="20200"/>
                </a:lnTo>
                <a:close/>
              </a:path>
              <a:path fill="lighten" w="646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671" h="21600">
                <a:moveTo>
                  <a:pt x="25329" y="3794"/>
                </a:moveTo>
                <a:lnTo>
                  <a:pt x="39342" y="10800"/>
                </a:lnTo>
                <a:lnTo>
                  <a:pt x="25329" y="17806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>
            <a:hlinkClick r:id="" action="ppaction://hlinkshowjump?jump=previousslide"/>
          </p:cNvPr>
          <p:cNvSpPr/>
          <p:nvPr/>
        </p:nvSpPr>
        <p:spPr>
          <a:xfrm>
            <a:off x="5757840" y="358920"/>
            <a:ext cx="1079640" cy="360360"/>
          </a:xfrm>
          <a:custGeom>
            <a:avLst/>
            <a:gdLst>
              <a:gd name="textAreaLeft" fmla="*/ 23040 w 1079640"/>
              <a:gd name="textAreaRight" fmla="*/ 1056600 w 1079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671" h="21600">
                <a:moveTo>
                  <a:pt x="0" y="0"/>
                </a:moveTo>
                <a:lnTo>
                  <a:pt x="64671" y="0"/>
                </a:lnTo>
                <a:lnTo>
                  <a:pt x="64671" y="21600"/>
                </a:lnTo>
                <a:lnTo>
                  <a:pt x="0" y="21600"/>
                </a:lnTo>
                <a:close/>
              </a:path>
              <a:path fill="lightenLess" w="64671" h="21600">
                <a:moveTo>
                  <a:pt x="0" y="0"/>
                </a:moveTo>
                <a:lnTo>
                  <a:pt x="64671" y="0"/>
                </a:lnTo>
                <a:lnTo>
                  <a:pt x="63271" y="1400"/>
                </a:lnTo>
                <a:lnTo>
                  <a:pt x="1400" y="1400"/>
                </a:lnTo>
                <a:close/>
              </a:path>
              <a:path fill="darken" w="64671" h="21600">
                <a:moveTo>
                  <a:pt x="64671" y="0"/>
                </a:moveTo>
                <a:lnTo>
                  <a:pt x="64671" y="21600"/>
                </a:lnTo>
                <a:lnTo>
                  <a:pt x="63271" y="20200"/>
                </a:lnTo>
                <a:lnTo>
                  <a:pt x="63271" y="1400"/>
                </a:lnTo>
                <a:close/>
              </a:path>
              <a:path fill="darkenLess" w="64671" h="21600">
                <a:moveTo>
                  <a:pt x="646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71" y="20200"/>
                </a:lnTo>
                <a:close/>
              </a:path>
              <a:path fill="lighten" w="646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671" h="21600">
                <a:moveTo>
                  <a:pt x="25329" y="10800"/>
                </a:moveTo>
                <a:lnTo>
                  <a:pt x="39342" y="3794"/>
                </a:lnTo>
                <a:lnTo>
                  <a:pt x="39342" y="17806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>
            <a:hlinkClick r:id="" action="ppaction://hlinkshowjump?jump=firstslide"/>
          </p:cNvPr>
          <p:cNvSpPr/>
          <p:nvPr/>
        </p:nvSpPr>
        <p:spPr>
          <a:xfrm>
            <a:off x="6837480" y="358920"/>
            <a:ext cx="1079280" cy="360360"/>
          </a:xfrm>
          <a:custGeom>
            <a:avLst/>
            <a:gdLst>
              <a:gd name="textAreaLeft" fmla="*/ 23040 w 1079280"/>
              <a:gd name="textAreaRight" fmla="*/ 1056240 w 107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649" h="21600">
                <a:moveTo>
                  <a:pt x="0" y="0"/>
                </a:moveTo>
                <a:lnTo>
                  <a:pt x="64649" y="0"/>
                </a:lnTo>
                <a:lnTo>
                  <a:pt x="64649" y="21600"/>
                </a:lnTo>
                <a:lnTo>
                  <a:pt x="0" y="21600"/>
                </a:lnTo>
                <a:close/>
              </a:path>
              <a:path fill="lightenLess" w="64649" h="21600">
                <a:moveTo>
                  <a:pt x="0" y="0"/>
                </a:moveTo>
                <a:lnTo>
                  <a:pt x="64649" y="0"/>
                </a:lnTo>
                <a:lnTo>
                  <a:pt x="63249" y="1400"/>
                </a:lnTo>
                <a:lnTo>
                  <a:pt x="1400" y="1400"/>
                </a:lnTo>
                <a:close/>
              </a:path>
              <a:path fill="darken" w="64649" h="21600">
                <a:moveTo>
                  <a:pt x="64649" y="0"/>
                </a:moveTo>
                <a:lnTo>
                  <a:pt x="64649" y="21600"/>
                </a:lnTo>
                <a:lnTo>
                  <a:pt x="63249" y="20200"/>
                </a:lnTo>
                <a:lnTo>
                  <a:pt x="63249" y="1400"/>
                </a:lnTo>
                <a:close/>
              </a:path>
              <a:path fill="darkenLess" w="64649" h="21600">
                <a:moveTo>
                  <a:pt x="646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49" y="20200"/>
                </a:lnTo>
                <a:close/>
              </a:path>
              <a:path fill="lighten" w="646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649" h="21600">
                <a:moveTo>
                  <a:pt x="32325" y="3837"/>
                </a:moveTo>
                <a:lnTo>
                  <a:pt x="34901" y="6448"/>
                </a:lnTo>
                <a:lnTo>
                  <a:pt x="34901" y="4707"/>
                </a:lnTo>
                <a:lnTo>
                  <a:pt x="36676" y="4707"/>
                </a:lnTo>
                <a:lnTo>
                  <a:pt x="36676" y="8224"/>
                </a:lnTo>
                <a:lnTo>
                  <a:pt x="39288" y="10800"/>
                </a:lnTo>
                <a:lnTo>
                  <a:pt x="37634" y="10800"/>
                </a:lnTo>
                <a:lnTo>
                  <a:pt x="37634" y="17989"/>
                </a:lnTo>
                <a:lnTo>
                  <a:pt x="27015" y="17989"/>
                </a:lnTo>
                <a:lnTo>
                  <a:pt x="27015" y="10800"/>
                </a:lnTo>
                <a:lnTo>
                  <a:pt x="25362" y="10800"/>
                </a:lnTo>
                <a:close/>
              </a:path>
              <a:path fill="darkenLess" w="64649" h="21600">
                <a:moveTo>
                  <a:pt x="34901" y="6448"/>
                </a:moveTo>
                <a:lnTo>
                  <a:pt x="34901" y="4707"/>
                </a:lnTo>
                <a:lnTo>
                  <a:pt x="36676" y="4707"/>
                </a:lnTo>
                <a:lnTo>
                  <a:pt x="36676" y="8224"/>
                </a:lnTo>
                <a:close/>
              </a:path>
              <a:path fill="darkenLess" w="64649" h="21600">
                <a:moveTo>
                  <a:pt x="31402" y="14299"/>
                </a:moveTo>
                <a:lnTo>
                  <a:pt x="33247" y="14299"/>
                </a:lnTo>
                <a:lnTo>
                  <a:pt x="33247" y="17989"/>
                </a:lnTo>
                <a:lnTo>
                  <a:pt x="37634" y="17989"/>
                </a:lnTo>
                <a:lnTo>
                  <a:pt x="37634" y="10800"/>
                </a:lnTo>
                <a:lnTo>
                  <a:pt x="27015" y="10800"/>
                </a:lnTo>
                <a:lnTo>
                  <a:pt x="27015" y="17989"/>
                </a:lnTo>
                <a:lnTo>
                  <a:pt x="31402" y="17989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962160" y="846000"/>
            <a:ext cx="5181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3333ff"/>
                </a:solidFill>
                <a:latin typeface="Georgia"/>
              </a:rPr>
              <a:t>Linux Mandrake 6.1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78" name="8edytpartycje" descr=""/>
          <p:cNvPicPr/>
          <p:nvPr/>
        </p:nvPicPr>
        <p:blipFill>
          <a:blip r:embed="rId1"/>
          <a:stretch/>
        </p:blipFill>
        <p:spPr>
          <a:xfrm>
            <a:off x="2158920" y="2158920"/>
            <a:ext cx="5491080" cy="3595680"/>
          </a:xfrm>
          <a:prstGeom prst="rect">
            <a:avLst/>
          </a:prstGeom>
          <a:ln w="0">
            <a:noFill/>
          </a:ln>
        </p:spPr>
      </p:pic>
      <p:pic>
        <p:nvPicPr>
          <p:cNvPr id="179" name="linux_4" descr=""/>
          <p:cNvPicPr/>
          <p:nvPr/>
        </p:nvPicPr>
        <p:blipFill>
          <a:blip r:embed="rId2"/>
          <a:stretch/>
        </p:blipFill>
        <p:spPr>
          <a:xfrm>
            <a:off x="1905120" y="5334120"/>
            <a:ext cx="604800" cy="717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3A246-F910-4EB6-A5AA-FB4A6BC82A2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0" y="1438200"/>
            <a:ext cx="9144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Georgia"/>
              </a:rPr>
              <a:t>Po zapisaniu nowych ustawień partycji pora na uaktywnienie partycji wymiany. Możemy zaznaczyć opcję </a:t>
            </a:r>
            <a:r>
              <a:rPr b="1" lang="pl-PL" sz="1200" spc="-1" strike="noStrike">
                <a:solidFill>
                  <a:srgbClr val="000000"/>
                </a:solidFill>
                <a:latin typeface="Georgia"/>
              </a:rPr>
              <a:t>Check for bad ... </a:t>
            </a:r>
            <a:r>
              <a:rPr b="0" lang="pl-PL" sz="1200" spc="-1" strike="noStrike">
                <a:solidFill>
                  <a:srgbClr val="000000"/>
                </a:solidFill>
                <a:latin typeface="Georgia"/>
              </a:rPr>
              <a:t>Nasz dysk zostanie sprawdzony i wykryte, uszkodzone sektory oznaczone – system będzie dzięki temu bezpieczniejsz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>
            <a:hlinkClick r:id="" action="ppaction://hlinkshowjump?jump=nextslide"/>
          </p:cNvPr>
          <p:cNvSpPr/>
          <p:nvPr/>
        </p:nvSpPr>
        <p:spPr>
          <a:xfrm>
            <a:off x="7916760" y="358920"/>
            <a:ext cx="1079640" cy="360360"/>
          </a:xfrm>
          <a:custGeom>
            <a:avLst/>
            <a:gdLst>
              <a:gd name="textAreaLeft" fmla="*/ 23040 w 1079640"/>
              <a:gd name="textAreaRight" fmla="*/ 1056600 w 1079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671" h="21600">
                <a:moveTo>
                  <a:pt x="0" y="0"/>
                </a:moveTo>
                <a:lnTo>
                  <a:pt x="64671" y="0"/>
                </a:lnTo>
                <a:lnTo>
                  <a:pt x="64671" y="21600"/>
                </a:lnTo>
                <a:lnTo>
                  <a:pt x="0" y="21600"/>
                </a:lnTo>
                <a:close/>
              </a:path>
              <a:path fill="lightenLess" w="64671" h="21600">
                <a:moveTo>
                  <a:pt x="0" y="0"/>
                </a:moveTo>
                <a:lnTo>
                  <a:pt x="64671" y="0"/>
                </a:lnTo>
                <a:lnTo>
                  <a:pt x="63271" y="1400"/>
                </a:lnTo>
                <a:lnTo>
                  <a:pt x="1400" y="1400"/>
                </a:lnTo>
                <a:close/>
              </a:path>
              <a:path fill="darken" w="64671" h="21600">
                <a:moveTo>
                  <a:pt x="64671" y="0"/>
                </a:moveTo>
                <a:lnTo>
                  <a:pt x="64671" y="21600"/>
                </a:lnTo>
                <a:lnTo>
                  <a:pt x="63271" y="20200"/>
                </a:lnTo>
                <a:lnTo>
                  <a:pt x="63271" y="1400"/>
                </a:lnTo>
                <a:close/>
              </a:path>
              <a:path fill="darkenLess" w="64671" h="21600">
                <a:moveTo>
                  <a:pt x="646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71" y="20200"/>
                </a:lnTo>
                <a:close/>
              </a:path>
              <a:path fill="lighten" w="646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671" h="21600">
                <a:moveTo>
                  <a:pt x="25329" y="3794"/>
                </a:moveTo>
                <a:lnTo>
                  <a:pt x="39342" y="10800"/>
                </a:lnTo>
                <a:lnTo>
                  <a:pt x="25329" y="17806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>
            <a:hlinkClick r:id="" action="ppaction://hlinkshowjump?jump=previousslide"/>
          </p:cNvPr>
          <p:cNvSpPr/>
          <p:nvPr/>
        </p:nvSpPr>
        <p:spPr>
          <a:xfrm>
            <a:off x="5757840" y="358920"/>
            <a:ext cx="1079640" cy="360360"/>
          </a:xfrm>
          <a:custGeom>
            <a:avLst/>
            <a:gdLst>
              <a:gd name="textAreaLeft" fmla="*/ 23040 w 1079640"/>
              <a:gd name="textAreaRight" fmla="*/ 1056600 w 1079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671" h="21600">
                <a:moveTo>
                  <a:pt x="0" y="0"/>
                </a:moveTo>
                <a:lnTo>
                  <a:pt x="64671" y="0"/>
                </a:lnTo>
                <a:lnTo>
                  <a:pt x="64671" y="21600"/>
                </a:lnTo>
                <a:lnTo>
                  <a:pt x="0" y="21600"/>
                </a:lnTo>
                <a:close/>
              </a:path>
              <a:path fill="lightenLess" w="64671" h="21600">
                <a:moveTo>
                  <a:pt x="0" y="0"/>
                </a:moveTo>
                <a:lnTo>
                  <a:pt x="64671" y="0"/>
                </a:lnTo>
                <a:lnTo>
                  <a:pt x="63271" y="1400"/>
                </a:lnTo>
                <a:lnTo>
                  <a:pt x="1400" y="1400"/>
                </a:lnTo>
                <a:close/>
              </a:path>
              <a:path fill="darken" w="64671" h="21600">
                <a:moveTo>
                  <a:pt x="64671" y="0"/>
                </a:moveTo>
                <a:lnTo>
                  <a:pt x="64671" y="21600"/>
                </a:lnTo>
                <a:lnTo>
                  <a:pt x="63271" y="20200"/>
                </a:lnTo>
                <a:lnTo>
                  <a:pt x="63271" y="1400"/>
                </a:lnTo>
                <a:close/>
              </a:path>
              <a:path fill="darkenLess" w="64671" h="21600">
                <a:moveTo>
                  <a:pt x="646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71" y="20200"/>
                </a:lnTo>
                <a:close/>
              </a:path>
              <a:path fill="lighten" w="646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671" h="21600">
                <a:moveTo>
                  <a:pt x="25329" y="10800"/>
                </a:moveTo>
                <a:lnTo>
                  <a:pt x="39342" y="3794"/>
                </a:lnTo>
                <a:lnTo>
                  <a:pt x="39342" y="17806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>
            <a:hlinkClick r:id="" action="ppaction://hlinkshowjump?jump=firstslide"/>
          </p:cNvPr>
          <p:cNvSpPr/>
          <p:nvPr/>
        </p:nvSpPr>
        <p:spPr>
          <a:xfrm>
            <a:off x="6837480" y="358920"/>
            <a:ext cx="1079280" cy="360360"/>
          </a:xfrm>
          <a:custGeom>
            <a:avLst/>
            <a:gdLst>
              <a:gd name="textAreaLeft" fmla="*/ 23040 w 1079280"/>
              <a:gd name="textAreaRight" fmla="*/ 1056240 w 107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649" h="21600">
                <a:moveTo>
                  <a:pt x="0" y="0"/>
                </a:moveTo>
                <a:lnTo>
                  <a:pt x="64649" y="0"/>
                </a:lnTo>
                <a:lnTo>
                  <a:pt x="64649" y="21600"/>
                </a:lnTo>
                <a:lnTo>
                  <a:pt x="0" y="21600"/>
                </a:lnTo>
                <a:close/>
              </a:path>
              <a:path fill="lightenLess" w="64649" h="21600">
                <a:moveTo>
                  <a:pt x="0" y="0"/>
                </a:moveTo>
                <a:lnTo>
                  <a:pt x="64649" y="0"/>
                </a:lnTo>
                <a:lnTo>
                  <a:pt x="63249" y="1400"/>
                </a:lnTo>
                <a:lnTo>
                  <a:pt x="1400" y="1400"/>
                </a:lnTo>
                <a:close/>
              </a:path>
              <a:path fill="darken" w="64649" h="21600">
                <a:moveTo>
                  <a:pt x="64649" y="0"/>
                </a:moveTo>
                <a:lnTo>
                  <a:pt x="64649" y="21600"/>
                </a:lnTo>
                <a:lnTo>
                  <a:pt x="63249" y="20200"/>
                </a:lnTo>
                <a:lnTo>
                  <a:pt x="63249" y="1400"/>
                </a:lnTo>
                <a:close/>
              </a:path>
              <a:path fill="darkenLess" w="64649" h="21600">
                <a:moveTo>
                  <a:pt x="646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49" y="20200"/>
                </a:lnTo>
                <a:close/>
              </a:path>
              <a:path fill="lighten" w="646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649" h="21600">
                <a:moveTo>
                  <a:pt x="32325" y="3837"/>
                </a:moveTo>
                <a:lnTo>
                  <a:pt x="34901" y="6448"/>
                </a:lnTo>
                <a:lnTo>
                  <a:pt x="34901" y="4707"/>
                </a:lnTo>
                <a:lnTo>
                  <a:pt x="36676" y="4707"/>
                </a:lnTo>
                <a:lnTo>
                  <a:pt x="36676" y="8224"/>
                </a:lnTo>
                <a:lnTo>
                  <a:pt x="39288" y="10800"/>
                </a:lnTo>
                <a:lnTo>
                  <a:pt x="37634" y="10800"/>
                </a:lnTo>
                <a:lnTo>
                  <a:pt x="37634" y="17989"/>
                </a:lnTo>
                <a:lnTo>
                  <a:pt x="27015" y="17989"/>
                </a:lnTo>
                <a:lnTo>
                  <a:pt x="27015" y="10800"/>
                </a:lnTo>
                <a:lnTo>
                  <a:pt x="25362" y="10800"/>
                </a:lnTo>
                <a:close/>
              </a:path>
              <a:path fill="darkenLess" w="64649" h="21600">
                <a:moveTo>
                  <a:pt x="34901" y="6448"/>
                </a:moveTo>
                <a:lnTo>
                  <a:pt x="34901" y="4707"/>
                </a:lnTo>
                <a:lnTo>
                  <a:pt x="36676" y="4707"/>
                </a:lnTo>
                <a:lnTo>
                  <a:pt x="36676" y="8224"/>
                </a:lnTo>
                <a:close/>
              </a:path>
              <a:path fill="darkenLess" w="64649" h="21600">
                <a:moveTo>
                  <a:pt x="31402" y="14299"/>
                </a:moveTo>
                <a:lnTo>
                  <a:pt x="33247" y="14299"/>
                </a:lnTo>
                <a:lnTo>
                  <a:pt x="33247" y="17989"/>
                </a:lnTo>
                <a:lnTo>
                  <a:pt x="37634" y="17989"/>
                </a:lnTo>
                <a:lnTo>
                  <a:pt x="37634" y="10800"/>
                </a:lnTo>
                <a:lnTo>
                  <a:pt x="27015" y="10800"/>
                </a:lnTo>
                <a:lnTo>
                  <a:pt x="27015" y="17989"/>
                </a:lnTo>
                <a:lnTo>
                  <a:pt x="31402" y="17989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962160" y="846000"/>
            <a:ext cx="5181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3333ff"/>
                </a:solidFill>
                <a:latin typeface="Georgia"/>
              </a:rPr>
              <a:t>Linux Mandrake 6.1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85" name="10initswap" descr=""/>
          <p:cNvPicPr/>
          <p:nvPr/>
        </p:nvPicPr>
        <p:blipFill>
          <a:blip r:embed="rId1"/>
          <a:stretch/>
        </p:blipFill>
        <p:spPr>
          <a:xfrm>
            <a:off x="2158920" y="2158920"/>
            <a:ext cx="5491080" cy="3595680"/>
          </a:xfrm>
          <a:prstGeom prst="rect">
            <a:avLst/>
          </a:prstGeom>
          <a:ln w="0">
            <a:noFill/>
          </a:ln>
        </p:spPr>
      </p:pic>
      <p:pic>
        <p:nvPicPr>
          <p:cNvPr id="186" name="linux_4" descr=""/>
          <p:cNvPicPr/>
          <p:nvPr/>
        </p:nvPicPr>
        <p:blipFill>
          <a:blip r:embed="rId2"/>
          <a:stretch/>
        </p:blipFill>
        <p:spPr>
          <a:xfrm>
            <a:off x="1905120" y="5334120"/>
            <a:ext cx="604800" cy="717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EF83B-B900-43B5-B1FA-B24AA82A51B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0" y="143820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Georgia"/>
              </a:rPr>
              <a:t>Następny krok instalacji to formatowanie partycji typu </a:t>
            </a:r>
            <a:r>
              <a:rPr b="1" lang="pl-PL" sz="1200" spc="-1" strike="noStrike">
                <a:solidFill>
                  <a:srgbClr val="000000"/>
                </a:solidFill>
                <a:latin typeface="Georgia"/>
              </a:rPr>
              <a:t>Linux Native</a:t>
            </a:r>
            <a:r>
              <a:rPr b="0" lang="pl-PL" sz="1200" spc="-1" strike="noStrike">
                <a:solidFill>
                  <a:srgbClr val="000000"/>
                </a:solidFill>
                <a:latin typeface="Georgia"/>
              </a:rPr>
              <a:t> – postępujemy podobnie jak dla partycji Swa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>
            <a:hlinkClick r:id="" action="ppaction://hlinkshowjump?jump=nextslide"/>
          </p:cNvPr>
          <p:cNvSpPr/>
          <p:nvPr/>
        </p:nvSpPr>
        <p:spPr>
          <a:xfrm>
            <a:off x="7916760" y="358920"/>
            <a:ext cx="1079640" cy="360360"/>
          </a:xfrm>
          <a:custGeom>
            <a:avLst/>
            <a:gdLst>
              <a:gd name="textAreaLeft" fmla="*/ 23040 w 1079640"/>
              <a:gd name="textAreaRight" fmla="*/ 1056600 w 1079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671" h="21600">
                <a:moveTo>
                  <a:pt x="0" y="0"/>
                </a:moveTo>
                <a:lnTo>
                  <a:pt x="64671" y="0"/>
                </a:lnTo>
                <a:lnTo>
                  <a:pt x="64671" y="21600"/>
                </a:lnTo>
                <a:lnTo>
                  <a:pt x="0" y="21600"/>
                </a:lnTo>
                <a:close/>
              </a:path>
              <a:path fill="lightenLess" w="64671" h="21600">
                <a:moveTo>
                  <a:pt x="0" y="0"/>
                </a:moveTo>
                <a:lnTo>
                  <a:pt x="64671" y="0"/>
                </a:lnTo>
                <a:lnTo>
                  <a:pt x="63271" y="1400"/>
                </a:lnTo>
                <a:lnTo>
                  <a:pt x="1400" y="1400"/>
                </a:lnTo>
                <a:close/>
              </a:path>
              <a:path fill="darken" w="64671" h="21600">
                <a:moveTo>
                  <a:pt x="64671" y="0"/>
                </a:moveTo>
                <a:lnTo>
                  <a:pt x="64671" y="21600"/>
                </a:lnTo>
                <a:lnTo>
                  <a:pt x="63271" y="20200"/>
                </a:lnTo>
                <a:lnTo>
                  <a:pt x="63271" y="1400"/>
                </a:lnTo>
                <a:close/>
              </a:path>
              <a:path fill="darkenLess" w="64671" h="21600">
                <a:moveTo>
                  <a:pt x="646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71" y="20200"/>
                </a:lnTo>
                <a:close/>
              </a:path>
              <a:path fill="lighten" w="646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671" h="21600">
                <a:moveTo>
                  <a:pt x="25329" y="3794"/>
                </a:moveTo>
                <a:lnTo>
                  <a:pt x="39342" y="10800"/>
                </a:lnTo>
                <a:lnTo>
                  <a:pt x="25329" y="17806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>
            <a:hlinkClick r:id="" action="ppaction://hlinkshowjump?jump=previousslide"/>
          </p:cNvPr>
          <p:cNvSpPr/>
          <p:nvPr/>
        </p:nvSpPr>
        <p:spPr>
          <a:xfrm>
            <a:off x="5757840" y="358920"/>
            <a:ext cx="1079640" cy="360360"/>
          </a:xfrm>
          <a:custGeom>
            <a:avLst/>
            <a:gdLst>
              <a:gd name="textAreaLeft" fmla="*/ 23040 w 1079640"/>
              <a:gd name="textAreaRight" fmla="*/ 1056600 w 1079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671" h="21600">
                <a:moveTo>
                  <a:pt x="0" y="0"/>
                </a:moveTo>
                <a:lnTo>
                  <a:pt x="64671" y="0"/>
                </a:lnTo>
                <a:lnTo>
                  <a:pt x="64671" y="21600"/>
                </a:lnTo>
                <a:lnTo>
                  <a:pt x="0" y="21600"/>
                </a:lnTo>
                <a:close/>
              </a:path>
              <a:path fill="lightenLess" w="64671" h="21600">
                <a:moveTo>
                  <a:pt x="0" y="0"/>
                </a:moveTo>
                <a:lnTo>
                  <a:pt x="64671" y="0"/>
                </a:lnTo>
                <a:lnTo>
                  <a:pt x="63271" y="1400"/>
                </a:lnTo>
                <a:lnTo>
                  <a:pt x="1400" y="1400"/>
                </a:lnTo>
                <a:close/>
              </a:path>
              <a:path fill="darken" w="64671" h="21600">
                <a:moveTo>
                  <a:pt x="64671" y="0"/>
                </a:moveTo>
                <a:lnTo>
                  <a:pt x="64671" y="21600"/>
                </a:lnTo>
                <a:lnTo>
                  <a:pt x="63271" y="20200"/>
                </a:lnTo>
                <a:lnTo>
                  <a:pt x="63271" y="1400"/>
                </a:lnTo>
                <a:close/>
              </a:path>
              <a:path fill="darkenLess" w="64671" h="21600">
                <a:moveTo>
                  <a:pt x="646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71" y="20200"/>
                </a:lnTo>
                <a:close/>
              </a:path>
              <a:path fill="lighten" w="646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671" h="21600">
                <a:moveTo>
                  <a:pt x="25329" y="10800"/>
                </a:moveTo>
                <a:lnTo>
                  <a:pt x="39342" y="3794"/>
                </a:lnTo>
                <a:lnTo>
                  <a:pt x="39342" y="17806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>
            <a:hlinkClick r:id="" action="ppaction://hlinkshowjump?jump=firstslide"/>
          </p:cNvPr>
          <p:cNvSpPr/>
          <p:nvPr/>
        </p:nvSpPr>
        <p:spPr>
          <a:xfrm>
            <a:off x="6837480" y="358920"/>
            <a:ext cx="1079280" cy="360360"/>
          </a:xfrm>
          <a:custGeom>
            <a:avLst/>
            <a:gdLst>
              <a:gd name="textAreaLeft" fmla="*/ 23040 w 1079280"/>
              <a:gd name="textAreaRight" fmla="*/ 1056240 w 107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649" h="21600">
                <a:moveTo>
                  <a:pt x="0" y="0"/>
                </a:moveTo>
                <a:lnTo>
                  <a:pt x="64649" y="0"/>
                </a:lnTo>
                <a:lnTo>
                  <a:pt x="64649" y="21600"/>
                </a:lnTo>
                <a:lnTo>
                  <a:pt x="0" y="21600"/>
                </a:lnTo>
                <a:close/>
              </a:path>
              <a:path fill="lightenLess" w="64649" h="21600">
                <a:moveTo>
                  <a:pt x="0" y="0"/>
                </a:moveTo>
                <a:lnTo>
                  <a:pt x="64649" y="0"/>
                </a:lnTo>
                <a:lnTo>
                  <a:pt x="63249" y="1400"/>
                </a:lnTo>
                <a:lnTo>
                  <a:pt x="1400" y="1400"/>
                </a:lnTo>
                <a:close/>
              </a:path>
              <a:path fill="darken" w="64649" h="21600">
                <a:moveTo>
                  <a:pt x="64649" y="0"/>
                </a:moveTo>
                <a:lnTo>
                  <a:pt x="64649" y="21600"/>
                </a:lnTo>
                <a:lnTo>
                  <a:pt x="63249" y="20200"/>
                </a:lnTo>
                <a:lnTo>
                  <a:pt x="63249" y="1400"/>
                </a:lnTo>
                <a:close/>
              </a:path>
              <a:path fill="darkenLess" w="64649" h="21600">
                <a:moveTo>
                  <a:pt x="646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49" y="20200"/>
                </a:lnTo>
                <a:close/>
              </a:path>
              <a:path fill="lighten" w="646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649" h="21600">
                <a:moveTo>
                  <a:pt x="32325" y="3837"/>
                </a:moveTo>
                <a:lnTo>
                  <a:pt x="34901" y="6448"/>
                </a:lnTo>
                <a:lnTo>
                  <a:pt x="34901" y="4707"/>
                </a:lnTo>
                <a:lnTo>
                  <a:pt x="36676" y="4707"/>
                </a:lnTo>
                <a:lnTo>
                  <a:pt x="36676" y="8224"/>
                </a:lnTo>
                <a:lnTo>
                  <a:pt x="39288" y="10800"/>
                </a:lnTo>
                <a:lnTo>
                  <a:pt x="37634" y="10800"/>
                </a:lnTo>
                <a:lnTo>
                  <a:pt x="37634" y="17989"/>
                </a:lnTo>
                <a:lnTo>
                  <a:pt x="27015" y="17989"/>
                </a:lnTo>
                <a:lnTo>
                  <a:pt x="27015" y="10800"/>
                </a:lnTo>
                <a:lnTo>
                  <a:pt x="25362" y="10800"/>
                </a:lnTo>
                <a:close/>
              </a:path>
              <a:path fill="darkenLess" w="64649" h="21600">
                <a:moveTo>
                  <a:pt x="34901" y="6448"/>
                </a:moveTo>
                <a:lnTo>
                  <a:pt x="34901" y="4707"/>
                </a:lnTo>
                <a:lnTo>
                  <a:pt x="36676" y="4707"/>
                </a:lnTo>
                <a:lnTo>
                  <a:pt x="36676" y="8224"/>
                </a:lnTo>
                <a:close/>
              </a:path>
              <a:path fill="darkenLess" w="64649" h="21600">
                <a:moveTo>
                  <a:pt x="31402" y="14299"/>
                </a:moveTo>
                <a:lnTo>
                  <a:pt x="33247" y="14299"/>
                </a:lnTo>
                <a:lnTo>
                  <a:pt x="33247" y="17989"/>
                </a:lnTo>
                <a:lnTo>
                  <a:pt x="37634" y="17989"/>
                </a:lnTo>
                <a:lnTo>
                  <a:pt x="37634" y="10800"/>
                </a:lnTo>
                <a:lnTo>
                  <a:pt x="27015" y="10800"/>
                </a:lnTo>
                <a:lnTo>
                  <a:pt x="27015" y="17989"/>
                </a:lnTo>
                <a:lnTo>
                  <a:pt x="31402" y="17989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962160" y="846000"/>
            <a:ext cx="5181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3333ff"/>
                </a:solidFill>
                <a:latin typeface="Georgia"/>
              </a:rPr>
              <a:t>Linux Mandrake 6.1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92" name="11formatparycji" descr=""/>
          <p:cNvPicPr/>
          <p:nvPr/>
        </p:nvPicPr>
        <p:blipFill>
          <a:blip r:embed="rId1"/>
          <a:stretch/>
        </p:blipFill>
        <p:spPr>
          <a:xfrm>
            <a:off x="2158920" y="2158920"/>
            <a:ext cx="5491080" cy="3595680"/>
          </a:xfrm>
          <a:prstGeom prst="rect">
            <a:avLst/>
          </a:prstGeom>
          <a:ln w="0">
            <a:noFill/>
          </a:ln>
        </p:spPr>
      </p:pic>
      <p:pic>
        <p:nvPicPr>
          <p:cNvPr id="193" name="linux_4" descr=""/>
          <p:cNvPicPr/>
          <p:nvPr/>
        </p:nvPicPr>
        <p:blipFill>
          <a:blip r:embed="rId2"/>
          <a:stretch/>
        </p:blipFill>
        <p:spPr>
          <a:xfrm>
            <a:off x="1905120" y="5334120"/>
            <a:ext cx="604800" cy="717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549CC-4F91-4D9C-BA78-BFADD64F2E7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1438200"/>
            <a:ext cx="9144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Georgia"/>
              </a:rPr>
              <a:t>Przed nami wybór komponentów systemu. Instalujemy kompletny system wraz z dodatkami. Przewijamy listę komponentów na dół i zaznaczamy opcję </a:t>
            </a:r>
            <a:r>
              <a:rPr b="1" lang="pl-PL" sz="1200" spc="-1" strike="noStrike">
                <a:solidFill>
                  <a:srgbClr val="000000"/>
                </a:solidFill>
                <a:latin typeface="Georgia"/>
              </a:rPr>
              <a:t>Everything</a:t>
            </a:r>
            <a:r>
              <a:rPr b="0" lang="pl-PL" sz="1200" spc="-1" strike="noStrike">
                <a:solidFill>
                  <a:srgbClr val="000000"/>
                </a:solidFill>
                <a:latin typeface="Georgia"/>
              </a:rPr>
              <a:t>, czyli wszystkie pakiety  systemu. W każdej chwili można je zdeinstalować, jeśli zabierają zbyt dużo miejsca lub nie są wykorzystywane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>
            <a:hlinkClick r:id="" action="ppaction://hlinkshowjump?jump=nextslide"/>
          </p:cNvPr>
          <p:cNvSpPr/>
          <p:nvPr/>
        </p:nvSpPr>
        <p:spPr>
          <a:xfrm>
            <a:off x="7916760" y="358920"/>
            <a:ext cx="1079640" cy="360360"/>
          </a:xfrm>
          <a:custGeom>
            <a:avLst/>
            <a:gdLst>
              <a:gd name="textAreaLeft" fmla="*/ 23040 w 1079640"/>
              <a:gd name="textAreaRight" fmla="*/ 1056600 w 1079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671" h="21600">
                <a:moveTo>
                  <a:pt x="0" y="0"/>
                </a:moveTo>
                <a:lnTo>
                  <a:pt x="64671" y="0"/>
                </a:lnTo>
                <a:lnTo>
                  <a:pt x="64671" y="21600"/>
                </a:lnTo>
                <a:lnTo>
                  <a:pt x="0" y="21600"/>
                </a:lnTo>
                <a:close/>
              </a:path>
              <a:path fill="lightenLess" w="64671" h="21600">
                <a:moveTo>
                  <a:pt x="0" y="0"/>
                </a:moveTo>
                <a:lnTo>
                  <a:pt x="64671" y="0"/>
                </a:lnTo>
                <a:lnTo>
                  <a:pt x="63271" y="1400"/>
                </a:lnTo>
                <a:lnTo>
                  <a:pt x="1400" y="1400"/>
                </a:lnTo>
                <a:close/>
              </a:path>
              <a:path fill="darken" w="64671" h="21600">
                <a:moveTo>
                  <a:pt x="64671" y="0"/>
                </a:moveTo>
                <a:lnTo>
                  <a:pt x="64671" y="21600"/>
                </a:lnTo>
                <a:lnTo>
                  <a:pt x="63271" y="20200"/>
                </a:lnTo>
                <a:lnTo>
                  <a:pt x="63271" y="1400"/>
                </a:lnTo>
                <a:close/>
              </a:path>
              <a:path fill="darkenLess" w="64671" h="21600">
                <a:moveTo>
                  <a:pt x="646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71" y="20200"/>
                </a:lnTo>
                <a:close/>
              </a:path>
              <a:path fill="lighten" w="646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671" h="21600">
                <a:moveTo>
                  <a:pt x="25329" y="3794"/>
                </a:moveTo>
                <a:lnTo>
                  <a:pt x="39342" y="10800"/>
                </a:lnTo>
                <a:lnTo>
                  <a:pt x="25329" y="17806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>
            <a:hlinkClick r:id="" action="ppaction://hlinkshowjump?jump=previousslide"/>
          </p:cNvPr>
          <p:cNvSpPr/>
          <p:nvPr/>
        </p:nvSpPr>
        <p:spPr>
          <a:xfrm>
            <a:off x="5757840" y="358920"/>
            <a:ext cx="1079640" cy="360360"/>
          </a:xfrm>
          <a:custGeom>
            <a:avLst/>
            <a:gdLst>
              <a:gd name="textAreaLeft" fmla="*/ 23040 w 1079640"/>
              <a:gd name="textAreaRight" fmla="*/ 1056600 w 1079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671" h="21600">
                <a:moveTo>
                  <a:pt x="0" y="0"/>
                </a:moveTo>
                <a:lnTo>
                  <a:pt x="64671" y="0"/>
                </a:lnTo>
                <a:lnTo>
                  <a:pt x="64671" y="21600"/>
                </a:lnTo>
                <a:lnTo>
                  <a:pt x="0" y="21600"/>
                </a:lnTo>
                <a:close/>
              </a:path>
              <a:path fill="lightenLess" w="64671" h="21600">
                <a:moveTo>
                  <a:pt x="0" y="0"/>
                </a:moveTo>
                <a:lnTo>
                  <a:pt x="64671" y="0"/>
                </a:lnTo>
                <a:lnTo>
                  <a:pt x="63271" y="1400"/>
                </a:lnTo>
                <a:lnTo>
                  <a:pt x="1400" y="1400"/>
                </a:lnTo>
                <a:close/>
              </a:path>
              <a:path fill="darken" w="64671" h="21600">
                <a:moveTo>
                  <a:pt x="64671" y="0"/>
                </a:moveTo>
                <a:lnTo>
                  <a:pt x="64671" y="21600"/>
                </a:lnTo>
                <a:lnTo>
                  <a:pt x="63271" y="20200"/>
                </a:lnTo>
                <a:lnTo>
                  <a:pt x="63271" y="1400"/>
                </a:lnTo>
                <a:close/>
              </a:path>
              <a:path fill="darkenLess" w="64671" h="21600">
                <a:moveTo>
                  <a:pt x="646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71" y="20200"/>
                </a:lnTo>
                <a:close/>
              </a:path>
              <a:path fill="lighten" w="646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671" h="21600">
                <a:moveTo>
                  <a:pt x="25329" y="10800"/>
                </a:moveTo>
                <a:lnTo>
                  <a:pt x="39342" y="3794"/>
                </a:lnTo>
                <a:lnTo>
                  <a:pt x="39342" y="17806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>
            <a:hlinkClick r:id="" action="ppaction://hlinkshowjump?jump=firstslide"/>
          </p:cNvPr>
          <p:cNvSpPr/>
          <p:nvPr/>
        </p:nvSpPr>
        <p:spPr>
          <a:xfrm>
            <a:off x="6837480" y="358920"/>
            <a:ext cx="1079280" cy="360360"/>
          </a:xfrm>
          <a:custGeom>
            <a:avLst/>
            <a:gdLst>
              <a:gd name="textAreaLeft" fmla="*/ 23040 w 1079280"/>
              <a:gd name="textAreaRight" fmla="*/ 1056240 w 107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649" h="21600">
                <a:moveTo>
                  <a:pt x="0" y="0"/>
                </a:moveTo>
                <a:lnTo>
                  <a:pt x="64649" y="0"/>
                </a:lnTo>
                <a:lnTo>
                  <a:pt x="64649" y="21600"/>
                </a:lnTo>
                <a:lnTo>
                  <a:pt x="0" y="21600"/>
                </a:lnTo>
                <a:close/>
              </a:path>
              <a:path fill="lightenLess" w="64649" h="21600">
                <a:moveTo>
                  <a:pt x="0" y="0"/>
                </a:moveTo>
                <a:lnTo>
                  <a:pt x="64649" y="0"/>
                </a:lnTo>
                <a:lnTo>
                  <a:pt x="63249" y="1400"/>
                </a:lnTo>
                <a:lnTo>
                  <a:pt x="1400" y="1400"/>
                </a:lnTo>
                <a:close/>
              </a:path>
              <a:path fill="darken" w="64649" h="21600">
                <a:moveTo>
                  <a:pt x="64649" y="0"/>
                </a:moveTo>
                <a:lnTo>
                  <a:pt x="64649" y="21600"/>
                </a:lnTo>
                <a:lnTo>
                  <a:pt x="63249" y="20200"/>
                </a:lnTo>
                <a:lnTo>
                  <a:pt x="63249" y="1400"/>
                </a:lnTo>
                <a:close/>
              </a:path>
              <a:path fill="darkenLess" w="64649" h="21600">
                <a:moveTo>
                  <a:pt x="646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49" y="20200"/>
                </a:lnTo>
                <a:close/>
              </a:path>
              <a:path fill="lighten" w="646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649" h="21600">
                <a:moveTo>
                  <a:pt x="32325" y="3837"/>
                </a:moveTo>
                <a:lnTo>
                  <a:pt x="34901" y="6448"/>
                </a:lnTo>
                <a:lnTo>
                  <a:pt x="34901" y="4707"/>
                </a:lnTo>
                <a:lnTo>
                  <a:pt x="36676" y="4707"/>
                </a:lnTo>
                <a:lnTo>
                  <a:pt x="36676" y="8224"/>
                </a:lnTo>
                <a:lnTo>
                  <a:pt x="39288" y="10800"/>
                </a:lnTo>
                <a:lnTo>
                  <a:pt x="37634" y="10800"/>
                </a:lnTo>
                <a:lnTo>
                  <a:pt x="37634" y="17989"/>
                </a:lnTo>
                <a:lnTo>
                  <a:pt x="27015" y="17989"/>
                </a:lnTo>
                <a:lnTo>
                  <a:pt x="27015" y="10800"/>
                </a:lnTo>
                <a:lnTo>
                  <a:pt x="25362" y="10800"/>
                </a:lnTo>
                <a:close/>
              </a:path>
              <a:path fill="darkenLess" w="64649" h="21600">
                <a:moveTo>
                  <a:pt x="34901" y="6448"/>
                </a:moveTo>
                <a:lnTo>
                  <a:pt x="34901" y="4707"/>
                </a:lnTo>
                <a:lnTo>
                  <a:pt x="36676" y="4707"/>
                </a:lnTo>
                <a:lnTo>
                  <a:pt x="36676" y="8224"/>
                </a:lnTo>
                <a:close/>
              </a:path>
              <a:path fill="darkenLess" w="64649" h="21600">
                <a:moveTo>
                  <a:pt x="31402" y="14299"/>
                </a:moveTo>
                <a:lnTo>
                  <a:pt x="33247" y="14299"/>
                </a:lnTo>
                <a:lnTo>
                  <a:pt x="33247" y="17989"/>
                </a:lnTo>
                <a:lnTo>
                  <a:pt x="37634" y="17989"/>
                </a:lnTo>
                <a:lnTo>
                  <a:pt x="37634" y="10800"/>
                </a:lnTo>
                <a:lnTo>
                  <a:pt x="27015" y="10800"/>
                </a:lnTo>
                <a:lnTo>
                  <a:pt x="27015" y="17989"/>
                </a:lnTo>
                <a:lnTo>
                  <a:pt x="31402" y="17989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962160" y="846000"/>
            <a:ext cx="5181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3333ff"/>
                </a:solidFill>
                <a:latin typeface="Georgia"/>
              </a:rPr>
              <a:t>Linux Mandrake 6.1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99" name="12selekcjakomponentow" descr=""/>
          <p:cNvPicPr/>
          <p:nvPr/>
        </p:nvPicPr>
        <p:blipFill>
          <a:blip r:embed="rId1"/>
          <a:stretch/>
        </p:blipFill>
        <p:spPr>
          <a:xfrm>
            <a:off x="2158920" y="2158920"/>
            <a:ext cx="5491080" cy="3595680"/>
          </a:xfrm>
          <a:prstGeom prst="rect">
            <a:avLst/>
          </a:prstGeom>
          <a:ln w="0">
            <a:noFill/>
          </a:ln>
        </p:spPr>
      </p:pic>
      <p:pic>
        <p:nvPicPr>
          <p:cNvPr id="200" name="linux_4" descr=""/>
          <p:cNvPicPr/>
          <p:nvPr/>
        </p:nvPicPr>
        <p:blipFill>
          <a:blip r:embed="rId2"/>
          <a:stretch/>
        </p:blipFill>
        <p:spPr>
          <a:xfrm>
            <a:off x="1905120" y="5334120"/>
            <a:ext cx="604800" cy="717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620BD-DE5A-4AE7-8AA1-2B85CEF4875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0" y="143820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Georgia"/>
              </a:rPr>
              <a:t>Może się zdarzyć, ze wyświetlony będzie komunikat o brakujących bibliotekach systemowych potrzebnych do prawidłowej instalacji pakietów lub programów – Zainstalujmy je, zaznaczając pole </a:t>
            </a:r>
            <a:r>
              <a:rPr b="1" lang="pl-PL" sz="1200" spc="-1" strike="noStrike">
                <a:solidFill>
                  <a:srgbClr val="000000"/>
                </a:solidFill>
                <a:latin typeface="Georgia"/>
              </a:rPr>
              <a:t>Instaluj pakiety 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>
            <a:hlinkClick r:id="" action="ppaction://hlinkshowjump?jump=nextslide"/>
          </p:cNvPr>
          <p:cNvSpPr/>
          <p:nvPr/>
        </p:nvSpPr>
        <p:spPr>
          <a:xfrm>
            <a:off x="7916760" y="358920"/>
            <a:ext cx="1079640" cy="360360"/>
          </a:xfrm>
          <a:custGeom>
            <a:avLst/>
            <a:gdLst>
              <a:gd name="textAreaLeft" fmla="*/ 23040 w 1079640"/>
              <a:gd name="textAreaRight" fmla="*/ 1056600 w 1079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671" h="21600">
                <a:moveTo>
                  <a:pt x="0" y="0"/>
                </a:moveTo>
                <a:lnTo>
                  <a:pt x="64671" y="0"/>
                </a:lnTo>
                <a:lnTo>
                  <a:pt x="64671" y="21600"/>
                </a:lnTo>
                <a:lnTo>
                  <a:pt x="0" y="21600"/>
                </a:lnTo>
                <a:close/>
              </a:path>
              <a:path fill="lightenLess" w="64671" h="21600">
                <a:moveTo>
                  <a:pt x="0" y="0"/>
                </a:moveTo>
                <a:lnTo>
                  <a:pt x="64671" y="0"/>
                </a:lnTo>
                <a:lnTo>
                  <a:pt x="63271" y="1400"/>
                </a:lnTo>
                <a:lnTo>
                  <a:pt x="1400" y="1400"/>
                </a:lnTo>
                <a:close/>
              </a:path>
              <a:path fill="darken" w="64671" h="21600">
                <a:moveTo>
                  <a:pt x="64671" y="0"/>
                </a:moveTo>
                <a:lnTo>
                  <a:pt x="64671" y="21600"/>
                </a:lnTo>
                <a:lnTo>
                  <a:pt x="63271" y="20200"/>
                </a:lnTo>
                <a:lnTo>
                  <a:pt x="63271" y="1400"/>
                </a:lnTo>
                <a:close/>
              </a:path>
              <a:path fill="darkenLess" w="64671" h="21600">
                <a:moveTo>
                  <a:pt x="646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71" y="20200"/>
                </a:lnTo>
                <a:close/>
              </a:path>
              <a:path fill="lighten" w="646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671" h="21600">
                <a:moveTo>
                  <a:pt x="25329" y="3794"/>
                </a:moveTo>
                <a:lnTo>
                  <a:pt x="39342" y="10800"/>
                </a:lnTo>
                <a:lnTo>
                  <a:pt x="25329" y="17806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>
            <a:hlinkClick r:id="" action="ppaction://hlinkshowjump?jump=previousslide"/>
          </p:cNvPr>
          <p:cNvSpPr/>
          <p:nvPr/>
        </p:nvSpPr>
        <p:spPr>
          <a:xfrm>
            <a:off x="5757840" y="358920"/>
            <a:ext cx="1079640" cy="360360"/>
          </a:xfrm>
          <a:custGeom>
            <a:avLst/>
            <a:gdLst>
              <a:gd name="textAreaLeft" fmla="*/ 23040 w 1079640"/>
              <a:gd name="textAreaRight" fmla="*/ 1056600 w 1079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671" h="21600">
                <a:moveTo>
                  <a:pt x="0" y="0"/>
                </a:moveTo>
                <a:lnTo>
                  <a:pt x="64671" y="0"/>
                </a:lnTo>
                <a:lnTo>
                  <a:pt x="64671" y="21600"/>
                </a:lnTo>
                <a:lnTo>
                  <a:pt x="0" y="21600"/>
                </a:lnTo>
                <a:close/>
              </a:path>
              <a:path fill="lightenLess" w="64671" h="21600">
                <a:moveTo>
                  <a:pt x="0" y="0"/>
                </a:moveTo>
                <a:lnTo>
                  <a:pt x="64671" y="0"/>
                </a:lnTo>
                <a:lnTo>
                  <a:pt x="63271" y="1400"/>
                </a:lnTo>
                <a:lnTo>
                  <a:pt x="1400" y="1400"/>
                </a:lnTo>
                <a:close/>
              </a:path>
              <a:path fill="darken" w="64671" h="21600">
                <a:moveTo>
                  <a:pt x="64671" y="0"/>
                </a:moveTo>
                <a:lnTo>
                  <a:pt x="64671" y="21600"/>
                </a:lnTo>
                <a:lnTo>
                  <a:pt x="63271" y="20200"/>
                </a:lnTo>
                <a:lnTo>
                  <a:pt x="63271" y="1400"/>
                </a:lnTo>
                <a:close/>
              </a:path>
              <a:path fill="darkenLess" w="64671" h="21600">
                <a:moveTo>
                  <a:pt x="646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71" y="20200"/>
                </a:lnTo>
                <a:close/>
              </a:path>
              <a:path fill="lighten" w="646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671" h="21600">
                <a:moveTo>
                  <a:pt x="25329" y="10800"/>
                </a:moveTo>
                <a:lnTo>
                  <a:pt x="39342" y="3794"/>
                </a:lnTo>
                <a:lnTo>
                  <a:pt x="39342" y="17806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>
            <a:hlinkClick r:id="" action="ppaction://hlinkshowjump?jump=firstslide"/>
          </p:cNvPr>
          <p:cNvSpPr/>
          <p:nvPr/>
        </p:nvSpPr>
        <p:spPr>
          <a:xfrm>
            <a:off x="6837480" y="358920"/>
            <a:ext cx="1079280" cy="360360"/>
          </a:xfrm>
          <a:custGeom>
            <a:avLst/>
            <a:gdLst>
              <a:gd name="textAreaLeft" fmla="*/ 23040 w 1079280"/>
              <a:gd name="textAreaRight" fmla="*/ 1056240 w 107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649" h="21600">
                <a:moveTo>
                  <a:pt x="0" y="0"/>
                </a:moveTo>
                <a:lnTo>
                  <a:pt x="64649" y="0"/>
                </a:lnTo>
                <a:lnTo>
                  <a:pt x="64649" y="21600"/>
                </a:lnTo>
                <a:lnTo>
                  <a:pt x="0" y="21600"/>
                </a:lnTo>
                <a:close/>
              </a:path>
              <a:path fill="lightenLess" w="64649" h="21600">
                <a:moveTo>
                  <a:pt x="0" y="0"/>
                </a:moveTo>
                <a:lnTo>
                  <a:pt x="64649" y="0"/>
                </a:lnTo>
                <a:lnTo>
                  <a:pt x="63249" y="1400"/>
                </a:lnTo>
                <a:lnTo>
                  <a:pt x="1400" y="1400"/>
                </a:lnTo>
                <a:close/>
              </a:path>
              <a:path fill="darken" w="64649" h="21600">
                <a:moveTo>
                  <a:pt x="64649" y="0"/>
                </a:moveTo>
                <a:lnTo>
                  <a:pt x="64649" y="21600"/>
                </a:lnTo>
                <a:lnTo>
                  <a:pt x="63249" y="20200"/>
                </a:lnTo>
                <a:lnTo>
                  <a:pt x="63249" y="1400"/>
                </a:lnTo>
                <a:close/>
              </a:path>
              <a:path fill="darkenLess" w="64649" h="21600">
                <a:moveTo>
                  <a:pt x="646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49" y="20200"/>
                </a:lnTo>
                <a:close/>
              </a:path>
              <a:path fill="lighten" w="646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649" h="21600">
                <a:moveTo>
                  <a:pt x="32325" y="3837"/>
                </a:moveTo>
                <a:lnTo>
                  <a:pt x="34901" y="6448"/>
                </a:lnTo>
                <a:lnTo>
                  <a:pt x="34901" y="4707"/>
                </a:lnTo>
                <a:lnTo>
                  <a:pt x="36676" y="4707"/>
                </a:lnTo>
                <a:lnTo>
                  <a:pt x="36676" y="8224"/>
                </a:lnTo>
                <a:lnTo>
                  <a:pt x="39288" y="10800"/>
                </a:lnTo>
                <a:lnTo>
                  <a:pt x="37634" y="10800"/>
                </a:lnTo>
                <a:lnTo>
                  <a:pt x="37634" y="17989"/>
                </a:lnTo>
                <a:lnTo>
                  <a:pt x="27015" y="17989"/>
                </a:lnTo>
                <a:lnTo>
                  <a:pt x="27015" y="10800"/>
                </a:lnTo>
                <a:lnTo>
                  <a:pt x="25362" y="10800"/>
                </a:lnTo>
                <a:close/>
              </a:path>
              <a:path fill="darkenLess" w="64649" h="21600">
                <a:moveTo>
                  <a:pt x="34901" y="6448"/>
                </a:moveTo>
                <a:lnTo>
                  <a:pt x="34901" y="4707"/>
                </a:lnTo>
                <a:lnTo>
                  <a:pt x="36676" y="4707"/>
                </a:lnTo>
                <a:lnTo>
                  <a:pt x="36676" y="8224"/>
                </a:lnTo>
                <a:close/>
              </a:path>
              <a:path fill="darkenLess" w="64649" h="21600">
                <a:moveTo>
                  <a:pt x="31402" y="14299"/>
                </a:moveTo>
                <a:lnTo>
                  <a:pt x="33247" y="14299"/>
                </a:lnTo>
                <a:lnTo>
                  <a:pt x="33247" y="17989"/>
                </a:lnTo>
                <a:lnTo>
                  <a:pt x="37634" y="17989"/>
                </a:lnTo>
                <a:lnTo>
                  <a:pt x="37634" y="10800"/>
                </a:lnTo>
                <a:lnTo>
                  <a:pt x="27015" y="10800"/>
                </a:lnTo>
                <a:lnTo>
                  <a:pt x="27015" y="17989"/>
                </a:lnTo>
                <a:lnTo>
                  <a:pt x="31402" y="17989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962160" y="846000"/>
            <a:ext cx="5181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3333ff"/>
                </a:solidFill>
                <a:latin typeface="Georgia"/>
              </a:rPr>
              <a:t>Linux Mandrake 6.1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06" name="15zaleznosci" descr=""/>
          <p:cNvPicPr/>
          <p:nvPr/>
        </p:nvPicPr>
        <p:blipFill>
          <a:blip r:embed="rId1"/>
          <a:stretch/>
        </p:blipFill>
        <p:spPr>
          <a:xfrm>
            <a:off x="2158920" y="2158920"/>
            <a:ext cx="5491080" cy="3595680"/>
          </a:xfrm>
          <a:prstGeom prst="rect">
            <a:avLst/>
          </a:prstGeom>
          <a:ln w="0">
            <a:noFill/>
          </a:ln>
        </p:spPr>
      </p:pic>
      <p:pic>
        <p:nvPicPr>
          <p:cNvPr id="207" name="linux_4" descr=""/>
          <p:cNvPicPr/>
          <p:nvPr/>
        </p:nvPicPr>
        <p:blipFill>
          <a:blip r:embed="rId2"/>
          <a:stretch/>
        </p:blipFill>
        <p:spPr>
          <a:xfrm>
            <a:off x="1905120" y="5334120"/>
            <a:ext cx="604800" cy="717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CC335-E483-4019-A7C5-534331D48CE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0" y="1438200"/>
            <a:ext cx="91440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Georgia"/>
              </a:rPr>
              <a:t>Po wyświetleniu okienka z komunikatem o raporcie dostępnym po instalacji w pliku </a:t>
            </a:r>
            <a:r>
              <a:rPr b="1" lang="pl-PL" sz="1200" spc="-1" strike="noStrike">
                <a:solidFill>
                  <a:srgbClr val="000000"/>
                </a:solidFill>
                <a:latin typeface="Georgia"/>
              </a:rPr>
              <a:t>/tmp/install.log</a:t>
            </a:r>
            <a:r>
              <a:rPr b="0" lang="pl-PL" sz="1200" spc="-1" strike="noStrike">
                <a:solidFill>
                  <a:srgbClr val="000000"/>
                </a:solidFill>
                <a:latin typeface="Georgia"/>
              </a:rPr>
              <a:t>, następuje proces kopiowania pakietów na dysk twardy i ich wstępna, automatyczna konfiguracja. W zależności od sprzętu może to potrwać od 20 do 40 minut. Instalator tworzy na naszej partycji system plików </a:t>
            </a:r>
            <a:r>
              <a:rPr b="1" lang="pl-PL" sz="1200" spc="-1" strike="noStrike">
                <a:solidFill>
                  <a:srgbClr val="000000"/>
                </a:solidFill>
                <a:latin typeface="Georgia"/>
              </a:rPr>
              <a:t>ext2 </a:t>
            </a:r>
            <a:r>
              <a:rPr b="0" lang="pl-PL" sz="1200" spc="-1" strike="noStrike">
                <a:solidFill>
                  <a:srgbClr val="000000"/>
                </a:solidFill>
                <a:latin typeface="Georgia"/>
              </a:rPr>
              <a:t>– inny niż różne wersje FAT-a z Windows 9X lub NTFS-a Windows NT. Cały czas możemy na ekranie obserwować „postęp” całego proces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Georgia"/>
              </a:rPr>
              <a:t>Pełna instalacja wersji 6.1 Linux Mandrake zawiera 827 pakietów i wymaga 1275 MB pamięci na dysk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Georgia"/>
              </a:rPr>
              <a:t>Dalsza część instalacji wymaga od nas uwagi i odpowiedzi na szereg pytań dotyczących naszego sprzęt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Georgia"/>
              </a:rPr>
              <a:t>Możemy się w tej chwili zastanowić czy konfigurować będziemy ustawienia sieciowe systemu /potrzebne będą dane o naszej sieci lokalnej/, czy będziemy korzystali z drukarki /jej typ i właściwości/, modemu /typ, prędkość, port szeregowy/, czy będziemy pracowali również w trybie graficznym X-Window systemu Linux /typ karty graficznej, pamięć, rozdzielczość/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>
            <a:hlinkClick r:id="" action="ppaction://hlinkshowjump?jump=nextslide"/>
          </p:cNvPr>
          <p:cNvSpPr/>
          <p:nvPr/>
        </p:nvSpPr>
        <p:spPr>
          <a:xfrm>
            <a:off x="7916760" y="358920"/>
            <a:ext cx="1079640" cy="360360"/>
          </a:xfrm>
          <a:custGeom>
            <a:avLst/>
            <a:gdLst>
              <a:gd name="textAreaLeft" fmla="*/ 23040 w 1079640"/>
              <a:gd name="textAreaRight" fmla="*/ 1056600 w 1079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671" h="21600">
                <a:moveTo>
                  <a:pt x="0" y="0"/>
                </a:moveTo>
                <a:lnTo>
                  <a:pt x="64671" y="0"/>
                </a:lnTo>
                <a:lnTo>
                  <a:pt x="64671" y="21600"/>
                </a:lnTo>
                <a:lnTo>
                  <a:pt x="0" y="21600"/>
                </a:lnTo>
                <a:close/>
              </a:path>
              <a:path fill="lightenLess" w="64671" h="21600">
                <a:moveTo>
                  <a:pt x="0" y="0"/>
                </a:moveTo>
                <a:lnTo>
                  <a:pt x="64671" y="0"/>
                </a:lnTo>
                <a:lnTo>
                  <a:pt x="63271" y="1400"/>
                </a:lnTo>
                <a:lnTo>
                  <a:pt x="1400" y="1400"/>
                </a:lnTo>
                <a:close/>
              </a:path>
              <a:path fill="darken" w="64671" h="21600">
                <a:moveTo>
                  <a:pt x="64671" y="0"/>
                </a:moveTo>
                <a:lnTo>
                  <a:pt x="64671" y="21600"/>
                </a:lnTo>
                <a:lnTo>
                  <a:pt x="63271" y="20200"/>
                </a:lnTo>
                <a:lnTo>
                  <a:pt x="63271" y="1400"/>
                </a:lnTo>
                <a:close/>
              </a:path>
              <a:path fill="darkenLess" w="64671" h="21600">
                <a:moveTo>
                  <a:pt x="646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71" y="20200"/>
                </a:lnTo>
                <a:close/>
              </a:path>
              <a:path fill="lighten" w="646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671" h="21600">
                <a:moveTo>
                  <a:pt x="25329" y="3794"/>
                </a:moveTo>
                <a:lnTo>
                  <a:pt x="39342" y="10800"/>
                </a:lnTo>
                <a:lnTo>
                  <a:pt x="25329" y="17806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>
            <a:hlinkClick r:id="" action="ppaction://hlinkshowjump?jump=previousslide"/>
          </p:cNvPr>
          <p:cNvSpPr/>
          <p:nvPr/>
        </p:nvSpPr>
        <p:spPr>
          <a:xfrm>
            <a:off x="5757840" y="358920"/>
            <a:ext cx="1079640" cy="360360"/>
          </a:xfrm>
          <a:custGeom>
            <a:avLst/>
            <a:gdLst>
              <a:gd name="textAreaLeft" fmla="*/ 23040 w 1079640"/>
              <a:gd name="textAreaRight" fmla="*/ 1056600 w 1079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671" h="21600">
                <a:moveTo>
                  <a:pt x="0" y="0"/>
                </a:moveTo>
                <a:lnTo>
                  <a:pt x="64671" y="0"/>
                </a:lnTo>
                <a:lnTo>
                  <a:pt x="64671" y="21600"/>
                </a:lnTo>
                <a:lnTo>
                  <a:pt x="0" y="21600"/>
                </a:lnTo>
                <a:close/>
              </a:path>
              <a:path fill="lightenLess" w="64671" h="21600">
                <a:moveTo>
                  <a:pt x="0" y="0"/>
                </a:moveTo>
                <a:lnTo>
                  <a:pt x="64671" y="0"/>
                </a:lnTo>
                <a:lnTo>
                  <a:pt x="63271" y="1400"/>
                </a:lnTo>
                <a:lnTo>
                  <a:pt x="1400" y="1400"/>
                </a:lnTo>
                <a:close/>
              </a:path>
              <a:path fill="darken" w="64671" h="21600">
                <a:moveTo>
                  <a:pt x="64671" y="0"/>
                </a:moveTo>
                <a:lnTo>
                  <a:pt x="64671" y="21600"/>
                </a:lnTo>
                <a:lnTo>
                  <a:pt x="63271" y="20200"/>
                </a:lnTo>
                <a:lnTo>
                  <a:pt x="63271" y="1400"/>
                </a:lnTo>
                <a:close/>
              </a:path>
              <a:path fill="darkenLess" w="64671" h="21600">
                <a:moveTo>
                  <a:pt x="646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71" y="20200"/>
                </a:lnTo>
                <a:close/>
              </a:path>
              <a:path fill="lighten" w="646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671" h="21600">
                <a:moveTo>
                  <a:pt x="25329" y="10800"/>
                </a:moveTo>
                <a:lnTo>
                  <a:pt x="39342" y="3794"/>
                </a:lnTo>
                <a:lnTo>
                  <a:pt x="39342" y="17806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>
            <a:hlinkClick r:id="" action="ppaction://hlinkshowjump?jump=firstslide"/>
          </p:cNvPr>
          <p:cNvSpPr/>
          <p:nvPr/>
        </p:nvSpPr>
        <p:spPr>
          <a:xfrm>
            <a:off x="6837480" y="358920"/>
            <a:ext cx="1079280" cy="360360"/>
          </a:xfrm>
          <a:custGeom>
            <a:avLst/>
            <a:gdLst>
              <a:gd name="textAreaLeft" fmla="*/ 23040 w 1079280"/>
              <a:gd name="textAreaRight" fmla="*/ 1056240 w 107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649" h="21600">
                <a:moveTo>
                  <a:pt x="0" y="0"/>
                </a:moveTo>
                <a:lnTo>
                  <a:pt x="64649" y="0"/>
                </a:lnTo>
                <a:lnTo>
                  <a:pt x="64649" y="21600"/>
                </a:lnTo>
                <a:lnTo>
                  <a:pt x="0" y="21600"/>
                </a:lnTo>
                <a:close/>
              </a:path>
              <a:path fill="lightenLess" w="64649" h="21600">
                <a:moveTo>
                  <a:pt x="0" y="0"/>
                </a:moveTo>
                <a:lnTo>
                  <a:pt x="64649" y="0"/>
                </a:lnTo>
                <a:lnTo>
                  <a:pt x="63249" y="1400"/>
                </a:lnTo>
                <a:lnTo>
                  <a:pt x="1400" y="1400"/>
                </a:lnTo>
                <a:close/>
              </a:path>
              <a:path fill="darken" w="64649" h="21600">
                <a:moveTo>
                  <a:pt x="64649" y="0"/>
                </a:moveTo>
                <a:lnTo>
                  <a:pt x="64649" y="21600"/>
                </a:lnTo>
                <a:lnTo>
                  <a:pt x="63249" y="20200"/>
                </a:lnTo>
                <a:lnTo>
                  <a:pt x="63249" y="1400"/>
                </a:lnTo>
                <a:close/>
              </a:path>
              <a:path fill="darkenLess" w="64649" h="21600">
                <a:moveTo>
                  <a:pt x="646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49" y="20200"/>
                </a:lnTo>
                <a:close/>
              </a:path>
              <a:path fill="lighten" w="646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649" h="21600">
                <a:moveTo>
                  <a:pt x="32325" y="3837"/>
                </a:moveTo>
                <a:lnTo>
                  <a:pt x="34901" y="6448"/>
                </a:lnTo>
                <a:lnTo>
                  <a:pt x="34901" y="4707"/>
                </a:lnTo>
                <a:lnTo>
                  <a:pt x="36676" y="4707"/>
                </a:lnTo>
                <a:lnTo>
                  <a:pt x="36676" y="8224"/>
                </a:lnTo>
                <a:lnTo>
                  <a:pt x="39288" y="10800"/>
                </a:lnTo>
                <a:lnTo>
                  <a:pt x="37634" y="10800"/>
                </a:lnTo>
                <a:lnTo>
                  <a:pt x="37634" y="17989"/>
                </a:lnTo>
                <a:lnTo>
                  <a:pt x="27015" y="17989"/>
                </a:lnTo>
                <a:lnTo>
                  <a:pt x="27015" y="10800"/>
                </a:lnTo>
                <a:lnTo>
                  <a:pt x="25362" y="10800"/>
                </a:lnTo>
                <a:close/>
              </a:path>
              <a:path fill="darkenLess" w="64649" h="21600">
                <a:moveTo>
                  <a:pt x="34901" y="6448"/>
                </a:moveTo>
                <a:lnTo>
                  <a:pt x="34901" y="4707"/>
                </a:lnTo>
                <a:lnTo>
                  <a:pt x="36676" y="4707"/>
                </a:lnTo>
                <a:lnTo>
                  <a:pt x="36676" y="8224"/>
                </a:lnTo>
                <a:close/>
              </a:path>
              <a:path fill="darkenLess" w="64649" h="21600">
                <a:moveTo>
                  <a:pt x="31402" y="14299"/>
                </a:moveTo>
                <a:lnTo>
                  <a:pt x="33247" y="14299"/>
                </a:lnTo>
                <a:lnTo>
                  <a:pt x="33247" y="17989"/>
                </a:lnTo>
                <a:lnTo>
                  <a:pt x="37634" y="17989"/>
                </a:lnTo>
                <a:lnTo>
                  <a:pt x="37634" y="10800"/>
                </a:lnTo>
                <a:lnTo>
                  <a:pt x="27015" y="10800"/>
                </a:lnTo>
                <a:lnTo>
                  <a:pt x="27015" y="17989"/>
                </a:lnTo>
                <a:lnTo>
                  <a:pt x="31402" y="17989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962160" y="846000"/>
            <a:ext cx="5181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3333ff"/>
                </a:solidFill>
                <a:latin typeface="Georgia"/>
              </a:rPr>
              <a:t>Linux Mandrake 6.1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13" name="linux_4" descr=""/>
          <p:cNvPicPr/>
          <p:nvPr/>
        </p:nvPicPr>
        <p:blipFill>
          <a:blip r:embed="rId1"/>
          <a:stretch/>
        </p:blipFill>
        <p:spPr>
          <a:xfrm>
            <a:off x="0" y="6019920"/>
            <a:ext cx="604800" cy="717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79630-D34A-4FAA-880A-B5BEF354FBF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1438200"/>
            <a:ext cx="9144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Georgia"/>
              </a:rPr>
              <a:t>Została wykryta myszka w naszym systemie. Porty szeregowe COM1 i COM2 znane z Windows i DOS-a tutaj mają oznaczenia </a:t>
            </a:r>
            <a:r>
              <a:rPr b="1" lang="pl-PL" sz="1200" spc="-1" strike="noStrike">
                <a:solidFill>
                  <a:srgbClr val="000000"/>
                </a:solidFill>
                <a:latin typeface="Georgia"/>
              </a:rPr>
              <a:t>/dev/ttyS0</a:t>
            </a:r>
            <a:r>
              <a:rPr b="0" lang="pl-PL" sz="1200" spc="-1" strike="noStrike">
                <a:solidFill>
                  <a:srgbClr val="000000"/>
                </a:solidFill>
                <a:latin typeface="Georgia"/>
              </a:rPr>
              <a:t> oraz </a:t>
            </a:r>
            <a:r>
              <a:rPr b="1" lang="pl-PL" sz="1200" spc="-1" strike="noStrike">
                <a:solidFill>
                  <a:srgbClr val="000000"/>
                </a:solidFill>
                <a:latin typeface="Georgia"/>
              </a:rPr>
              <a:t>/dev/ttyS1</a:t>
            </a:r>
            <a:r>
              <a:rPr b="0" lang="pl-PL" sz="1200" spc="-1" strike="noStrike">
                <a:solidFill>
                  <a:srgbClr val="000000"/>
                </a:solidFill>
                <a:latin typeface="Georgi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>
            <a:hlinkClick r:id="" action="ppaction://hlinkshowjump?jump=nextslide"/>
          </p:cNvPr>
          <p:cNvSpPr/>
          <p:nvPr/>
        </p:nvSpPr>
        <p:spPr>
          <a:xfrm>
            <a:off x="7916760" y="358920"/>
            <a:ext cx="1079640" cy="360360"/>
          </a:xfrm>
          <a:custGeom>
            <a:avLst/>
            <a:gdLst>
              <a:gd name="textAreaLeft" fmla="*/ 23040 w 1079640"/>
              <a:gd name="textAreaRight" fmla="*/ 1056600 w 1079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671" h="21600">
                <a:moveTo>
                  <a:pt x="0" y="0"/>
                </a:moveTo>
                <a:lnTo>
                  <a:pt x="64671" y="0"/>
                </a:lnTo>
                <a:lnTo>
                  <a:pt x="64671" y="21600"/>
                </a:lnTo>
                <a:lnTo>
                  <a:pt x="0" y="21600"/>
                </a:lnTo>
                <a:close/>
              </a:path>
              <a:path fill="lightenLess" w="64671" h="21600">
                <a:moveTo>
                  <a:pt x="0" y="0"/>
                </a:moveTo>
                <a:lnTo>
                  <a:pt x="64671" y="0"/>
                </a:lnTo>
                <a:lnTo>
                  <a:pt x="63271" y="1400"/>
                </a:lnTo>
                <a:lnTo>
                  <a:pt x="1400" y="1400"/>
                </a:lnTo>
                <a:close/>
              </a:path>
              <a:path fill="darken" w="64671" h="21600">
                <a:moveTo>
                  <a:pt x="64671" y="0"/>
                </a:moveTo>
                <a:lnTo>
                  <a:pt x="64671" y="21600"/>
                </a:lnTo>
                <a:lnTo>
                  <a:pt x="63271" y="20200"/>
                </a:lnTo>
                <a:lnTo>
                  <a:pt x="63271" y="1400"/>
                </a:lnTo>
                <a:close/>
              </a:path>
              <a:path fill="darkenLess" w="64671" h="21600">
                <a:moveTo>
                  <a:pt x="646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71" y="20200"/>
                </a:lnTo>
                <a:close/>
              </a:path>
              <a:path fill="lighten" w="646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671" h="21600">
                <a:moveTo>
                  <a:pt x="25329" y="3794"/>
                </a:moveTo>
                <a:lnTo>
                  <a:pt x="39342" y="10800"/>
                </a:lnTo>
                <a:lnTo>
                  <a:pt x="25329" y="17806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>
            <a:hlinkClick r:id="" action="ppaction://hlinkshowjump?jump=previousslide"/>
          </p:cNvPr>
          <p:cNvSpPr/>
          <p:nvPr/>
        </p:nvSpPr>
        <p:spPr>
          <a:xfrm>
            <a:off x="5757840" y="358920"/>
            <a:ext cx="1079640" cy="360360"/>
          </a:xfrm>
          <a:custGeom>
            <a:avLst/>
            <a:gdLst>
              <a:gd name="textAreaLeft" fmla="*/ 23040 w 1079640"/>
              <a:gd name="textAreaRight" fmla="*/ 1056600 w 1079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671" h="21600">
                <a:moveTo>
                  <a:pt x="0" y="0"/>
                </a:moveTo>
                <a:lnTo>
                  <a:pt x="64671" y="0"/>
                </a:lnTo>
                <a:lnTo>
                  <a:pt x="64671" y="21600"/>
                </a:lnTo>
                <a:lnTo>
                  <a:pt x="0" y="21600"/>
                </a:lnTo>
                <a:close/>
              </a:path>
              <a:path fill="lightenLess" w="64671" h="21600">
                <a:moveTo>
                  <a:pt x="0" y="0"/>
                </a:moveTo>
                <a:lnTo>
                  <a:pt x="64671" y="0"/>
                </a:lnTo>
                <a:lnTo>
                  <a:pt x="63271" y="1400"/>
                </a:lnTo>
                <a:lnTo>
                  <a:pt x="1400" y="1400"/>
                </a:lnTo>
                <a:close/>
              </a:path>
              <a:path fill="darken" w="64671" h="21600">
                <a:moveTo>
                  <a:pt x="64671" y="0"/>
                </a:moveTo>
                <a:lnTo>
                  <a:pt x="64671" y="21600"/>
                </a:lnTo>
                <a:lnTo>
                  <a:pt x="63271" y="20200"/>
                </a:lnTo>
                <a:lnTo>
                  <a:pt x="63271" y="1400"/>
                </a:lnTo>
                <a:close/>
              </a:path>
              <a:path fill="darkenLess" w="64671" h="21600">
                <a:moveTo>
                  <a:pt x="646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71" y="20200"/>
                </a:lnTo>
                <a:close/>
              </a:path>
              <a:path fill="lighten" w="646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671" h="21600">
                <a:moveTo>
                  <a:pt x="25329" y="10800"/>
                </a:moveTo>
                <a:lnTo>
                  <a:pt x="39342" y="3794"/>
                </a:lnTo>
                <a:lnTo>
                  <a:pt x="39342" y="17806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>
            <a:hlinkClick r:id="" action="ppaction://hlinkshowjump?jump=firstslide"/>
          </p:cNvPr>
          <p:cNvSpPr/>
          <p:nvPr/>
        </p:nvSpPr>
        <p:spPr>
          <a:xfrm>
            <a:off x="6837480" y="358920"/>
            <a:ext cx="1079280" cy="360360"/>
          </a:xfrm>
          <a:custGeom>
            <a:avLst/>
            <a:gdLst>
              <a:gd name="textAreaLeft" fmla="*/ 23040 w 1079280"/>
              <a:gd name="textAreaRight" fmla="*/ 1056240 w 107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649" h="21600">
                <a:moveTo>
                  <a:pt x="0" y="0"/>
                </a:moveTo>
                <a:lnTo>
                  <a:pt x="64649" y="0"/>
                </a:lnTo>
                <a:lnTo>
                  <a:pt x="64649" y="21600"/>
                </a:lnTo>
                <a:lnTo>
                  <a:pt x="0" y="21600"/>
                </a:lnTo>
                <a:close/>
              </a:path>
              <a:path fill="lightenLess" w="64649" h="21600">
                <a:moveTo>
                  <a:pt x="0" y="0"/>
                </a:moveTo>
                <a:lnTo>
                  <a:pt x="64649" y="0"/>
                </a:lnTo>
                <a:lnTo>
                  <a:pt x="63249" y="1400"/>
                </a:lnTo>
                <a:lnTo>
                  <a:pt x="1400" y="1400"/>
                </a:lnTo>
                <a:close/>
              </a:path>
              <a:path fill="darken" w="64649" h="21600">
                <a:moveTo>
                  <a:pt x="64649" y="0"/>
                </a:moveTo>
                <a:lnTo>
                  <a:pt x="64649" y="21600"/>
                </a:lnTo>
                <a:lnTo>
                  <a:pt x="63249" y="20200"/>
                </a:lnTo>
                <a:lnTo>
                  <a:pt x="63249" y="1400"/>
                </a:lnTo>
                <a:close/>
              </a:path>
              <a:path fill="darkenLess" w="64649" h="21600">
                <a:moveTo>
                  <a:pt x="646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49" y="20200"/>
                </a:lnTo>
                <a:close/>
              </a:path>
              <a:path fill="lighten" w="646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649" h="21600">
                <a:moveTo>
                  <a:pt x="32325" y="3837"/>
                </a:moveTo>
                <a:lnTo>
                  <a:pt x="34901" y="6448"/>
                </a:lnTo>
                <a:lnTo>
                  <a:pt x="34901" y="4707"/>
                </a:lnTo>
                <a:lnTo>
                  <a:pt x="36676" y="4707"/>
                </a:lnTo>
                <a:lnTo>
                  <a:pt x="36676" y="8224"/>
                </a:lnTo>
                <a:lnTo>
                  <a:pt x="39288" y="10800"/>
                </a:lnTo>
                <a:lnTo>
                  <a:pt x="37634" y="10800"/>
                </a:lnTo>
                <a:lnTo>
                  <a:pt x="37634" y="17989"/>
                </a:lnTo>
                <a:lnTo>
                  <a:pt x="27015" y="17989"/>
                </a:lnTo>
                <a:lnTo>
                  <a:pt x="27015" y="10800"/>
                </a:lnTo>
                <a:lnTo>
                  <a:pt x="25362" y="10800"/>
                </a:lnTo>
                <a:close/>
              </a:path>
              <a:path fill="darkenLess" w="64649" h="21600">
                <a:moveTo>
                  <a:pt x="34901" y="6448"/>
                </a:moveTo>
                <a:lnTo>
                  <a:pt x="34901" y="4707"/>
                </a:lnTo>
                <a:lnTo>
                  <a:pt x="36676" y="4707"/>
                </a:lnTo>
                <a:lnTo>
                  <a:pt x="36676" y="8224"/>
                </a:lnTo>
                <a:close/>
              </a:path>
              <a:path fill="darkenLess" w="64649" h="21600">
                <a:moveTo>
                  <a:pt x="31402" y="14299"/>
                </a:moveTo>
                <a:lnTo>
                  <a:pt x="33247" y="14299"/>
                </a:lnTo>
                <a:lnTo>
                  <a:pt x="33247" y="17989"/>
                </a:lnTo>
                <a:lnTo>
                  <a:pt x="37634" y="17989"/>
                </a:lnTo>
                <a:lnTo>
                  <a:pt x="37634" y="10800"/>
                </a:lnTo>
                <a:lnTo>
                  <a:pt x="27015" y="10800"/>
                </a:lnTo>
                <a:lnTo>
                  <a:pt x="27015" y="17989"/>
                </a:lnTo>
                <a:lnTo>
                  <a:pt x="31402" y="17989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962160" y="846000"/>
            <a:ext cx="5181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3333ff"/>
                </a:solidFill>
                <a:latin typeface="Georgia"/>
              </a:rPr>
              <a:t>Linux Mandrake 6.1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19" name="17portmyszy" descr=""/>
          <p:cNvPicPr/>
          <p:nvPr/>
        </p:nvPicPr>
        <p:blipFill>
          <a:blip r:embed="rId1"/>
          <a:stretch/>
        </p:blipFill>
        <p:spPr>
          <a:xfrm>
            <a:off x="2158920" y="2158920"/>
            <a:ext cx="5491080" cy="3595680"/>
          </a:xfrm>
          <a:prstGeom prst="rect">
            <a:avLst/>
          </a:prstGeom>
          <a:ln w="0">
            <a:noFill/>
          </a:ln>
        </p:spPr>
      </p:pic>
      <p:pic>
        <p:nvPicPr>
          <p:cNvPr id="220" name="linux_4" descr=""/>
          <p:cNvPicPr/>
          <p:nvPr/>
        </p:nvPicPr>
        <p:blipFill>
          <a:blip r:embed="rId2"/>
          <a:stretch/>
        </p:blipFill>
        <p:spPr>
          <a:xfrm>
            <a:off x="1905120" y="5334120"/>
            <a:ext cx="604800" cy="717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E44D6-618B-474A-BC97-038F142A017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>
            <a:hlinkClick r:id="" action="ppaction://hlinkshowjump?jump=nextslide"/>
          </p:cNvPr>
          <p:cNvSpPr/>
          <p:nvPr/>
        </p:nvSpPr>
        <p:spPr>
          <a:xfrm>
            <a:off x="7916760" y="358920"/>
            <a:ext cx="1079640" cy="360360"/>
          </a:xfrm>
          <a:custGeom>
            <a:avLst/>
            <a:gdLst>
              <a:gd name="textAreaLeft" fmla="*/ 23040 w 1079640"/>
              <a:gd name="textAreaRight" fmla="*/ 1056600 w 1079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671" h="21600">
                <a:moveTo>
                  <a:pt x="0" y="0"/>
                </a:moveTo>
                <a:lnTo>
                  <a:pt x="64671" y="0"/>
                </a:lnTo>
                <a:lnTo>
                  <a:pt x="64671" y="21600"/>
                </a:lnTo>
                <a:lnTo>
                  <a:pt x="0" y="21600"/>
                </a:lnTo>
                <a:close/>
              </a:path>
              <a:path fill="lightenLess" w="64671" h="21600">
                <a:moveTo>
                  <a:pt x="0" y="0"/>
                </a:moveTo>
                <a:lnTo>
                  <a:pt x="64671" y="0"/>
                </a:lnTo>
                <a:lnTo>
                  <a:pt x="63271" y="1400"/>
                </a:lnTo>
                <a:lnTo>
                  <a:pt x="1400" y="1400"/>
                </a:lnTo>
                <a:close/>
              </a:path>
              <a:path fill="darken" w="64671" h="21600">
                <a:moveTo>
                  <a:pt x="64671" y="0"/>
                </a:moveTo>
                <a:lnTo>
                  <a:pt x="64671" y="21600"/>
                </a:lnTo>
                <a:lnTo>
                  <a:pt x="63271" y="20200"/>
                </a:lnTo>
                <a:lnTo>
                  <a:pt x="63271" y="1400"/>
                </a:lnTo>
                <a:close/>
              </a:path>
              <a:path fill="darkenLess" w="64671" h="21600">
                <a:moveTo>
                  <a:pt x="646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71" y="20200"/>
                </a:lnTo>
                <a:close/>
              </a:path>
              <a:path fill="lighten" w="646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671" h="21600">
                <a:moveTo>
                  <a:pt x="25329" y="3794"/>
                </a:moveTo>
                <a:lnTo>
                  <a:pt x="39342" y="10800"/>
                </a:lnTo>
                <a:lnTo>
                  <a:pt x="25329" y="17806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>
            <a:hlinkClick r:id="" action="ppaction://hlinkshowjump?jump=previousslide"/>
          </p:cNvPr>
          <p:cNvSpPr/>
          <p:nvPr/>
        </p:nvSpPr>
        <p:spPr>
          <a:xfrm>
            <a:off x="5757840" y="358920"/>
            <a:ext cx="1079640" cy="360360"/>
          </a:xfrm>
          <a:custGeom>
            <a:avLst/>
            <a:gdLst>
              <a:gd name="textAreaLeft" fmla="*/ 23040 w 1079640"/>
              <a:gd name="textAreaRight" fmla="*/ 1056600 w 1079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671" h="21600">
                <a:moveTo>
                  <a:pt x="0" y="0"/>
                </a:moveTo>
                <a:lnTo>
                  <a:pt x="64671" y="0"/>
                </a:lnTo>
                <a:lnTo>
                  <a:pt x="64671" y="21600"/>
                </a:lnTo>
                <a:lnTo>
                  <a:pt x="0" y="21600"/>
                </a:lnTo>
                <a:close/>
              </a:path>
              <a:path fill="lightenLess" w="64671" h="21600">
                <a:moveTo>
                  <a:pt x="0" y="0"/>
                </a:moveTo>
                <a:lnTo>
                  <a:pt x="64671" y="0"/>
                </a:lnTo>
                <a:lnTo>
                  <a:pt x="63271" y="1400"/>
                </a:lnTo>
                <a:lnTo>
                  <a:pt x="1400" y="1400"/>
                </a:lnTo>
                <a:close/>
              </a:path>
              <a:path fill="darken" w="64671" h="21600">
                <a:moveTo>
                  <a:pt x="64671" y="0"/>
                </a:moveTo>
                <a:lnTo>
                  <a:pt x="64671" y="21600"/>
                </a:lnTo>
                <a:lnTo>
                  <a:pt x="63271" y="20200"/>
                </a:lnTo>
                <a:lnTo>
                  <a:pt x="63271" y="1400"/>
                </a:lnTo>
                <a:close/>
              </a:path>
              <a:path fill="darkenLess" w="64671" h="21600">
                <a:moveTo>
                  <a:pt x="646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71" y="20200"/>
                </a:lnTo>
                <a:close/>
              </a:path>
              <a:path fill="lighten" w="646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671" h="21600">
                <a:moveTo>
                  <a:pt x="25329" y="10800"/>
                </a:moveTo>
                <a:lnTo>
                  <a:pt x="39342" y="3794"/>
                </a:lnTo>
                <a:lnTo>
                  <a:pt x="39342" y="17806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>
            <a:hlinkClick r:id="" action="ppaction://hlinkshowjump?jump=firstslide"/>
          </p:cNvPr>
          <p:cNvSpPr/>
          <p:nvPr/>
        </p:nvSpPr>
        <p:spPr>
          <a:xfrm>
            <a:off x="6837480" y="358920"/>
            <a:ext cx="1079280" cy="360360"/>
          </a:xfrm>
          <a:custGeom>
            <a:avLst/>
            <a:gdLst>
              <a:gd name="textAreaLeft" fmla="*/ 23040 w 1079280"/>
              <a:gd name="textAreaRight" fmla="*/ 1056240 w 107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649" h="21600">
                <a:moveTo>
                  <a:pt x="0" y="0"/>
                </a:moveTo>
                <a:lnTo>
                  <a:pt x="64649" y="0"/>
                </a:lnTo>
                <a:lnTo>
                  <a:pt x="64649" y="21600"/>
                </a:lnTo>
                <a:lnTo>
                  <a:pt x="0" y="21600"/>
                </a:lnTo>
                <a:close/>
              </a:path>
              <a:path fill="lightenLess" w="64649" h="21600">
                <a:moveTo>
                  <a:pt x="0" y="0"/>
                </a:moveTo>
                <a:lnTo>
                  <a:pt x="64649" y="0"/>
                </a:lnTo>
                <a:lnTo>
                  <a:pt x="63249" y="1400"/>
                </a:lnTo>
                <a:lnTo>
                  <a:pt x="1400" y="1400"/>
                </a:lnTo>
                <a:close/>
              </a:path>
              <a:path fill="darken" w="64649" h="21600">
                <a:moveTo>
                  <a:pt x="64649" y="0"/>
                </a:moveTo>
                <a:lnTo>
                  <a:pt x="64649" y="21600"/>
                </a:lnTo>
                <a:lnTo>
                  <a:pt x="63249" y="20200"/>
                </a:lnTo>
                <a:lnTo>
                  <a:pt x="63249" y="1400"/>
                </a:lnTo>
                <a:close/>
              </a:path>
              <a:path fill="darkenLess" w="64649" h="21600">
                <a:moveTo>
                  <a:pt x="646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49" y="20200"/>
                </a:lnTo>
                <a:close/>
              </a:path>
              <a:path fill="lighten" w="646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649" h="21600">
                <a:moveTo>
                  <a:pt x="32325" y="3837"/>
                </a:moveTo>
                <a:lnTo>
                  <a:pt x="34901" y="6448"/>
                </a:lnTo>
                <a:lnTo>
                  <a:pt x="34901" y="4707"/>
                </a:lnTo>
                <a:lnTo>
                  <a:pt x="36676" y="4707"/>
                </a:lnTo>
                <a:lnTo>
                  <a:pt x="36676" y="8224"/>
                </a:lnTo>
                <a:lnTo>
                  <a:pt x="39288" y="10800"/>
                </a:lnTo>
                <a:lnTo>
                  <a:pt x="37634" y="10800"/>
                </a:lnTo>
                <a:lnTo>
                  <a:pt x="37634" y="17989"/>
                </a:lnTo>
                <a:lnTo>
                  <a:pt x="27015" y="17989"/>
                </a:lnTo>
                <a:lnTo>
                  <a:pt x="27015" y="10800"/>
                </a:lnTo>
                <a:lnTo>
                  <a:pt x="25362" y="10800"/>
                </a:lnTo>
                <a:close/>
              </a:path>
              <a:path fill="darkenLess" w="64649" h="21600">
                <a:moveTo>
                  <a:pt x="34901" y="6448"/>
                </a:moveTo>
                <a:lnTo>
                  <a:pt x="34901" y="4707"/>
                </a:lnTo>
                <a:lnTo>
                  <a:pt x="36676" y="4707"/>
                </a:lnTo>
                <a:lnTo>
                  <a:pt x="36676" y="8224"/>
                </a:lnTo>
                <a:close/>
              </a:path>
              <a:path fill="darkenLess" w="64649" h="21600">
                <a:moveTo>
                  <a:pt x="31402" y="14299"/>
                </a:moveTo>
                <a:lnTo>
                  <a:pt x="33247" y="14299"/>
                </a:lnTo>
                <a:lnTo>
                  <a:pt x="33247" y="17989"/>
                </a:lnTo>
                <a:lnTo>
                  <a:pt x="37634" y="17989"/>
                </a:lnTo>
                <a:lnTo>
                  <a:pt x="37634" y="10800"/>
                </a:lnTo>
                <a:lnTo>
                  <a:pt x="27015" y="10800"/>
                </a:lnTo>
                <a:lnTo>
                  <a:pt x="27015" y="17989"/>
                </a:lnTo>
                <a:lnTo>
                  <a:pt x="31402" y="17989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962160" y="846000"/>
            <a:ext cx="5181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3333ff"/>
                </a:solidFill>
                <a:latin typeface="Georgia"/>
              </a:rPr>
              <a:t>Linux Mandrake 6.1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1438200"/>
            <a:ext cx="9144000" cy="33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4762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1" lang="pl-PL" sz="1200" spc="-1" strike="noStrike">
                <a:solidFill>
                  <a:srgbClr val="000000"/>
                </a:solidFill>
                <a:latin typeface="Georgia"/>
              </a:rPr>
              <a:t>Założenia instalacyjne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2858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Georgi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Georgia"/>
              </a:rPr>
              <a:t>komputer klasy Pentium lub wyższej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2858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Georgi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Georgia"/>
              </a:rPr>
              <a:t>co najmniej 32 MB pamięci RAM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2858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Georgi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Georgia"/>
              </a:rPr>
              <a:t>1.6 GB na dysku /wolne miejsce lub pusta partycja/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2858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Georgi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Georgia"/>
              </a:rPr>
              <a:t>typowa karta graficzna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2858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Georgi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Georgia"/>
              </a:rPr>
              <a:t>typowa karta muzyczna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2858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Georgi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Georgia"/>
              </a:rPr>
              <a:t>modem wewnętrzny lub zewnętrzny /do połączenia z Internetem/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2858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Georgi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Georgia"/>
              </a:rPr>
              <a:t>napęd CD ROM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2858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Georgi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Georgia"/>
              </a:rPr>
              <a:t>mysz szeregowa lub PS/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2858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Georgi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Georgia"/>
              </a:rPr>
              <a:t>płyta instalacyjna Linux Mandrake 6.1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2858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Georgi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Georgia"/>
              </a:rPr>
              <a:t>dyskietka 3.5 – ca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linux_4" descr=""/>
          <p:cNvPicPr/>
          <p:nvPr/>
        </p:nvPicPr>
        <p:blipFill>
          <a:blip r:embed="rId1"/>
          <a:stretch/>
        </p:blipFill>
        <p:spPr>
          <a:xfrm>
            <a:off x="0" y="6019920"/>
            <a:ext cx="604800" cy="717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A6576-7BAE-4D34-8A56-27BC08D41BC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0" y="143820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Georgia"/>
              </a:rPr>
              <a:t>Dopracujmy dla naszej myszki „szczegóły” – zaznaczmy opcję myszki </a:t>
            </a:r>
            <a:r>
              <a:rPr b="1" lang="pl-PL" sz="1200" spc="-1" strike="noStrike">
                <a:solidFill>
                  <a:srgbClr val="000000"/>
                </a:solidFill>
                <a:latin typeface="Georgia"/>
              </a:rPr>
              <a:t>Generic</a:t>
            </a:r>
            <a:r>
              <a:rPr b="0" lang="pl-PL" sz="1200" spc="-1" strike="noStrike">
                <a:solidFill>
                  <a:srgbClr val="000000"/>
                </a:solidFill>
                <a:latin typeface="Georgia"/>
              </a:rPr>
              <a:t> 3 przyciskowej jeśli taką posiadamy lub zezwólmy na emulację trzeciego przycisku przez równoczesne naciśnięcie obydwu przycisków naszej myszk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>
            <a:hlinkClick r:id="" action="ppaction://hlinkshowjump?jump=nextslide"/>
          </p:cNvPr>
          <p:cNvSpPr/>
          <p:nvPr/>
        </p:nvSpPr>
        <p:spPr>
          <a:xfrm>
            <a:off x="7916760" y="358920"/>
            <a:ext cx="1079640" cy="360360"/>
          </a:xfrm>
          <a:custGeom>
            <a:avLst/>
            <a:gdLst>
              <a:gd name="textAreaLeft" fmla="*/ 23040 w 1079640"/>
              <a:gd name="textAreaRight" fmla="*/ 1056600 w 1079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671" h="21600">
                <a:moveTo>
                  <a:pt x="0" y="0"/>
                </a:moveTo>
                <a:lnTo>
                  <a:pt x="64671" y="0"/>
                </a:lnTo>
                <a:lnTo>
                  <a:pt x="64671" y="21600"/>
                </a:lnTo>
                <a:lnTo>
                  <a:pt x="0" y="21600"/>
                </a:lnTo>
                <a:close/>
              </a:path>
              <a:path fill="lightenLess" w="64671" h="21600">
                <a:moveTo>
                  <a:pt x="0" y="0"/>
                </a:moveTo>
                <a:lnTo>
                  <a:pt x="64671" y="0"/>
                </a:lnTo>
                <a:lnTo>
                  <a:pt x="63271" y="1400"/>
                </a:lnTo>
                <a:lnTo>
                  <a:pt x="1400" y="1400"/>
                </a:lnTo>
                <a:close/>
              </a:path>
              <a:path fill="darken" w="64671" h="21600">
                <a:moveTo>
                  <a:pt x="64671" y="0"/>
                </a:moveTo>
                <a:lnTo>
                  <a:pt x="64671" y="21600"/>
                </a:lnTo>
                <a:lnTo>
                  <a:pt x="63271" y="20200"/>
                </a:lnTo>
                <a:lnTo>
                  <a:pt x="63271" y="1400"/>
                </a:lnTo>
                <a:close/>
              </a:path>
              <a:path fill="darkenLess" w="64671" h="21600">
                <a:moveTo>
                  <a:pt x="646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71" y="20200"/>
                </a:lnTo>
                <a:close/>
              </a:path>
              <a:path fill="lighten" w="646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671" h="21600">
                <a:moveTo>
                  <a:pt x="25329" y="3794"/>
                </a:moveTo>
                <a:lnTo>
                  <a:pt x="39342" y="10800"/>
                </a:lnTo>
                <a:lnTo>
                  <a:pt x="25329" y="17806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>
            <a:hlinkClick r:id="" action="ppaction://hlinkshowjump?jump=previousslide"/>
          </p:cNvPr>
          <p:cNvSpPr/>
          <p:nvPr/>
        </p:nvSpPr>
        <p:spPr>
          <a:xfrm>
            <a:off x="5757840" y="358920"/>
            <a:ext cx="1079640" cy="360360"/>
          </a:xfrm>
          <a:custGeom>
            <a:avLst/>
            <a:gdLst>
              <a:gd name="textAreaLeft" fmla="*/ 23040 w 1079640"/>
              <a:gd name="textAreaRight" fmla="*/ 1056600 w 1079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671" h="21600">
                <a:moveTo>
                  <a:pt x="0" y="0"/>
                </a:moveTo>
                <a:lnTo>
                  <a:pt x="64671" y="0"/>
                </a:lnTo>
                <a:lnTo>
                  <a:pt x="64671" y="21600"/>
                </a:lnTo>
                <a:lnTo>
                  <a:pt x="0" y="21600"/>
                </a:lnTo>
                <a:close/>
              </a:path>
              <a:path fill="lightenLess" w="64671" h="21600">
                <a:moveTo>
                  <a:pt x="0" y="0"/>
                </a:moveTo>
                <a:lnTo>
                  <a:pt x="64671" y="0"/>
                </a:lnTo>
                <a:lnTo>
                  <a:pt x="63271" y="1400"/>
                </a:lnTo>
                <a:lnTo>
                  <a:pt x="1400" y="1400"/>
                </a:lnTo>
                <a:close/>
              </a:path>
              <a:path fill="darken" w="64671" h="21600">
                <a:moveTo>
                  <a:pt x="64671" y="0"/>
                </a:moveTo>
                <a:lnTo>
                  <a:pt x="64671" y="21600"/>
                </a:lnTo>
                <a:lnTo>
                  <a:pt x="63271" y="20200"/>
                </a:lnTo>
                <a:lnTo>
                  <a:pt x="63271" y="1400"/>
                </a:lnTo>
                <a:close/>
              </a:path>
              <a:path fill="darkenLess" w="64671" h="21600">
                <a:moveTo>
                  <a:pt x="646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71" y="20200"/>
                </a:lnTo>
                <a:close/>
              </a:path>
              <a:path fill="lighten" w="646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671" h="21600">
                <a:moveTo>
                  <a:pt x="25329" y="10800"/>
                </a:moveTo>
                <a:lnTo>
                  <a:pt x="39342" y="3794"/>
                </a:lnTo>
                <a:lnTo>
                  <a:pt x="39342" y="17806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>
            <a:hlinkClick r:id="" action="ppaction://hlinkshowjump?jump=firstslide"/>
          </p:cNvPr>
          <p:cNvSpPr/>
          <p:nvPr/>
        </p:nvSpPr>
        <p:spPr>
          <a:xfrm>
            <a:off x="6837480" y="358920"/>
            <a:ext cx="1079280" cy="360360"/>
          </a:xfrm>
          <a:custGeom>
            <a:avLst/>
            <a:gdLst>
              <a:gd name="textAreaLeft" fmla="*/ 23040 w 1079280"/>
              <a:gd name="textAreaRight" fmla="*/ 1056240 w 107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649" h="21600">
                <a:moveTo>
                  <a:pt x="0" y="0"/>
                </a:moveTo>
                <a:lnTo>
                  <a:pt x="64649" y="0"/>
                </a:lnTo>
                <a:lnTo>
                  <a:pt x="64649" y="21600"/>
                </a:lnTo>
                <a:lnTo>
                  <a:pt x="0" y="21600"/>
                </a:lnTo>
                <a:close/>
              </a:path>
              <a:path fill="lightenLess" w="64649" h="21600">
                <a:moveTo>
                  <a:pt x="0" y="0"/>
                </a:moveTo>
                <a:lnTo>
                  <a:pt x="64649" y="0"/>
                </a:lnTo>
                <a:lnTo>
                  <a:pt x="63249" y="1400"/>
                </a:lnTo>
                <a:lnTo>
                  <a:pt x="1400" y="1400"/>
                </a:lnTo>
                <a:close/>
              </a:path>
              <a:path fill="darken" w="64649" h="21600">
                <a:moveTo>
                  <a:pt x="64649" y="0"/>
                </a:moveTo>
                <a:lnTo>
                  <a:pt x="64649" y="21600"/>
                </a:lnTo>
                <a:lnTo>
                  <a:pt x="63249" y="20200"/>
                </a:lnTo>
                <a:lnTo>
                  <a:pt x="63249" y="1400"/>
                </a:lnTo>
                <a:close/>
              </a:path>
              <a:path fill="darkenLess" w="64649" h="21600">
                <a:moveTo>
                  <a:pt x="646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49" y="20200"/>
                </a:lnTo>
                <a:close/>
              </a:path>
              <a:path fill="lighten" w="646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649" h="21600">
                <a:moveTo>
                  <a:pt x="32325" y="3837"/>
                </a:moveTo>
                <a:lnTo>
                  <a:pt x="34901" y="6448"/>
                </a:lnTo>
                <a:lnTo>
                  <a:pt x="34901" y="4707"/>
                </a:lnTo>
                <a:lnTo>
                  <a:pt x="36676" y="4707"/>
                </a:lnTo>
                <a:lnTo>
                  <a:pt x="36676" y="8224"/>
                </a:lnTo>
                <a:lnTo>
                  <a:pt x="39288" y="10800"/>
                </a:lnTo>
                <a:lnTo>
                  <a:pt x="37634" y="10800"/>
                </a:lnTo>
                <a:lnTo>
                  <a:pt x="37634" y="17989"/>
                </a:lnTo>
                <a:lnTo>
                  <a:pt x="27015" y="17989"/>
                </a:lnTo>
                <a:lnTo>
                  <a:pt x="27015" y="10800"/>
                </a:lnTo>
                <a:lnTo>
                  <a:pt x="25362" y="10800"/>
                </a:lnTo>
                <a:close/>
              </a:path>
              <a:path fill="darkenLess" w="64649" h="21600">
                <a:moveTo>
                  <a:pt x="34901" y="6448"/>
                </a:moveTo>
                <a:lnTo>
                  <a:pt x="34901" y="4707"/>
                </a:lnTo>
                <a:lnTo>
                  <a:pt x="36676" y="4707"/>
                </a:lnTo>
                <a:lnTo>
                  <a:pt x="36676" y="8224"/>
                </a:lnTo>
                <a:close/>
              </a:path>
              <a:path fill="darkenLess" w="64649" h="21600">
                <a:moveTo>
                  <a:pt x="31402" y="14299"/>
                </a:moveTo>
                <a:lnTo>
                  <a:pt x="33247" y="14299"/>
                </a:lnTo>
                <a:lnTo>
                  <a:pt x="33247" y="17989"/>
                </a:lnTo>
                <a:lnTo>
                  <a:pt x="37634" y="17989"/>
                </a:lnTo>
                <a:lnTo>
                  <a:pt x="37634" y="10800"/>
                </a:lnTo>
                <a:lnTo>
                  <a:pt x="27015" y="10800"/>
                </a:lnTo>
                <a:lnTo>
                  <a:pt x="27015" y="17989"/>
                </a:lnTo>
                <a:lnTo>
                  <a:pt x="31402" y="17989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62160" y="846000"/>
            <a:ext cx="5181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3333ff"/>
                </a:solidFill>
                <a:latin typeface="Georgia"/>
              </a:rPr>
              <a:t>Linux Mandrake 6.1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6" name="16myszwykryta" descr=""/>
          <p:cNvPicPr/>
          <p:nvPr/>
        </p:nvPicPr>
        <p:blipFill>
          <a:blip r:embed="rId1"/>
          <a:stretch/>
        </p:blipFill>
        <p:spPr>
          <a:xfrm>
            <a:off x="2158920" y="2158920"/>
            <a:ext cx="5491080" cy="3595680"/>
          </a:xfrm>
          <a:prstGeom prst="rect">
            <a:avLst/>
          </a:prstGeom>
          <a:ln w="0">
            <a:noFill/>
          </a:ln>
        </p:spPr>
      </p:pic>
      <p:pic>
        <p:nvPicPr>
          <p:cNvPr id="227" name="linux_4" descr=""/>
          <p:cNvPicPr/>
          <p:nvPr/>
        </p:nvPicPr>
        <p:blipFill>
          <a:blip r:embed="rId2"/>
          <a:stretch/>
        </p:blipFill>
        <p:spPr>
          <a:xfrm>
            <a:off x="1905120" y="5334120"/>
            <a:ext cx="604800" cy="717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A4555-71F1-4308-A67F-7D4B2048F18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0" y="1438200"/>
            <a:ext cx="9144000" cy="5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Georgia"/>
              </a:rPr>
              <a:t>Decydujemy, czy konfigurować będziemy nasz komputer do pracy w sieci lokalnej /wtedy musi posiadać kartę sieciową/. Jeśli nie chcemy sieci opuszczamy ten proces i przenosimy się na slajd </a:t>
            </a:r>
            <a:r>
              <a:rPr b="0" lang="pl-PL" sz="1600" spc="-1" strike="noStrike" u="sng">
                <a:solidFill>
                  <a:srgbClr val="ff0000"/>
                </a:solidFill>
                <a:uFillTx/>
                <a:latin typeface="Georgia"/>
                <a:hlinkClick r:id="rId1" action="ppaction://hlinksldjump"/>
              </a:rPr>
              <a:t>26</a:t>
            </a:r>
            <a:r>
              <a:rPr b="0" lang="pl-PL" sz="16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>
            <a:hlinkClick r:id="" action="ppaction://hlinkshowjump?jump=nextslide"/>
          </p:cNvPr>
          <p:cNvSpPr/>
          <p:nvPr/>
        </p:nvSpPr>
        <p:spPr>
          <a:xfrm>
            <a:off x="7916760" y="358920"/>
            <a:ext cx="1079640" cy="360360"/>
          </a:xfrm>
          <a:custGeom>
            <a:avLst/>
            <a:gdLst>
              <a:gd name="textAreaLeft" fmla="*/ 23040 w 1079640"/>
              <a:gd name="textAreaRight" fmla="*/ 1056600 w 1079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671" h="21600">
                <a:moveTo>
                  <a:pt x="0" y="0"/>
                </a:moveTo>
                <a:lnTo>
                  <a:pt x="64671" y="0"/>
                </a:lnTo>
                <a:lnTo>
                  <a:pt x="64671" y="21600"/>
                </a:lnTo>
                <a:lnTo>
                  <a:pt x="0" y="21600"/>
                </a:lnTo>
                <a:close/>
              </a:path>
              <a:path fill="lightenLess" w="64671" h="21600">
                <a:moveTo>
                  <a:pt x="0" y="0"/>
                </a:moveTo>
                <a:lnTo>
                  <a:pt x="64671" y="0"/>
                </a:lnTo>
                <a:lnTo>
                  <a:pt x="63271" y="1400"/>
                </a:lnTo>
                <a:lnTo>
                  <a:pt x="1400" y="1400"/>
                </a:lnTo>
                <a:close/>
              </a:path>
              <a:path fill="darken" w="64671" h="21600">
                <a:moveTo>
                  <a:pt x="64671" y="0"/>
                </a:moveTo>
                <a:lnTo>
                  <a:pt x="64671" y="21600"/>
                </a:lnTo>
                <a:lnTo>
                  <a:pt x="63271" y="20200"/>
                </a:lnTo>
                <a:lnTo>
                  <a:pt x="63271" y="1400"/>
                </a:lnTo>
                <a:close/>
              </a:path>
              <a:path fill="darkenLess" w="64671" h="21600">
                <a:moveTo>
                  <a:pt x="646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71" y="20200"/>
                </a:lnTo>
                <a:close/>
              </a:path>
              <a:path fill="lighten" w="646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671" h="21600">
                <a:moveTo>
                  <a:pt x="25329" y="3794"/>
                </a:moveTo>
                <a:lnTo>
                  <a:pt x="39342" y="10800"/>
                </a:lnTo>
                <a:lnTo>
                  <a:pt x="25329" y="17806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>
            <a:hlinkClick r:id="" action="ppaction://hlinkshowjump?jump=previousslide"/>
          </p:cNvPr>
          <p:cNvSpPr/>
          <p:nvPr/>
        </p:nvSpPr>
        <p:spPr>
          <a:xfrm>
            <a:off x="5757840" y="358920"/>
            <a:ext cx="1079640" cy="360360"/>
          </a:xfrm>
          <a:custGeom>
            <a:avLst/>
            <a:gdLst>
              <a:gd name="textAreaLeft" fmla="*/ 23040 w 1079640"/>
              <a:gd name="textAreaRight" fmla="*/ 1056600 w 1079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671" h="21600">
                <a:moveTo>
                  <a:pt x="0" y="0"/>
                </a:moveTo>
                <a:lnTo>
                  <a:pt x="64671" y="0"/>
                </a:lnTo>
                <a:lnTo>
                  <a:pt x="64671" y="21600"/>
                </a:lnTo>
                <a:lnTo>
                  <a:pt x="0" y="21600"/>
                </a:lnTo>
                <a:close/>
              </a:path>
              <a:path fill="lightenLess" w="64671" h="21600">
                <a:moveTo>
                  <a:pt x="0" y="0"/>
                </a:moveTo>
                <a:lnTo>
                  <a:pt x="64671" y="0"/>
                </a:lnTo>
                <a:lnTo>
                  <a:pt x="63271" y="1400"/>
                </a:lnTo>
                <a:lnTo>
                  <a:pt x="1400" y="1400"/>
                </a:lnTo>
                <a:close/>
              </a:path>
              <a:path fill="darken" w="64671" h="21600">
                <a:moveTo>
                  <a:pt x="64671" y="0"/>
                </a:moveTo>
                <a:lnTo>
                  <a:pt x="64671" y="21600"/>
                </a:lnTo>
                <a:lnTo>
                  <a:pt x="63271" y="20200"/>
                </a:lnTo>
                <a:lnTo>
                  <a:pt x="63271" y="1400"/>
                </a:lnTo>
                <a:close/>
              </a:path>
              <a:path fill="darkenLess" w="64671" h="21600">
                <a:moveTo>
                  <a:pt x="646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71" y="20200"/>
                </a:lnTo>
                <a:close/>
              </a:path>
              <a:path fill="lighten" w="646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671" h="21600">
                <a:moveTo>
                  <a:pt x="25329" y="10800"/>
                </a:moveTo>
                <a:lnTo>
                  <a:pt x="39342" y="3794"/>
                </a:lnTo>
                <a:lnTo>
                  <a:pt x="39342" y="17806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>
            <a:hlinkClick r:id="" action="ppaction://hlinkshowjump?jump=firstslide"/>
          </p:cNvPr>
          <p:cNvSpPr/>
          <p:nvPr/>
        </p:nvSpPr>
        <p:spPr>
          <a:xfrm>
            <a:off x="6837480" y="358920"/>
            <a:ext cx="1079280" cy="360360"/>
          </a:xfrm>
          <a:custGeom>
            <a:avLst/>
            <a:gdLst>
              <a:gd name="textAreaLeft" fmla="*/ 23040 w 1079280"/>
              <a:gd name="textAreaRight" fmla="*/ 1056240 w 107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649" h="21600">
                <a:moveTo>
                  <a:pt x="0" y="0"/>
                </a:moveTo>
                <a:lnTo>
                  <a:pt x="64649" y="0"/>
                </a:lnTo>
                <a:lnTo>
                  <a:pt x="64649" y="21600"/>
                </a:lnTo>
                <a:lnTo>
                  <a:pt x="0" y="21600"/>
                </a:lnTo>
                <a:close/>
              </a:path>
              <a:path fill="lightenLess" w="64649" h="21600">
                <a:moveTo>
                  <a:pt x="0" y="0"/>
                </a:moveTo>
                <a:lnTo>
                  <a:pt x="64649" y="0"/>
                </a:lnTo>
                <a:lnTo>
                  <a:pt x="63249" y="1400"/>
                </a:lnTo>
                <a:lnTo>
                  <a:pt x="1400" y="1400"/>
                </a:lnTo>
                <a:close/>
              </a:path>
              <a:path fill="darken" w="64649" h="21600">
                <a:moveTo>
                  <a:pt x="64649" y="0"/>
                </a:moveTo>
                <a:lnTo>
                  <a:pt x="64649" y="21600"/>
                </a:lnTo>
                <a:lnTo>
                  <a:pt x="63249" y="20200"/>
                </a:lnTo>
                <a:lnTo>
                  <a:pt x="63249" y="1400"/>
                </a:lnTo>
                <a:close/>
              </a:path>
              <a:path fill="darkenLess" w="64649" h="21600">
                <a:moveTo>
                  <a:pt x="646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49" y="20200"/>
                </a:lnTo>
                <a:close/>
              </a:path>
              <a:path fill="lighten" w="646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649" h="21600">
                <a:moveTo>
                  <a:pt x="32325" y="3837"/>
                </a:moveTo>
                <a:lnTo>
                  <a:pt x="34901" y="6448"/>
                </a:lnTo>
                <a:lnTo>
                  <a:pt x="34901" y="4707"/>
                </a:lnTo>
                <a:lnTo>
                  <a:pt x="36676" y="4707"/>
                </a:lnTo>
                <a:lnTo>
                  <a:pt x="36676" y="8224"/>
                </a:lnTo>
                <a:lnTo>
                  <a:pt x="39288" y="10800"/>
                </a:lnTo>
                <a:lnTo>
                  <a:pt x="37634" y="10800"/>
                </a:lnTo>
                <a:lnTo>
                  <a:pt x="37634" y="17989"/>
                </a:lnTo>
                <a:lnTo>
                  <a:pt x="27015" y="17989"/>
                </a:lnTo>
                <a:lnTo>
                  <a:pt x="27015" y="10800"/>
                </a:lnTo>
                <a:lnTo>
                  <a:pt x="25362" y="10800"/>
                </a:lnTo>
                <a:close/>
              </a:path>
              <a:path fill="darkenLess" w="64649" h="21600">
                <a:moveTo>
                  <a:pt x="34901" y="6448"/>
                </a:moveTo>
                <a:lnTo>
                  <a:pt x="34901" y="4707"/>
                </a:lnTo>
                <a:lnTo>
                  <a:pt x="36676" y="4707"/>
                </a:lnTo>
                <a:lnTo>
                  <a:pt x="36676" y="8224"/>
                </a:lnTo>
                <a:close/>
              </a:path>
              <a:path fill="darkenLess" w="64649" h="21600">
                <a:moveTo>
                  <a:pt x="31402" y="14299"/>
                </a:moveTo>
                <a:lnTo>
                  <a:pt x="33247" y="14299"/>
                </a:lnTo>
                <a:lnTo>
                  <a:pt x="33247" y="17989"/>
                </a:lnTo>
                <a:lnTo>
                  <a:pt x="37634" y="17989"/>
                </a:lnTo>
                <a:lnTo>
                  <a:pt x="37634" y="10800"/>
                </a:lnTo>
                <a:lnTo>
                  <a:pt x="27015" y="10800"/>
                </a:lnTo>
                <a:lnTo>
                  <a:pt x="27015" y="17989"/>
                </a:lnTo>
                <a:lnTo>
                  <a:pt x="31402" y="17989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962160" y="846000"/>
            <a:ext cx="5181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3333ff"/>
                </a:solidFill>
                <a:latin typeface="Georgia"/>
              </a:rPr>
              <a:t>Linux Mandrake 6.1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33" name="18czylonfigsiec" descr=""/>
          <p:cNvPicPr/>
          <p:nvPr/>
        </p:nvPicPr>
        <p:blipFill>
          <a:blip r:embed="rId2"/>
          <a:stretch/>
        </p:blipFill>
        <p:spPr>
          <a:xfrm>
            <a:off x="2158920" y="2158920"/>
            <a:ext cx="5491080" cy="3595680"/>
          </a:xfrm>
          <a:prstGeom prst="rect">
            <a:avLst/>
          </a:prstGeom>
          <a:ln w="0">
            <a:noFill/>
          </a:ln>
        </p:spPr>
      </p:pic>
      <p:pic>
        <p:nvPicPr>
          <p:cNvPr id="234" name="linux_4" descr=""/>
          <p:cNvPicPr/>
          <p:nvPr/>
        </p:nvPicPr>
        <p:blipFill>
          <a:blip r:embed="rId3"/>
          <a:stretch/>
        </p:blipFill>
        <p:spPr>
          <a:xfrm>
            <a:off x="1905120" y="5334120"/>
            <a:ext cx="604800" cy="717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0E353-641A-46B8-A394-784B7E62AA7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0" y="1438200"/>
            <a:ext cx="9144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Georgia"/>
              </a:rPr>
              <a:t>Informujemy system w jaki sposób pobierany będzie adres IP naszego komputera. Opcja </a:t>
            </a:r>
            <a:r>
              <a:rPr b="1" lang="pl-PL" sz="1200" spc="-1" strike="noStrike">
                <a:solidFill>
                  <a:srgbClr val="000000"/>
                </a:solidFill>
                <a:latin typeface="Georgia"/>
              </a:rPr>
              <a:t>BOOTP</a:t>
            </a:r>
            <a:r>
              <a:rPr b="0" lang="pl-PL" sz="1200" spc="-1" strike="noStrike">
                <a:solidFill>
                  <a:srgbClr val="000000"/>
                </a:solidFill>
                <a:latin typeface="Georgia"/>
              </a:rPr>
              <a:t> wymaga specjalnej karty sieciowej z pamięcią, metoda </a:t>
            </a:r>
            <a:r>
              <a:rPr b="1" lang="pl-PL" sz="1200" spc="-1" strike="noStrike">
                <a:solidFill>
                  <a:srgbClr val="000000"/>
                </a:solidFill>
                <a:latin typeface="Georgia"/>
              </a:rPr>
              <a:t>DHCP </a:t>
            </a:r>
            <a:r>
              <a:rPr b="0" lang="pl-PL" sz="1200" spc="-1" strike="noStrike">
                <a:solidFill>
                  <a:srgbClr val="000000"/>
                </a:solidFill>
                <a:latin typeface="Georgia"/>
              </a:rPr>
              <a:t>pobiera adres z serwera DHCP w naszej sieci lokalnej. Pełną kontrolę zachowujemy wybierając opcję </a:t>
            </a:r>
            <a:r>
              <a:rPr b="1" lang="pl-PL" sz="1200" spc="-1" strike="noStrike">
                <a:solidFill>
                  <a:srgbClr val="000000"/>
                </a:solidFill>
                <a:latin typeface="Georgia"/>
              </a:rPr>
              <a:t>Specify IP adress </a:t>
            </a:r>
            <a:r>
              <a:rPr b="0" lang="pl-PL" sz="1200" spc="-1" strike="noStrike">
                <a:solidFill>
                  <a:srgbClr val="000000"/>
                </a:solidFill>
                <a:latin typeface="Georgia"/>
              </a:rPr>
              <a:t>i tak też zrobim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>
            <a:hlinkClick r:id="" action="ppaction://hlinkshowjump?jump=nextslide"/>
          </p:cNvPr>
          <p:cNvSpPr/>
          <p:nvPr/>
        </p:nvSpPr>
        <p:spPr>
          <a:xfrm>
            <a:off x="7916760" y="358920"/>
            <a:ext cx="1079640" cy="360360"/>
          </a:xfrm>
          <a:custGeom>
            <a:avLst/>
            <a:gdLst>
              <a:gd name="textAreaLeft" fmla="*/ 23040 w 1079640"/>
              <a:gd name="textAreaRight" fmla="*/ 1056600 w 1079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671" h="21600">
                <a:moveTo>
                  <a:pt x="0" y="0"/>
                </a:moveTo>
                <a:lnTo>
                  <a:pt x="64671" y="0"/>
                </a:lnTo>
                <a:lnTo>
                  <a:pt x="64671" y="21600"/>
                </a:lnTo>
                <a:lnTo>
                  <a:pt x="0" y="21600"/>
                </a:lnTo>
                <a:close/>
              </a:path>
              <a:path fill="lightenLess" w="64671" h="21600">
                <a:moveTo>
                  <a:pt x="0" y="0"/>
                </a:moveTo>
                <a:lnTo>
                  <a:pt x="64671" y="0"/>
                </a:lnTo>
                <a:lnTo>
                  <a:pt x="63271" y="1400"/>
                </a:lnTo>
                <a:lnTo>
                  <a:pt x="1400" y="1400"/>
                </a:lnTo>
                <a:close/>
              </a:path>
              <a:path fill="darken" w="64671" h="21600">
                <a:moveTo>
                  <a:pt x="64671" y="0"/>
                </a:moveTo>
                <a:lnTo>
                  <a:pt x="64671" y="21600"/>
                </a:lnTo>
                <a:lnTo>
                  <a:pt x="63271" y="20200"/>
                </a:lnTo>
                <a:lnTo>
                  <a:pt x="63271" y="1400"/>
                </a:lnTo>
                <a:close/>
              </a:path>
              <a:path fill="darkenLess" w="64671" h="21600">
                <a:moveTo>
                  <a:pt x="646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71" y="20200"/>
                </a:lnTo>
                <a:close/>
              </a:path>
              <a:path fill="lighten" w="646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671" h="21600">
                <a:moveTo>
                  <a:pt x="25329" y="3794"/>
                </a:moveTo>
                <a:lnTo>
                  <a:pt x="39342" y="10800"/>
                </a:lnTo>
                <a:lnTo>
                  <a:pt x="25329" y="17806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>
            <a:hlinkClick r:id="" action="ppaction://hlinkshowjump?jump=previousslide"/>
          </p:cNvPr>
          <p:cNvSpPr/>
          <p:nvPr/>
        </p:nvSpPr>
        <p:spPr>
          <a:xfrm>
            <a:off x="5757840" y="358920"/>
            <a:ext cx="1079640" cy="360360"/>
          </a:xfrm>
          <a:custGeom>
            <a:avLst/>
            <a:gdLst>
              <a:gd name="textAreaLeft" fmla="*/ 23040 w 1079640"/>
              <a:gd name="textAreaRight" fmla="*/ 1056600 w 1079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671" h="21600">
                <a:moveTo>
                  <a:pt x="0" y="0"/>
                </a:moveTo>
                <a:lnTo>
                  <a:pt x="64671" y="0"/>
                </a:lnTo>
                <a:lnTo>
                  <a:pt x="64671" y="21600"/>
                </a:lnTo>
                <a:lnTo>
                  <a:pt x="0" y="21600"/>
                </a:lnTo>
                <a:close/>
              </a:path>
              <a:path fill="lightenLess" w="64671" h="21600">
                <a:moveTo>
                  <a:pt x="0" y="0"/>
                </a:moveTo>
                <a:lnTo>
                  <a:pt x="64671" y="0"/>
                </a:lnTo>
                <a:lnTo>
                  <a:pt x="63271" y="1400"/>
                </a:lnTo>
                <a:lnTo>
                  <a:pt x="1400" y="1400"/>
                </a:lnTo>
                <a:close/>
              </a:path>
              <a:path fill="darken" w="64671" h="21600">
                <a:moveTo>
                  <a:pt x="64671" y="0"/>
                </a:moveTo>
                <a:lnTo>
                  <a:pt x="64671" y="21600"/>
                </a:lnTo>
                <a:lnTo>
                  <a:pt x="63271" y="20200"/>
                </a:lnTo>
                <a:lnTo>
                  <a:pt x="63271" y="1400"/>
                </a:lnTo>
                <a:close/>
              </a:path>
              <a:path fill="darkenLess" w="64671" h="21600">
                <a:moveTo>
                  <a:pt x="646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71" y="20200"/>
                </a:lnTo>
                <a:close/>
              </a:path>
              <a:path fill="lighten" w="646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671" h="21600">
                <a:moveTo>
                  <a:pt x="25329" y="10800"/>
                </a:moveTo>
                <a:lnTo>
                  <a:pt x="39342" y="3794"/>
                </a:lnTo>
                <a:lnTo>
                  <a:pt x="39342" y="17806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>
            <a:hlinkClick r:id="" action="ppaction://hlinkshowjump?jump=firstslide"/>
          </p:cNvPr>
          <p:cNvSpPr/>
          <p:nvPr/>
        </p:nvSpPr>
        <p:spPr>
          <a:xfrm>
            <a:off x="6837480" y="358920"/>
            <a:ext cx="1079280" cy="360360"/>
          </a:xfrm>
          <a:custGeom>
            <a:avLst/>
            <a:gdLst>
              <a:gd name="textAreaLeft" fmla="*/ 23040 w 1079280"/>
              <a:gd name="textAreaRight" fmla="*/ 1056240 w 107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649" h="21600">
                <a:moveTo>
                  <a:pt x="0" y="0"/>
                </a:moveTo>
                <a:lnTo>
                  <a:pt x="64649" y="0"/>
                </a:lnTo>
                <a:lnTo>
                  <a:pt x="64649" y="21600"/>
                </a:lnTo>
                <a:lnTo>
                  <a:pt x="0" y="21600"/>
                </a:lnTo>
                <a:close/>
              </a:path>
              <a:path fill="lightenLess" w="64649" h="21600">
                <a:moveTo>
                  <a:pt x="0" y="0"/>
                </a:moveTo>
                <a:lnTo>
                  <a:pt x="64649" y="0"/>
                </a:lnTo>
                <a:lnTo>
                  <a:pt x="63249" y="1400"/>
                </a:lnTo>
                <a:lnTo>
                  <a:pt x="1400" y="1400"/>
                </a:lnTo>
                <a:close/>
              </a:path>
              <a:path fill="darken" w="64649" h="21600">
                <a:moveTo>
                  <a:pt x="64649" y="0"/>
                </a:moveTo>
                <a:lnTo>
                  <a:pt x="64649" y="21600"/>
                </a:lnTo>
                <a:lnTo>
                  <a:pt x="63249" y="20200"/>
                </a:lnTo>
                <a:lnTo>
                  <a:pt x="63249" y="1400"/>
                </a:lnTo>
                <a:close/>
              </a:path>
              <a:path fill="darkenLess" w="64649" h="21600">
                <a:moveTo>
                  <a:pt x="646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49" y="20200"/>
                </a:lnTo>
                <a:close/>
              </a:path>
              <a:path fill="lighten" w="646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649" h="21600">
                <a:moveTo>
                  <a:pt x="32325" y="3837"/>
                </a:moveTo>
                <a:lnTo>
                  <a:pt x="34901" y="6448"/>
                </a:lnTo>
                <a:lnTo>
                  <a:pt x="34901" y="4707"/>
                </a:lnTo>
                <a:lnTo>
                  <a:pt x="36676" y="4707"/>
                </a:lnTo>
                <a:lnTo>
                  <a:pt x="36676" y="8224"/>
                </a:lnTo>
                <a:lnTo>
                  <a:pt x="39288" y="10800"/>
                </a:lnTo>
                <a:lnTo>
                  <a:pt x="37634" y="10800"/>
                </a:lnTo>
                <a:lnTo>
                  <a:pt x="37634" y="17989"/>
                </a:lnTo>
                <a:lnTo>
                  <a:pt x="27015" y="17989"/>
                </a:lnTo>
                <a:lnTo>
                  <a:pt x="27015" y="10800"/>
                </a:lnTo>
                <a:lnTo>
                  <a:pt x="25362" y="10800"/>
                </a:lnTo>
                <a:close/>
              </a:path>
              <a:path fill="darkenLess" w="64649" h="21600">
                <a:moveTo>
                  <a:pt x="34901" y="6448"/>
                </a:moveTo>
                <a:lnTo>
                  <a:pt x="34901" y="4707"/>
                </a:lnTo>
                <a:lnTo>
                  <a:pt x="36676" y="4707"/>
                </a:lnTo>
                <a:lnTo>
                  <a:pt x="36676" y="8224"/>
                </a:lnTo>
                <a:close/>
              </a:path>
              <a:path fill="darkenLess" w="64649" h="21600">
                <a:moveTo>
                  <a:pt x="31402" y="14299"/>
                </a:moveTo>
                <a:lnTo>
                  <a:pt x="33247" y="14299"/>
                </a:lnTo>
                <a:lnTo>
                  <a:pt x="33247" y="17989"/>
                </a:lnTo>
                <a:lnTo>
                  <a:pt x="37634" y="17989"/>
                </a:lnTo>
                <a:lnTo>
                  <a:pt x="37634" y="10800"/>
                </a:lnTo>
                <a:lnTo>
                  <a:pt x="27015" y="10800"/>
                </a:lnTo>
                <a:lnTo>
                  <a:pt x="27015" y="17989"/>
                </a:lnTo>
                <a:lnTo>
                  <a:pt x="31402" y="17989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962160" y="846000"/>
            <a:ext cx="5181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3333ff"/>
                </a:solidFill>
                <a:latin typeface="Georgia"/>
              </a:rPr>
              <a:t>Linux Mandrake 6.1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40" name="19skadipwziac" descr=""/>
          <p:cNvPicPr/>
          <p:nvPr/>
        </p:nvPicPr>
        <p:blipFill>
          <a:blip r:embed="rId1"/>
          <a:stretch/>
        </p:blipFill>
        <p:spPr>
          <a:xfrm>
            <a:off x="2158920" y="2158920"/>
            <a:ext cx="5491080" cy="3595680"/>
          </a:xfrm>
          <a:prstGeom prst="rect">
            <a:avLst/>
          </a:prstGeom>
          <a:ln w="0">
            <a:noFill/>
          </a:ln>
        </p:spPr>
      </p:pic>
      <p:pic>
        <p:nvPicPr>
          <p:cNvPr id="241" name="linux_4" descr=""/>
          <p:cNvPicPr/>
          <p:nvPr/>
        </p:nvPicPr>
        <p:blipFill>
          <a:blip r:embed="rId2"/>
          <a:stretch/>
        </p:blipFill>
        <p:spPr>
          <a:xfrm>
            <a:off x="1905120" y="5334120"/>
            <a:ext cx="604800" cy="717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1717E-ECFD-4327-AE9A-60C3A4706F8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0" y="1438200"/>
            <a:ext cx="9144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Georgia"/>
              </a:rPr>
              <a:t>Wpisujemy dane, które otrzymaliśmy od administratora sieci lokalnej. Możemy też eksperymentować w domu sami 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Georgia"/>
              </a:rPr>
              <a:t>Adress IP : </a:t>
            </a:r>
            <a:r>
              <a:rPr b="1" lang="pl-PL" sz="1200" spc="-1" strike="noStrike">
                <a:solidFill>
                  <a:srgbClr val="000000"/>
                </a:solidFill>
                <a:latin typeface="Georgia"/>
              </a:rPr>
              <a:t>192.168.1.1</a:t>
            </a:r>
            <a:r>
              <a:rPr b="0" lang="pl-PL" sz="1200" spc="-1" strike="noStrike">
                <a:solidFill>
                  <a:srgbClr val="000000"/>
                </a:solidFill>
                <a:latin typeface="Georgia"/>
              </a:rPr>
              <a:t>, Netmask : </a:t>
            </a:r>
            <a:r>
              <a:rPr b="1" lang="pl-PL" sz="1200" spc="-1" strike="noStrike">
                <a:solidFill>
                  <a:srgbClr val="000000"/>
                </a:solidFill>
                <a:latin typeface="Georgia"/>
              </a:rPr>
              <a:t>255.255.255.0</a:t>
            </a:r>
            <a:r>
              <a:rPr b="0" lang="pl-PL" sz="1200" spc="-1" strike="noStrike">
                <a:solidFill>
                  <a:srgbClr val="000000"/>
                </a:solidFill>
                <a:latin typeface="Georgia"/>
              </a:rPr>
              <a:t>, Gateway : brak, Primary nameserver : </a:t>
            </a:r>
            <a:r>
              <a:rPr b="1" lang="pl-PL" sz="1200" spc="-1" strike="noStrike">
                <a:solidFill>
                  <a:srgbClr val="000000"/>
                </a:solidFill>
                <a:latin typeface="Georgia"/>
              </a:rPr>
              <a:t>194.204.159.1</a:t>
            </a:r>
            <a:r>
              <a:rPr b="0" lang="pl-PL" sz="1200" spc="-1" strike="noStrike">
                <a:solidFill>
                  <a:srgbClr val="000000"/>
                </a:solidFill>
                <a:latin typeface="Georgia"/>
              </a:rPr>
              <a:t> /TP S.A./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>
            <a:hlinkClick r:id="" action="ppaction://hlinkshowjump?jump=nextslide"/>
          </p:cNvPr>
          <p:cNvSpPr/>
          <p:nvPr/>
        </p:nvSpPr>
        <p:spPr>
          <a:xfrm>
            <a:off x="7916760" y="358920"/>
            <a:ext cx="1079640" cy="360360"/>
          </a:xfrm>
          <a:custGeom>
            <a:avLst/>
            <a:gdLst>
              <a:gd name="textAreaLeft" fmla="*/ 23040 w 1079640"/>
              <a:gd name="textAreaRight" fmla="*/ 1056600 w 1079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671" h="21600">
                <a:moveTo>
                  <a:pt x="0" y="0"/>
                </a:moveTo>
                <a:lnTo>
                  <a:pt x="64671" y="0"/>
                </a:lnTo>
                <a:lnTo>
                  <a:pt x="64671" y="21600"/>
                </a:lnTo>
                <a:lnTo>
                  <a:pt x="0" y="21600"/>
                </a:lnTo>
                <a:close/>
              </a:path>
              <a:path fill="lightenLess" w="64671" h="21600">
                <a:moveTo>
                  <a:pt x="0" y="0"/>
                </a:moveTo>
                <a:lnTo>
                  <a:pt x="64671" y="0"/>
                </a:lnTo>
                <a:lnTo>
                  <a:pt x="63271" y="1400"/>
                </a:lnTo>
                <a:lnTo>
                  <a:pt x="1400" y="1400"/>
                </a:lnTo>
                <a:close/>
              </a:path>
              <a:path fill="darken" w="64671" h="21600">
                <a:moveTo>
                  <a:pt x="64671" y="0"/>
                </a:moveTo>
                <a:lnTo>
                  <a:pt x="64671" y="21600"/>
                </a:lnTo>
                <a:lnTo>
                  <a:pt x="63271" y="20200"/>
                </a:lnTo>
                <a:lnTo>
                  <a:pt x="63271" y="1400"/>
                </a:lnTo>
                <a:close/>
              </a:path>
              <a:path fill="darkenLess" w="64671" h="21600">
                <a:moveTo>
                  <a:pt x="646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71" y="20200"/>
                </a:lnTo>
                <a:close/>
              </a:path>
              <a:path fill="lighten" w="646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671" h="21600">
                <a:moveTo>
                  <a:pt x="25329" y="3794"/>
                </a:moveTo>
                <a:lnTo>
                  <a:pt x="39342" y="10800"/>
                </a:lnTo>
                <a:lnTo>
                  <a:pt x="25329" y="17806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>
            <a:hlinkClick r:id="" action="ppaction://hlinkshowjump?jump=previousslide"/>
          </p:cNvPr>
          <p:cNvSpPr/>
          <p:nvPr/>
        </p:nvSpPr>
        <p:spPr>
          <a:xfrm>
            <a:off x="5757840" y="358920"/>
            <a:ext cx="1079640" cy="360360"/>
          </a:xfrm>
          <a:custGeom>
            <a:avLst/>
            <a:gdLst>
              <a:gd name="textAreaLeft" fmla="*/ 23040 w 1079640"/>
              <a:gd name="textAreaRight" fmla="*/ 1056600 w 1079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671" h="21600">
                <a:moveTo>
                  <a:pt x="0" y="0"/>
                </a:moveTo>
                <a:lnTo>
                  <a:pt x="64671" y="0"/>
                </a:lnTo>
                <a:lnTo>
                  <a:pt x="64671" y="21600"/>
                </a:lnTo>
                <a:lnTo>
                  <a:pt x="0" y="21600"/>
                </a:lnTo>
                <a:close/>
              </a:path>
              <a:path fill="lightenLess" w="64671" h="21600">
                <a:moveTo>
                  <a:pt x="0" y="0"/>
                </a:moveTo>
                <a:lnTo>
                  <a:pt x="64671" y="0"/>
                </a:lnTo>
                <a:lnTo>
                  <a:pt x="63271" y="1400"/>
                </a:lnTo>
                <a:lnTo>
                  <a:pt x="1400" y="1400"/>
                </a:lnTo>
                <a:close/>
              </a:path>
              <a:path fill="darken" w="64671" h="21600">
                <a:moveTo>
                  <a:pt x="64671" y="0"/>
                </a:moveTo>
                <a:lnTo>
                  <a:pt x="64671" y="21600"/>
                </a:lnTo>
                <a:lnTo>
                  <a:pt x="63271" y="20200"/>
                </a:lnTo>
                <a:lnTo>
                  <a:pt x="63271" y="1400"/>
                </a:lnTo>
                <a:close/>
              </a:path>
              <a:path fill="darkenLess" w="64671" h="21600">
                <a:moveTo>
                  <a:pt x="646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71" y="20200"/>
                </a:lnTo>
                <a:close/>
              </a:path>
              <a:path fill="lighten" w="646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671" h="21600">
                <a:moveTo>
                  <a:pt x="25329" y="10800"/>
                </a:moveTo>
                <a:lnTo>
                  <a:pt x="39342" y="3794"/>
                </a:lnTo>
                <a:lnTo>
                  <a:pt x="39342" y="17806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>
            <a:hlinkClick r:id="" action="ppaction://hlinkshowjump?jump=firstslide"/>
          </p:cNvPr>
          <p:cNvSpPr/>
          <p:nvPr/>
        </p:nvSpPr>
        <p:spPr>
          <a:xfrm>
            <a:off x="6837480" y="358920"/>
            <a:ext cx="1079280" cy="360360"/>
          </a:xfrm>
          <a:custGeom>
            <a:avLst/>
            <a:gdLst>
              <a:gd name="textAreaLeft" fmla="*/ 23040 w 1079280"/>
              <a:gd name="textAreaRight" fmla="*/ 1056240 w 107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649" h="21600">
                <a:moveTo>
                  <a:pt x="0" y="0"/>
                </a:moveTo>
                <a:lnTo>
                  <a:pt x="64649" y="0"/>
                </a:lnTo>
                <a:lnTo>
                  <a:pt x="64649" y="21600"/>
                </a:lnTo>
                <a:lnTo>
                  <a:pt x="0" y="21600"/>
                </a:lnTo>
                <a:close/>
              </a:path>
              <a:path fill="lightenLess" w="64649" h="21600">
                <a:moveTo>
                  <a:pt x="0" y="0"/>
                </a:moveTo>
                <a:lnTo>
                  <a:pt x="64649" y="0"/>
                </a:lnTo>
                <a:lnTo>
                  <a:pt x="63249" y="1400"/>
                </a:lnTo>
                <a:lnTo>
                  <a:pt x="1400" y="1400"/>
                </a:lnTo>
                <a:close/>
              </a:path>
              <a:path fill="darken" w="64649" h="21600">
                <a:moveTo>
                  <a:pt x="64649" y="0"/>
                </a:moveTo>
                <a:lnTo>
                  <a:pt x="64649" y="21600"/>
                </a:lnTo>
                <a:lnTo>
                  <a:pt x="63249" y="20200"/>
                </a:lnTo>
                <a:lnTo>
                  <a:pt x="63249" y="1400"/>
                </a:lnTo>
                <a:close/>
              </a:path>
              <a:path fill="darkenLess" w="64649" h="21600">
                <a:moveTo>
                  <a:pt x="646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49" y="20200"/>
                </a:lnTo>
                <a:close/>
              </a:path>
              <a:path fill="lighten" w="646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649" h="21600">
                <a:moveTo>
                  <a:pt x="32325" y="3837"/>
                </a:moveTo>
                <a:lnTo>
                  <a:pt x="34901" y="6448"/>
                </a:lnTo>
                <a:lnTo>
                  <a:pt x="34901" y="4707"/>
                </a:lnTo>
                <a:lnTo>
                  <a:pt x="36676" y="4707"/>
                </a:lnTo>
                <a:lnTo>
                  <a:pt x="36676" y="8224"/>
                </a:lnTo>
                <a:lnTo>
                  <a:pt x="39288" y="10800"/>
                </a:lnTo>
                <a:lnTo>
                  <a:pt x="37634" y="10800"/>
                </a:lnTo>
                <a:lnTo>
                  <a:pt x="37634" y="17989"/>
                </a:lnTo>
                <a:lnTo>
                  <a:pt x="27015" y="17989"/>
                </a:lnTo>
                <a:lnTo>
                  <a:pt x="27015" y="10800"/>
                </a:lnTo>
                <a:lnTo>
                  <a:pt x="25362" y="10800"/>
                </a:lnTo>
                <a:close/>
              </a:path>
              <a:path fill="darkenLess" w="64649" h="21600">
                <a:moveTo>
                  <a:pt x="34901" y="6448"/>
                </a:moveTo>
                <a:lnTo>
                  <a:pt x="34901" y="4707"/>
                </a:lnTo>
                <a:lnTo>
                  <a:pt x="36676" y="4707"/>
                </a:lnTo>
                <a:lnTo>
                  <a:pt x="36676" y="8224"/>
                </a:lnTo>
                <a:close/>
              </a:path>
              <a:path fill="darkenLess" w="64649" h="21600">
                <a:moveTo>
                  <a:pt x="31402" y="14299"/>
                </a:moveTo>
                <a:lnTo>
                  <a:pt x="33247" y="14299"/>
                </a:lnTo>
                <a:lnTo>
                  <a:pt x="33247" y="17989"/>
                </a:lnTo>
                <a:lnTo>
                  <a:pt x="37634" y="17989"/>
                </a:lnTo>
                <a:lnTo>
                  <a:pt x="37634" y="10800"/>
                </a:lnTo>
                <a:lnTo>
                  <a:pt x="27015" y="10800"/>
                </a:lnTo>
                <a:lnTo>
                  <a:pt x="27015" y="17989"/>
                </a:lnTo>
                <a:lnTo>
                  <a:pt x="31402" y="17989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962160" y="846000"/>
            <a:ext cx="5181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3333ff"/>
                </a:solidFill>
                <a:latin typeface="Georgia"/>
              </a:rPr>
              <a:t>Linux Mandrake 6.1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47" name="20wpisyadresow" descr=""/>
          <p:cNvPicPr/>
          <p:nvPr/>
        </p:nvPicPr>
        <p:blipFill>
          <a:blip r:embed="rId1"/>
          <a:stretch/>
        </p:blipFill>
        <p:spPr>
          <a:xfrm>
            <a:off x="2158920" y="2158920"/>
            <a:ext cx="5491080" cy="3595680"/>
          </a:xfrm>
          <a:prstGeom prst="rect">
            <a:avLst/>
          </a:prstGeom>
          <a:ln w="0">
            <a:noFill/>
          </a:ln>
        </p:spPr>
      </p:pic>
      <p:pic>
        <p:nvPicPr>
          <p:cNvPr id="248" name="linux_4" descr=""/>
          <p:cNvPicPr/>
          <p:nvPr/>
        </p:nvPicPr>
        <p:blipFill>
          <a:blip r:embed="rId2"/>
          <a:stretch/>
        </p:blipFill>
        <p:spPr>
          <a:xfrm>
            <a:off x="1905120" y="5334120"/>
            <a:ext cx="604800" cy="717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DF111-A8C3-4D70-B542-4D5FB6724E5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0" y="1438200"/>
            <a:ext cx="9144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Georgia"/>
              </a:rPr>
              <a:t>Ustawiamy naszą domenę, nazwę naszego komputera w domenie i istniejące, dodatkowe „nameservery” tłumaczące adresy IP na domenowe, łatwiejsze do zapamiętania. Np.. Domain name : </a:t>
            </a:r>
            <a:r>
              <a:rPr b="1" lang="pl-PL" sz="1200" spc="-1" strike="noStrike">
                <a:solidFill>
                  <a:srgbClr val="000000"/>
                </a:solidFill>
                <a:latin typeface="Georgia"/>
              </a:rPr>
              <a:t>gim7.opole.pl</a:t>
            </a:r>
            <a:r>
              <a:rPr b="0" lang="pl-PL" sz="1200" spc="-1" strike="noStrike">
                <a:solidFill>
                  <a:srgbClr val="000000"/>
                </a:solidFill>
                <a:latin typeface="Georgia"/>
              </a:rPr>
              <a:t>, Host name : </a:t>
            </a:r>
            <a:r>
              <a:rPr b="1" lang="pl-PL" sz="1200" spc="-1" strike="noStrike">
                <a:solidFill>
                  <a:srgbClr val="000000"/>
                </a:solidFill>
                <a:latin typeface="Georgia"/>
              </a:rPr>
              <a:t>linux.gim7.opole.pl</a:t>
            </a:r>
            <a:r>
              <a:rPr b="0" lang="pl-PL" sz="1200" spc="-1" strike="noStrike">
                <a:solidFill>
                  <a:srgbClr val="000000"/>
                </a:solidFill>
                <a:latin typeface="Georgia"/>
              </a:rPr>
              <a:t>, pola dodatkowych „nameserverów” zostawić można pus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>
            <a:hlinkClick r:id="" action="ppaction://hlinkshowjump?jump=nextslide"/>
          </p:cNvPr>
          <p:cNvSpPr/>
          <p:nvPr/>
        </p:nvSpPr>
        <p:spPr>
          <a:xfrm>
            <a:off x="7916760" y="358920"/>
            <a:ext cx="1079640" cy="360360"/>
          </a:xfrm>
          <a:custGeom>
            <a:avLst/>
            <a:gdLst>
              <a:gd name="textAreaLeft" fmla="*/ 23040 w 1079640"/>
              <a:gd name="textAreaRight" fmla="*/ 1056600 w 1079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671" h="21600">
                <a:moveTo>
                  <a:pt x="0" y="0"/>
                </a:moveTo>
                <a:lnTo>
                  <a:pt x="64671" y="0"/>
                </a:lnTo>
                <a:lnTo>
                  <a:pt x="64671" y="21600"/>
                </a:lnTo>
                <a:lnTo>
                  <a:pt x="0" y="21600"/>
                </a:lnTo>
                <a:close/>
              </a:path>
              <a:path fill="lightenLess" w="64671" h="21600">
                <a:moveTo>
                  <a:pt x="0" y="0"/>
                </a:moveTo>
                <a:lnTo>
                  <a:pt x="64671" y="0"/>
                </a:lnTo>
                <a:lnTo>
                  <a:pt x="63271" y="1400"/>
                </a:lnTo>
                <a:lnTo>
                  <a:pt x="1400" y="1400"/>
                </a:lnTo>
                <a:close/>
              </a:path>
              <a:path fill="darken" w="64671" h="21600">
                <a:moveTo>
                  <a:pt x="64671" y="0"/>
                </a:moveTo>
                <a:lnTo>
                  <a:pt x="64671" y="21600"/>
                </a:lnTo>
                <a:lnTo>
                  <a:pt x="63271" y="20200"/>
                </a:lnTo>
                <a:lnTo>
                  <a:pt x="63271" y="1400"/>
                </a:lnTo>
                <a:close/>
              </a:path>
              <a:path fill="darkenLess" w="64671" h="21600">
                <a:moveTo>
                  <a:pt x="646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71" y="20200"/>
                </a:lnTo>
                <a:close/>
              </a:path>
              <a:path fill="lighten" w="646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671" h="21600">
                <a:moveTo>
                  <a:pt x="25329" y="3794"/>
                </a:moveTo>
                <a:lnTo>
                  <a:pt x="39342" y="10800"/>
                </a:lnTo>
                <a:lnTo>
                  <a:pt x="25329" y="17806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>
            <a:hlinkClick r:id="" action="ppaction://hlinkshowjump?jump=previousslide"/>
          </p:cNvPr>
          <p:cNvSpPr/>
          <p:nvPr/>
        </p:nvSpPr>
        <p:spPr>
          <a:xfrm>
            <a:off x="5757840" y="358920"/>
            <a:ext cx="1079640" cy="360360"/>
          </a:xfrm>
          <a:custGeom>
            <a:avLst/>
            <a:gdLst>
              <a:gd name="textAreaLeft" fmla="*/ 23040 w 1079640"/>
              <a:gd name="textAreaRight" fmla="*/ 1056600 w 1079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671" h="21600">
                <a:moveTo>
                  <a:pt x="0" y="0"/>
                </a:moveTo>
                <a:lnTo>
                  <a:pt x="64671" y="0"/>
                </a:lnTo>
                <a:lnTo>
                  <a:pt x="64671" y="21600"/>
                </a:lnTo>
                <a:lnTo>
                  <a:pt x="0" y="21600"/>
                </a:lnTo>
                <a:close/>
              </a:path>
              <a:path fill="lightenLess" w="64671" h="21600">
                <a:moveTo>
                  <a:pt x="0" y="0"/>
                </a:moveTo>
                <a:lnTo>
                  <a:pt x="64671" y="0"/>
                </a:lnTo>
                <a:lnTo>
                  <a:pt x="63271" y="1400"/>
                </a:lnTo>
                <a:lnTo>
                  <a:pt x="1400" y="1400"/>
                </a:lnTo>
                <a:close/>
              </a:path>
              <a:path fill="darken" w="64671" h="21600">
                <a:moveTo>
                  <a:pt x="64671" y="0"/>
                </a:moveTo>
                <a:lnTo>
                  <a:pt x="64671" y="21600"/>
                </a:lnTo>
                <a:lnTo>
                  <a:pt x="63271" y="20200"/>
                </a:lnTo>
                <a:lnTo>
                  <a:pt x="63271" y="1400"/>
                </a:lnTo>
                <a:close/>
              </a:path>
              <a:path fill="darkenLess" w="64671" h="21600">
                <a:moveTo>
                  <a:pt x="646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71" y="20200"/>
                </a:lnTo>
                <a:close/>
              </a:path>
              <a:path fill="lighten" w="646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671" h="21600">
                <a:moveTo>
                  <a:pt x="25329" y="10800"/>
                </a:moveTo>
                <a:lnTo>
                  <a:pt x="39342" y="3794"/>
                </a:lnTo>
                <a:lnTo>
                  <a:pt x="39342" y="17806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>
            <a:hlinkClick r:id="" action="ppaction://hlinkshowjump?jump=firstslide"/>
          </p:cNvPr>
          <p:cNvSpPr/>
          <p:nvPr/>
        </p:nvSpPr>
        <p:spPr>
          <a:xfrm>
            <a:off x="6837480" y="358920"/>
            <a:ext cx="1079280" cy="360360"/>
          </a:xfrm>
          <a:custGeom>
            <a:avLst/>
            <a:gdLst>
              <a:gd name="textAreaLeft" fmla="*/ 23040 w 1079280"/>
              <a:gd name="textAreaRight" fmla="*/ 1056240 w 107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649" h="21600">
                <a:moveTo>
                  <a:pt x="0" y="0"/>
                </a:moveTo>
                <a:lnTo>
                  <a:pt x="64649" y="0"/>
                </a:lnTo>
                <a:lnTo>
                  <a:pt x="64649" y="21600"/>
                </a:lnTo>
                <a:lnTo>
                  <a:pt x="0" y="21600"/>
                </a:lnTo>
                <a:close/>
              </a:path>
              <a:path fill="lightenLess" w="64649" h="21600">
                <a:moveTo>
                  <a:pt x="0" y="0"/>
                </a:moveTo>
                <a:lnTo>
                  <a:pt x="64649" y="0"/>
                </a:lnTo>
                <a:lnTo>
                  <a:pt x="63249" y="1400"/>
                </a:lnTo>
                <a:lnTo>
                  <a:pt x="1400" y="1400"/>
                </a:lnTo>
                <a:close/>
              </a:path>
              <a:path fill="darken" w="64649" h="21600">
                <a:moveTo>
                  <a:pt x="64649" y="0"/>
                </a:moveTo>
                <a:lnTo>
                  <a:pt x="64649" y="21600"/>
                </a:lnTo>
                <a:lnTo>
                  <a:pt x="63249" y="20200"/>
                </a:lnTo>
                <a:lnTo>
                  <a:pt x="63249" y="1400"/>
                </a:lnTo>
                <a:close/>
              </a:path>
              <a:path fill="darkenLess" w="64649" h="21600">
                <a:moveTo>
                  <a:pt x="646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49" y="20200"/>
                </a:lnTo>
                <a:close/>
              </a:path>
              <a:path fill="lighten" w="646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649" h="21600">
                <a:moveTo>
                  <a:pt x="32325" y="3837"/>
                </a:moveTo>
                <a:lnTo>
                  <a:pt x="34901" y="6448"/>
                </a:lnTo>
                <a:lnTo>
                  <a:pt x="34901" y="4707"/>
                </a:lnTo>
                <a:lnTo>
                  <a:pt x="36676" y="4707"/>
                </a:lnTo>
                <a:lnTo>
                  <a:pt x="36676" y="8224"/>
                </a:lnTo>
                <a:lnTo>
                  <a:pt x="39288" y="10800"/>
                </a:lnTo>
                <a:lnTo>
                  <a:pt x="37634" y="10800"/>
                </a:lnTo>
                <a:lnTo>
                  <a:pt x="37634" y="17989"/>
                </a:lnTo>
                <a:lnTo>
                  <a:pt x="27015" y="17989"/>
                </a:lnTo>
                <a:lnTo>
                  <a:pt x="27015" y="10800"/>
                </a:lnTo>
                <a:lnTo>
                  <a:pt x="25362" y="10800"/>
                </a:lnTo>
                <a:close/>
              </a:path>
              <a:path fill="darkenLess" w="64649" h="21600">
                <a:moveTo>
                  <a:pt x="34901" y="6448"/>
                </a:moveTo>
                <a:lnTo>
                  <a:pt x="34901" y="4707"/>
                </a:lnTo>
                <a:lnTo>
                  <a:pt x="36676" y="4707"/>
                </a:lnTo>
                <a:lnTo>
                  <a:pt x="36676" y="8224"/>
                </a:lnTo>
                <a:close/>
              </a:path>
              <a:path fill="darkenLess" w="64649" h="21600">
                <a:moveTo>
                  <a:pt x="31402" y="14299"/>
                </a:moveTo>
                <a:lnTo>
                  <a:pt x="33247" y="14299"/>
                </a:lnTo>
                <a:lnTo>
                  <a:pt x="33247" y="17989"/>
                </a:lnTo>
                <a:lnTo>
                  <a:pt x="37634" y="17989"/>
                </a:lnTo>
                <a:lnTo>
                  <a:pt x="37634" y="10800"/>
                </a:lnTo>
                <a:lnTo>
                  <a:pt x="27015" y="10800"/>
                </a:lnTo>
                <a:lnTo>
                  <a:pt x="27015" y="17989"/>
                </a:lnTo>
                <a:lnTo>
                  <a:pt x="31402" y="17989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962160" y="846000"/>
            <a:ext cx="5181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3333ff"/>
                </a:solidFill>
                <a:latin typeface="Georgia"/>
              </a:rPr>
              <a:t>Linux Mandrake 6.1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54" name="21wpisynazwserwera" descr=""/>
          <p:cNvPicPr/>
          <p:nvPr/>
        </p:nvPicPr>
        <p:blipFill>
          <a:blip r:embed="rId1"/>
          <a:stretch/>
        </p:blipFill>
        <p:spPr>
          <a:xfrm>
            <a:off x="2158920" y="2158920"/>
            <a:ext cx="5491080" cy="3595680"/>
          </a:xfrm>
          <a:prstGeom prst="rect">
            <a:avLst/>
          </a:prstGeom>
          <a:ln w="0">
            <a:noFill/>
          </a:ln>
        </p:spPr>
      </p:pic>
      <p:pic>
        <p:nvPicPr>
          <p:cNvPr id="255" name="linux_4" descr=""/>
          <p:cNvPicPr/>
          <p:nvPr/>
        </p:nvPicPr>
        <p:blipFill>
          <a:blip r:embed="rId2"/>
          <a:stretch/>
        </p:blipFill>
        <p:spPr>
          <a:xfrm>
            <a:off x="1905120" y="5334120"/>
            <a:ext cx="604800" cy="717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7632A-E149-450C-BB51-8DF670786DF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0" y="143820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Georgia"/>
              </a:rPr>
              <a:t>Wybieramy strefę czasową w której przebywamy : jest oczywiście </a:t>
            </a:r>
            <a:r>
              <a:rPr b="1" lang="pl-PL" sz="1200" spc="-1" strike="noStrike">
                <a:solidFill>
                  <a:srgbClr val="000000"/>
                </a:solidFill>
                <a:latin typeface="Georgia"/>
              </a:rPr>
              <a:t>Po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>
            <a:hlinkClick r:id="" action="ppaction://hlinkshowjump?jump=nextslide"/>
          </p:cNvPr>
          <p:cNvSpPr/>
          <p:nvPr/>
        </p:nvSpPr>
        <p:spPr>
          <a:xfrm>
            <a:off x="7916760" y="358920"/>
            <a:ext cx="1079640" cy="360360"/>
          </a:xfrm>
          <a:custGeom>
            <a:avLst/>
            <a:gdLst>
              <a:gd name="textAreaLeft" fmla="*/ 23040 w 1079640"/>
              <a:gd name="textAreaRight" fmla="*/ 1056600 w 1079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671" h="21600">
                <a:moveTo>
                  <a:pt x="0" y="0"/>
                </a:moveTo>
                <a:lnTo>
                  <a:pt x="64671" y="0"/>
                </a:lnTo>
                <a:lnTo>
                  <a:pt x="64671" y="21600"/>
                </a:lnTo>
                <a:lnTo>
                  <a:pt x="0" y="21600"/>
                </a:lnTo>
                <a:close/>
              </a:path>
              <a:path fill="lightenLess" w="64671" h="21600">
                <a:moveTo>
                  <a:pt x="0" y="0"/>
                </a:moveTo>
                <a:lnTo>
                  <a:pt x="64671" y="0"/>
                </a:lnTo>
                <a:lnTo>
                  <a:pt x="63271" y="1400"/>
                </a:lnTo>
                <a:lnTo>
                  <a:pt x="1400" y="1400"/>
                </a:lnTo>
                <a:close/>
              </a:path>
              <a:path fill="darken" w="64671" h="21600">
                <a:moveTo>
                  <a:pt x="64671" y="0"/>
                </a:moveTo>
                <a:lnTo>
                  <a:pt x="64671" y="21600"/>
                </a:lnTo>
                <a:lnTo>
                  <a:pt x="63271" y="20200"/>
                </a:lnTo>
                <a:lnTo>
                  <a:pt x="63271" y="1400"/>
                </a:lnTo>
                <a:close/>
              </a:path>
              <a:path fill="darkenLess" w="64671" h="21600">
                <a:moveTo>
                  <a:pt x="646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71" y="20200"/>
                </a:lnTo>
                <a:close/>
              </a:path>
              <a:path fill="lighten" w="646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671" h="21600">
                <a:moveTo>
                  <a:pt x="25329" y="3794"/>
                </a:moveTo>
                <a:lnTo>
                  <a:pt x="39342" y="10800"/>
                </a:lnTo>
                <a:lnTo>
                  <a:pt x="25329" y="17806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>
            <a:hlinkClick r:id="" action="ppaction://hlinkshowjump?jump=previousslide"/>
          </p:cNvPr>
          <p:cNvSpPr/>
          <p:nvPr/>
        </p:nvSpPr>
        <p:spPr>
          <a:xfrm>
            <a:off x="5757840" y="358920"/>
            <a:ext cx="1079640" cy="360360"/>
          </a:xfrm>
          <a:custGeom>
            <a:avLst/>
            <a:gdLst>
              <a:gd name="textAreaLeft" fmla="*/ 23040 w 1079640"/>
              <a:gd name="textAreaRight" fmla="*/ 1056600 w 1079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671" h="21600">
                <a:moveTo>
                  <a:pt x="0" y="0"/>
                </a:moveTo>
                <a:lnTo>
                  <a:pt x="64671" y="0"/>
                </a:lnTo>
                <a:lnTo>
                  <a:pt x="64671" y="21600"/>
                </a:lnTo>
                <a:lnTo>
                  <a:pt x="0" y="21600"/>
                </a:lnTo>
                <a:close/>
              </a:path>
              <a:path fill="lightenLess" w="64671" h="21600">
                <a:moveTo>
                  <a:pt x="0" y="0"/>
                </a:moveTo>
                <a:lnTo>
                  <a:pt x="64671" y="0"/>
                </a:lnTo>
                <a:lnTo>
                  <a:pt x="63271" y="1400"/>
                </a:lnTo>
                <a:lnTo>
                  <a:pt x="1400" y="1400"/>
                </a:lnTo>
                <a:close/>
              </a:path>
              <a:path fill="darken" w="64671" h="21600">
                <a:moveTo>
                  <a:pt x="64671" y="0"/>
                </a:moveTo>
                <a:lnTo>
                  <a:pt x="64671" y="21600"/>
                </a:lnTo>
                <a:lnTo>
                  <a:pt x="63271" y="20200"/>
                </a:lnTo>
                <a:lnTo>
                  <a:pt x="63271" y="1400"/>
                </a:lnTo>
                <a:close/>
              </a:path>
              <a:path fill="darkenLess" w="64671" h="21600">
                <a:moveTo>
                  <a:pt x="646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71" y="20200"/>
                </a:lnTo>
                <a:close/>
              </a:path>
              <a:path fill="lighten" w="646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671" h="21600">
                <a:moveTo>
                  <a:pt x="25329" y="10800"/>
                </a:moveTo>
                <a:lnTo>
                  <a:pt x="39342" y="3794"/>
                </a:lnTo>
                <a:lnTo>
                  <a:pt x="39342" y="17806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>
            <a:hlinkClick r:id="" action="ppaction://hlinkshowjump?jump=firstslide"/>
          </p:cNvPr>
          <p:cNvSpPr/>
          <p:nvPr/>
        </p:nvSpPr>
        <p:spPr>
          <a:xfrm>
            <a:off x="6837480" y="358920"/>
            <a:ext cx="1079280" cy="360360"/>
          </a:xfrm>
          <a:custGeom>
            <a:avLst/>
            <a:gdLst>
              <a:gd name="textAreaLeft" fmla="*/ 23040 w 1079280"/>
              <a:gd name="textAreaRight" fmla="*/ 1056240 w 107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649" h="21600">
                <a:moveTo>
                  <a:pt x="0" y="0"/>
                </a:moveTo>
                <a:lnTo>
                  <a:pt x="64649" y="0"/>
                </a:lnTo>
                <a:lnTo>
                  <a:pt x="64649" y="21600"/>
                </a:lnTo>
                <a:lnTo>
                  <a:pt x="0" y="21600"/>
                </a:lnTo>
                <a:close/>
              </a:path>
              <a:path fill="lightenLess" w="64649" h="21600">
                <a:moveTo>
                  <a:pt x="0" y="0"/>
                </a:moveTo>
                <a:lnTo>
                  <a:pt x="64649" y="0"/>
                </a:lnTo>
                <a:lnTo>
                  <a:pt x="63249" y="1400"/>
                </a:lnTo>
                <a:lnTo>
                  <a:pt x="1400" y="1400"/>
                </a:lnTo>
                <a:close/>
              </a:path>
              <a:path fill="darken" w="64649" h="21600">
                <a:moveTo>
                  <a:pt x="64649" y="0"/>
                </a:moveTo>
                <a:lnTo>
                  <a:pt x="64649" y="21600"/>
                </a:lnTo>
                <a:lnTo>
                  <a:pt x="63249" y="20200"/>
                </a:lnTo>
                <a:lnTo>
                  <a:pt x="63249" y="1400"/>
                </a:lnTo>
                <a:close/>
              </a:path>
              <a:path fill="darkenLess" w="64649" h="21600">
                <a:moveTo>
                  <a:pt x="646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49" y="20200"/>
                </a:lnTo>
                <a:close/>
              </a:path>
              <a:path fill="lighten" w="646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649" h="21600">
                <a:moveTo>
                  <a:pt x="32325" y="3837"/>
                </a:moveTo>
                <a:lnTo>
                  <a:pt x="34901" y="6448"/>
                </a:lnTo>
                <a:lnTo>
                  <a:pt x="34901" y="4707"/>
                </a:lnTo>
                <a:lnTo>
                  <a:pt x="36676" y="4707"/>
                </a:lnTo>
                <a:lnTo>
                  <a:pt x="36676" y="8224"/>
                </a:lnTo>
                <a:lnTo>
                  <a:pt x="39288" y="10800"/>
                </a:lnTo>
                <a:lnTo>
                  <a:pt x="37634" y="10800"/>
                </a:lnTo>
                <a:lnTo>
                  <a:pt x="37634" y="17989"/>
                </a:lnTo>
                <a:lnTo>
                  <a:pt x="27015" y="17989"/>
                </a:lnTo>
                <a:lnTo>
                  <a:pt x="27015" y="10800"/>
                </a:lnTo>
                <a:lnTo>
                  <a:pt x="25362" y="10800"/>
                </a:lnTo>
                <a:close/>
              </a:path>
              <a:path fill="darkenLess" w="64649" h="21600">
                <a:moveTo>
                  <a:pt x="34901" y="6448"/>
                </a:moveTo>
                <a:lnTo>
                  <a:pt x="34901" y="4707"/>
                </a:lnTo>
                <a:lnTo>
                  <a:pt x="36676" y="4707"/>
                </a:lnTo>
                <a:lnTo>
                  <a:pt x="36676" y="8224"/>
                </a:lnTo>
                <a:close/>
              </a:path>
              <a:path fill="darkenLess" w="64649" h="21600">
                <a:moveTo>
                  <a:pt x="31402" y="14299"/>
                </a:moveTo>
                <a:lnTo>
                  <a:pt x="33247" y="14299"/>
                </a:lnTo>
                <a:lnTo>
                  <a:pt x="33247" y="17989"/>
                </a:lnTo>
                <a:lnTo>
                  <a:pt x="37634" y="17989"/>
                </a:lnTo>
                <a:lnTo>
                  <a:pt x="37634" y="10800"/>
                </a:lnTo>
                <a:lnTo>
                  <a:pt x="27015" y="10800"/>
                </a:lnTo>
                <a:lnTo>
                  <a:pt x="27015" y="17989"/>
                </a:lnTo>
                <a:lnTo>
                  <a:pt x="31402" y="17989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962160" y="846000"/>
            <a:ext cx="5181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3333ff"/>
                </a:solidFill>
                <a:latin typeface="Georgia"/>
              </a:rPr>
              <a:t>Linux Mandrake 6.1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61" name="22strefaczasowa" descr=""/>
          <p:cNvPicPr/>
          <p:nvPr/>
        </p:nvPicPr>
        <p:blipFill>
          <a:blip r:embed="rId1"/>
          <a:stretch/>
        </p:blipFill>
        <p:spPr>
          <a:xfrm>
            <a:off x="2158920" y="2158920"/>
            <a:ext cx="5491080" cy="3595680"/>
          </a:xfrm>
          <a:prstGeom prst="rect">
            <a:avLst/>
          </a:prstGeom>
          <a:ln w="0">
            <a:noFill/>
          </a:ln>
        </p:spPr>
      </p:pic>
      <p:pic>
        <p:nvPicPr>
          <p:cNvPr id="262" name="linux_4" descr=""/>
          <p:cNvPicPr/>
          <p:nvPr/>
        </p:nvPicPr>
        <p:blipFill>
          <a:blip r:embed="rId2"/>
          <a:stretch/>
        </p:blipFill>
        <p:spPr>
          <a:xfrm>
            <a:off x="1905120" y="5334120"/>
            <a:ext cx="604800" cy="717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023AE-03B2-4848-ADFE-A88186D9F8B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0" y="1438200"/>
            <a:ext cx="9144000" cy="73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Georgia"/>
              </a:rPr>
              <a:t>Nasz komputer działać będzie jako serwer, więc zdecydować możemy, które serwisy będą automatycznie uruchamiane podczas startu systemu. Na początek nie ma potrzeby ingerować w te ustawienia. Kolejny ekran zapyta nas czy chcemy instalować drukarkę – jeśli nie to przechodzimy do slajdu </a:t>
            </a:r>
            <a:r>
              <a:rPr b="0" lang="pl-PL" sz="1600" spc="-1" strike="noStrike" u="sng">
                <a:solidFill>
                  <a:srgbClr val="ff0000"/>
                </a:solidFill>
                <a:uFillTx/>
                <a:latin typeface="Georgia"/>
                <a:hlinkClick r:id="rId1" action="ppaction://hlinksldjump"/>
              </a:rPr>
              <a:t>30</a:t>
            </a:r>
            <a:r>
              <a:rPr b="0" lang="pl-PL" sz="12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>
            <a:hlinkClick r:id="" action="ppaction://hlinkshowjump?jump=nextslide"/>
          </p:cNvPr>
          <p:cNvSpPr/>
          <p:nvPr/>
        </p:nvSpPr>
        <p:spPr>
          <a:xfrm>
            <a:off x="7916760" y="358920"/>
            <a:ext cx="1079640" cy="360360"/>
          </a:xfrm>
          <a:custGeom>
            <a:avLst/>
            <a:gdLst>
              <a:gd name="textAreaLeft" fmla="*/ 23040 w 1079640"/>
              <a:gd name="textAreaRight" fmla="*/ 1056600 w 1079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671" h="21600">
                <a:moveTo>
                  <a:pt x="0" y="0"/>
                </a:moveTo>
                <a:lnTo>
                  <a:pt x="64671" y="0"/>
                </a:lnTo>
                <a:lnTo>
                  <a:pt x="64671" y="21600"/>
                </a:lnTo>
                <a:lnTo>
                  <a:pt x="0" y="21600"/>
                </a:lnTo>
                <a:close/>
              </a:path>
              <a:path fill="lightenLess" w="64671" h="21600">
                <a:moveTo>
                  <a:pt x="0" y="0"/>
                </a:moveTo>
                <a:lnTo>
                  <a:pt x="64671" y="0"/>
                </a:lnTo>
                <a:lnTo>
                  <a:pt x="63271" y="1400"/>
                </a:lnTo>
                <a:lnTo>
                  <a:pt x="1400" y="1400"/>
                </a:lnTo>
                <a:close/>
              </a:path>
              <a:path fill="darken" w="64671" h="21600">
                <a:moveTo>
                  <a:pt x="64671" y="0"/>
                </a:moveTo>
                <a:lnTo>
                  <a:pt x="64671" y="21600"/>
                </a:lnTo>
                <a:lnTo>
                  <a:pt x="63271" y="20200"/>
                </a:lnTo>
                <a:lnTo>
                  <a:pt x="63271" y="1400"/>
                </a:lnTo>
                <a:close/>
              </a:path>
              <a:path fill="darkenLess" w="64671" h="21600">
                <a:moveTo>
                  <a:pt x="646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71" y="20200"/>
                </a:lnTo>
                <a:close/>
              </a:path>
              <a:path fill="lighten" w="646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671" h="21600">
                <a:moveTo>
                  <a:pt x="25329" y="3794"/>
                </a:moveTo>
                <a:lnTo>
                  <a:pt x="39342" y="10800"/>
                </a:lnTo>
                <a:lnTo>
                  <a:pt x="25329" y="17806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>
            <a:hlinkClick r:id="" action="ppaction://hlinkshowjump?jump=previousslide"/>
          </p:cNvPr>
          <p:cNvSpPr/>
          <p:nvPr/>
        </p:nvSpPr>
        <p:spPr>
          <a:xfrm>
            <a:off x="5757840" y="358920"/>
            <a:ext cx="1079640" cy="360360"/>
          </a:xfrm>
          <a:custGeom>
            <a:avLst/>
            <a:gdLst>
              <a:gd name="textAreaLeft" fmla="*/ 23040 w 1079640"/>
              <a:gd name="textAreaRight" fmla="*/ 1056600 w 1079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671" h="21600">
                <a:moveTo>
                  <a:pt x="0" y="0"/>
                </a:moveTo>
                <a:lnTo>
                  <a:pt x="64671" y="0"/>
                </a:lnTo>
                <a:lnTo>
                  <a:pt x="64671" y="21600"/>
                </a:lnTo>
                <a:lnTo>
                  <a:pt x="0" y="21600"/>
                </a:lnTo>
                <a:close/>
              </a:path>
              <a:path fill="lightenLess" w="64671" h="21600">
                <a:moveTo>
                  <a:pt x="0" y="0"/>
                </a:moveTo>
                <a:lnTo>
                  <a:pt x="64671" y="0"/>
                </a:lnTo>
                <a:lnTo>
                  <a:pt x="63271" y="1400"/>
                </a:lnTo>
                <a:lnTo>
                  <a:pt x="1400" y="1400"/>
                </a:lnTo>
                <a:close/>
              </a:path>
              <a:path fill="darken" w="64671" h="21600">
                <a:moveTo>
                  <a:pt x="64671" y="0"/>
                </a:moveTo>
                <a:lnTo>
                  <a:pt x="64671" y="21600"/>
                </a:lnTo>
                <a:lnTo>
                  <a:pt x="63271" y="20200"/>
                </a:lnTo>
                <a:lnTo>
                  <a:pt x="63271" y="1400"/>
                </a:lnTo>
                <a:close/>
              </a:path>
              <a:path fill="darkenLess" w="64671" h="21600">
                <a:moveTo>
                  <a:pt x="646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71" y="20200"/>
                </a:lnTo>
                <a:close/>
              </a:path>
              <a:path fill="lighten" w="646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671" h="21600">
                <a:moveTo>
                  <a:pt x="25329" y="10800"/>
                </a:moveTo>
                <a:lnTo>
                  <a:pt x="39342" y="3794"/>
                </a:lnTo>
                <a:lnTo>
                  <a:pt x="39342" y="17806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>
            <a:hlinkClick r:id="" action="ppaction://hlinkshowjump?jump=firstslide"/>
          </p:cNvPr>
          <p:cNvSpPr/>
          <p:nvPr/>
        </p:nvSpPr>
        <p:spPr>
          <a:xfrm>
            <a:off x="6837480" y="358920"/>
            <a:ext cx="1079280" cy="360360"/>
          </a:xfrm>
          <a:custGeom>
            <a:avLst/>
            <a:gdLst>
              <a:gd name="textAreaLeft" fmla="*/ 23040 w 1079280"/>
              <a:gd name="textAreaRight" fmla="*/ 1056240 w 107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649" h="21600">
                <a:moveTo>
                  <a:pt x="0" y="0"/>
                </a:moveTo>
                <a:lnTo>
                  <a:pt x="64649" y="0"/>
                </a:lnTo>
                <a:lnTo>
                  <a:pt x="64649" y="21600"/>
                </a:lnTo>
                <a:lnTo>
                  <a:pt x="0" y="21600"/>
                </a:lnTo>
                <a:close/>
              </a:path>
              <a:path fill="lightenLess" w="64649" h="21600">
                <a:moveTo>
                  <a:pt x="0" y="0"/>
                </a:moveTo>
                <a:lnTo>
                  <a:pt x="64649" y="0"/>
                </a:lnTo>
                <a:lnTo>
                  <a:pt x="63249" y="1400"/>
                </a:lnTo>
                <a:lnTo>
                  <a:pt x="1400" y="1400"/>
                </a:lnTo>
                <a:close/>
              </a:path>
              <a:path fill="darken" w="64649" h="21600">
                <a:moveTo>
                  <a:pt x="64649" y="0"/>
                </a:moveTo>
                <a:lnTo>
                  <a:pt x="64649" y="21600"/>
                </a:lnTo>
                <a:lnTo>
                  <a:pt x="63249" y="20200"/>
                </a:lnTo>
                <a:lnTo>
                  <a:pt x="63249" y="1400"/>
                </a:lnTo>
                <a:close/>
              </a:path>
              <a:path fill="darkenLess" w="64649" h="21600">
                <a:moveTo>
                  <a:pt x="646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49" y="20200"/>
                </a:lnTo>
                <a:close/>
              </a:path>
              <a:path fill="lighten" w="646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649" h="21600">
                <a:moveTo>
                  <a:pt x="32325" y="3837"/>
                </a:moveTo>
                <a:lnTo>
                  <a:pt x="34901" y="6448"/>
                </a:lnTo>
                <a:lnTo>
                  <a:pt x="34901" y="4707"/>
                </a:lnTo>
                <a:lnTo>
                  <a:pt x="36676" y="4707"/>
                </a:lnTo>
                <a:lnTo>
                  <a:pt x="36676" y="8224"/>
                </a:lnTo>
                <a:lnTo>
                  <a:pt x="39288" y="10800"/>
                </a:lnTo>
                <a:lnTo>
                  <a:pt x="37634" y="10800"/>
                </a:lnTo>
                <a:lnTo>
                  <a:pt x="37634" y="17989"/>
                </a:lnTo>
                <a:lnTo>
                  <a:pt x="27015" y="17989"/>
                </a:lnTo>
                <a:lnTo>
                  <a:pt x="27015" y="10800"/>
                </a:lnTo>
                <a:lnTo>
                  <a:pt x="25362" y="10800"/>
                </a:lnTo>
                <a:close/>
              </a:path>
              <a:path fill="darkenLess" w="64649" h="21600">
                <a:moveTo>
                  <a:pt x="34901" y="6448"/>
                </a:moveTo>
                <a:lnTo>
                  <a:pt x="34901" y="4707"/>
                </a:lnTo>
                <a:lnTo>
                  <a:pt x="36676" y="4707"/>
                </a:lnTo>
                <a:lnTo>
                  <a:pt x="36676" y="8224"/>
                </a:lnTo>
                <a:close/>
              </a:path>
              <a:path fill="darkenLess" w="64649" h="21600">
                <a:moveTo>
                  <a:pt x="31402" y="14299"/>
                </a:moveTo>
                <a:lnTo>
                  <a:pt x="33247" y="14299"/>
                </a:lnTo>
                <a:lnTo>
                  <a:pt x="33247" y="17989"/>
                </a:lnTo>
                <a:lnTo>
                  <a:pt x="37634" y="17989"/>
                </a:lnTo>
                <a:lnTo>
                  <a:pt x="37634" y="10800"/>
                </a:lnTo>
                <a:lnTo>
                  <a:pt x="27015" y="10800"/>
                </a:lnTo>
                <a:lnTo>
                  <a:pt x="27015" y="17989"/>
                </a:lnTo>
                <a:lnTo>
                  <a:pt x="31402" y="17989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962160" y="846000"/>
            <a:ext cx="5181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3333ff"/>
                </a:solidFill>
                <a:latin typeface="Georgia"/>
              </a:rPr>
              <a:t>Linux Mandrake 6.1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68" name="23serwisystartowe" descr=""/>
          <p:cNvPicPr/>
          <p:nvPr/>
        </p:nvPicPr>
        <p:blipFill>
          <a:blip r:embed="rId2"/>
          <a:stretch/>
        </p:blipFill>
        <p:spPr>
          <a:xfrm>
            <a:off x="2158920" y="2158920"/>
            <a:ext cx="5491080" cy="3595680"/>
          </a:xfrm>
          <a:prstGeom prst="rect">
            <a:avLst/>
          </a:prstGeom>
          <a:ln w="0">
            <a:noFill/>
          </a:ln>
        </p:spPr>
      </p:pic>
      <p:pic>
        <p:nvPicPr>
          <p:cNvPr id="269" name="linux_4" descr=""/>
          <p:cNvPicPr/>
          <p:nvPr/>
        </p:nvPicPr>
        <p:blipFill>
          <a:blip r:embed="rId3"/>
          <a:stretch/>
        </p:blipFill>
        <p:spPr>
          <a:xfrm>
            <a:off x="1905120" y="5334120"/>
            <a:ext cx="604800" cy="717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BDD63-4570-43A0-B94F-F38350721018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0" y="1438200"/>
            <a:ext cx="9144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Georgia"/>
              </a:rPr>
              <a:t>Zdecydujmy czy instalować drukarkę </a:t>
            </a:r>
            <a:r>
              <a:rPr b="1" lang="pl-PL" sz="1200" spc="-1" strike="noStrike">
                <a:solidFill>
                  <a:srgbClr val="000000"/>
                </a:solidFill>
                <a:latin typeface="Georgia"/>
              </a:rPr>
              <a:t>lokalną</a:t>
            </a:r>
            <a:r>
              <a:rPr b="0" lang="pl-PL" sz="1200" spc="-1" strike="noStrike">
                <a:solidFill>
                  <a:srgbClr val="000000"/>
                </a:solidFill>
                <a:latin typeface="Georgia"/>
              </a:rPr>
              <a:t> czy też  zdalną podłączoną do komputera z systemem Linux /</a:t>
            </a:r>
            <a:r>
              <a:rPr b="1" lang="pl-PL" sz="1200" spc="-1" strike="noStrike">
                <a:solidFill>
                  <a:srgbClr val="000000"/>
                </a:solidFill>
                <a:latin typeface="Georgia"/>
              </a:rPr>
              <a:t>Remote lpd</a:t>
            </a:r>
            <a:r>
              <a:rPr b="0" lang="pl-PL" sz="1200" spc="-1" strike="noStrike">
                <a:solidFill>
                  <a:srgbClr val="000000"/>
                </a:solidFill>
                <a:latin typeface="Georgia"/>
              </a:rPr>
              <a:t>/, Windows /</a:t>
            </a:r>
            <a:r>
              <a:rPr b="1" lang="pl-PL" sz="1200" spc="-1" strike="noStrike">
                <a:solidFill>
                  <a:srgbClr val="000000"/>
                </a:solidFill>
                <a:latin typeface="Georgia"/>
              </a:rPr>
              <a:t>SMB,Windows95,NT</a:t>
            </a:r>
            <a:r>
              <a:rPr b="0" lang="pl-PL" sz="1200" spc="-1" strike="noStrike">
                <a:solidFill>
                  <a:srgbClr val="000000"/>
                </a:solidFill>
                <a:latin typeface="Georgia"/>
              </a:rPr>
              <a:t>/ lub </a:t>
            </a:r>
            <a:r>
              <a:rPr b="1" lang="pl-PL" sz="1200" spc="-1" strike="noStrike">
                <a:solidFill>
                  <a:srgbClr val="000000"/>
                </a:solidFill>
                <a:latin typeface="Georgia"/>
              </a:rPr>
              <a:t>NetWare</a:t>
            </a:r>
            <a:r>
              <a:rPr b="0" lang="pl-PL" sz="1200" spc="-1" strike="noStrike">
                <a:solidFill>
                  <a:srgbClr val="000000"/>
                </a:solidFill>
                <a:latin typeface="Georgia"/>
              </a:rPr>
              <a:t> ? Instalujemy drukarkę lokalnie przyłączoną do naszego komputer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>
            <a:hlinkClick r:id="" action="ppaction://hlinkshowjump?jump=nextslide"/>
          </p:cNvPr>
          <p:cNvSpPr/>
          <p:nvPr/>
        </p:nvSpPr>
        <p:spPr>
          <a:xfrm>
            <a:off x="7916760" y="358920"/>
            <a:ext cx="1079640" cy="360360"/>
          </a:xfrm>
          <a:custGeom>
            <a:avLst/>
            <a:gdLst>
              <a:gd name="textAreaLeft" fmla="*/ 23040 w 1079640"/>
              <a:gd name="textAreaRight" fmla="*/ 1056600 w 1079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671" h="21600">
                <a:moveTo>
                  <a:pt x="0" y="0"/>
                </a:moveTo>
                <a:lnTo>
                  <a:pt x="64671" y="0"/>
                </a:lnTo>
                <a:lnTo>
                  <a:pt x="64671" y="21600"/>
                </a:lnTo>
                <a:lnTo>
                  <a:pt x="0" y="21600"/>
                </a:lnTo>
                <a:close/>
              </a:path>
              <a:path fill="lightenLess" w="64671" h="21600">
                <a:moveTo>
                  <a:pt x="0" y="0"/>
                </a:moveTo>
                <a:lnTo>
                  <a:pt x="64671" y="0"/>
                </a:lnTo>
                <a:lnTo>
                  <a:pt x="63271" y="1400"/>
                </a:lnTo>
                <a:lnTo>
                  <a:pt x="1400" y="1400"/>
                </a:lnTo>
                <a:close/>
              </a:path>
              <a:path fill="darken" w="64671" h="21600">
                <a:moveTo>
                  <a:pt x="64671" y="0"/>
                </a:moveTo>
                <a:lnTo>
                  <a:pt x="64671" y="21600"/>
                </a:lnTo>
                <a:lnTo>
                  <a:pt x="63271" y="20200"/>
                </a:lnTo>
                <a:lnTo>
                  <a:pt x="63271" y="1400"/>
                </a:lnTo>
                <a:close/>
              </a:path>
              <a:path fill="darkenLess" w="64671" h="21600">
                <a:moveTo>
                  <a:pt x="646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71" y="20200"/>
                </a:lnTo>
                <a:close/>
              </a:path>
              <a:path fill="lighten" w="646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671" h="21600">
                <a:moveTo>
                  <a:pt x="25329" y="3794"/>
                </a:moveTo>
                <a:lnTo>
                  <a:pt x="39342" y="10800"/>
                </a:lnTo>
                <a:lnTo>
                  <a:pt x="25329" y="17806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>
            <a:hlinkClick r:id="" action="ppaction://hlinkshowjump?jump=previousslide"/>
          </p:cNvPr>
          <p:cNvSpPr/>
          <p:nvPr/>
        </p:nvSpPr>
        <p:spPr>
          <a:xfrm>
            <a:off x="5757840" y="358920"/>
            <a:ext cx="1079640" cy="360360"/>
          </a:xfrm>
          <a:custGeom>
            <a:avLst/>
            <a:gdLst>
              <a:gd name="textAreaLeft" fmla="*/ 23040 w 1079640"/>
              <a:gd name="textAreaRight" fmla="*/ 1056600 w 1079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671" h="21600">
                <a:moveTo>
                  <a:pt x="0" y="0"/>
                </a:moveTo>
                <a:lnTo>
                  <a:pt x="64671" y="0"/>
                </a:lnTo>
                <a:lnTo>
                  <a:pt x="64671" y="21600"/>
                </a:lnTo>
                <a:lnTo>
                  <a:pt x="0" y="21600"/>
                </a:lnTo>
                <a:close/>
              </a:path>
              <a:path fill="lightenLess" w="64671" h="21600">
                <a:moveTo>
                  <a:pt x="0" y="0"/>
                </a:moveTo>
                <a:lnTo>
                  <a:pt x="64671" y="0"/>
                </a:lnTo>
                <a:lnTo>
                  <a:pt x="63271" y="1400"/>
                </a:lnTo>
                <a:lnTo>
                  <a:pt x="1400" y="1400"/>
                </a:lnTo>
                <a:close/>
              </a:path>
              <a:path fill="darken" w="64671" h="21600">
                <a:moveTo>
                  <a:pt x="64671" y="0"/>
                </a:moveTo>
                <a:lnTo>
                  <a:pt x="64671" y="21600"/>
                </a:lnTo>
                <a:lnTo>
                  <a:pt x="63271" y="20200"/>
                </a:lnTo>
                <a:lnTo>
                  <a:pt x="63271" y="1400"/>
                </a:lnTo>
                <a:close/>
              </a:path>
              <a:path fill="darkenLess" w="64671" h="21600">
                <a:moveTo>
                  <a:pt x="646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71" y="20200"/>
                </a:lnTo>
                <a:close/>
              </a:path>
              <a:path fill="lighten" w="646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671" h="21600">
                <a:moveTo>
                  <a:pt x="25329" y="10800"/>
                </a:moveTo>
                <a:lnTo>
                  <a:pt x="39342" y="3794"/>
                </a:lnTo>
                <a:lnTo>
                  <a:pt x="39342" y="17806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>
            <a:hlinkClick r:id="" action="ppaction://hlinkshowjump?jump=firstslide"/>
          </p:cNvPr>
          <p:cNvSpPr/>
          <p:nvPr/>
        </p:nvSpPr>
        <p:spPr>
          <a:xfrm>
            <a:off x="6837480" y="358920"/>
            <a:ext cx="1079280" cy="360360"/>
          </a:xfrm>
          <a:custGeom>
            <a:avLst/>
            <a:gdLst>
              <a:gd name="textAreaLeft" fmla="*/ 23040 w 1079280"/>
              <a:gd name="textAreaRight" fmla="*/ 1056240 w 107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649" h="21600">
                <a:moveTo>
                  <a:pt x="0" y="0"/>
                </a:moveTo>
                <a:lnTo>
                  <a:pt x="64649" y="0"/>
                </a:lnTo>
                <a:lnTo>
                  <a:pt x="64649" y="21600"/>
                </a:lnTo>
                <a:lnTo>
                  <a:pt x="0" y="21600"/>
                </a:lnTo>
                <a:close/>
              </a:path>
              <a:path fill="lightenLess" w="64649" h="21600">
                <a:moveTo>
                  <a:pt x="0" y="0"/>
                </a:moveTo>
                <a:lnTo>
                  <a:pt x="64649" y="0"/>
                </a:lnTo>
                <a:lnTo>
                  <a:pt x="63249" y="1400"/>
                </a:lnTo>
                <a:lnTo>
                  <a:pt x="1400" y="1400"/>
                </a:lnTo>
                <a:close/>
              </a:path>
              <a:path fill="darken" w="64649" h="21600">
                <a:moveTo>
                  <a:pt x="64649" y="0"/>
                </a:moveTo>
                <a:lnTo>
                  <a:pt x="64649" y="21600"/>
                </a:lnTo>
                <a:lnTo>
                  <a:pt x="63249" y="20200"/>
                </a:lnTo>
                <a:lnTo>
                  <a:pt x="63249" y="1400"/>
                </a:lnTo>
                <a:close/>
              </a:path>
              <a:path fill="darkenLess" w="64649" h="21600">
                <a:moveTo>
                  <a:pt x="646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49" y="20200"/>
                </a:lnTo>
                <a:close/>
              </a:path>
              <a:path fill="lighten" w="646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649" h="21600">
                <a:moveTo>
                  <a:pt x="32325" y="3837"/>
                </a:moveTo>
                <a:lnTo>
                  <a:pt x="34901" y="6448"/>
                </a:lnTo>
                <a:lnTo>
                  <a:pt x="34901" y="4707"/>
                </a:lnTo>
                <a:lnTo>
                  <a:pt x="36676" y="4707"/>
                </a:lnTo>
                <a:lnTo>
                  <a:pt x="36676" y="8224"/>
                </a:lnTo>
                <a:lnTo>
                  <a:pt x="39288" y="10800"/>
                </a:lnTo>
                <a:lnTo>
                  <a:pt x="37634" y="10800"/>
                </a:lnTo>
                <a:lnTo>
                  <a:pt x="37634" y="17989"/>
                </a:lnTo>
                <a:lnTo>
                  <a:pt x="27015" y="17989"/>
                </a:lnTo>
                <a:lnTo>
                  <a:pt x="27015" y="10800"/>
                </a:lnTo>
                <a:lnTo>
                  <a:pt x="25362" y="10800"/>
                </a:lnTo>
                <a:close/>
              </a:path>
              <a:path fill="darkenLess" w="64649" h="21600">
                <a:moveTo>
                  <a:pt x="34901" y="6448"/>
                </a:moveTo>
                <a:lnTo>
                  <a:pt x="34901" y="4707"/>
                </a:lnTo>
                <a:lnTo>
                  <a:pt x="36676" y="4707"/>
                </a:lnTo>
                <a:lnTo>
                  <a:pt x="36676" y="8224"/>
                </a:lnTo>
                <a:close/>
              </a:path>
              <a:path fill="darkenLess" w="64649" h="21600">
                <a:moveTo>
                  <a:pt x="31402" y="14299"/>
                </a:moveTo>
                <a:lnTo>
                  <a:pt x="33247" y="14299"/>
                </a:lnTo>
                <a:lnTo>
                  <a:pt x="33247" y="17989"/>
                </a:lnTo>
                <a:lnTo>
                  <a:pt x="37634" y="17989"/>
                </a:lnTo>
                <a:lnTo>
                  <a:pt x="37634" y="10800"/>
                </a:lnTo>
                <a:lnTo>
                  <a:pt x="27015" y="10800"/>
                </a:lnTo>
                <a:lnTo>
                  <a:pt x="27015" y="17989"/>
                </a:lnTo>
                <a:lnTo>
                  <a:pt x="31402" y="17989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962160" y="846000"/>
            <a:ext cx="5181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3333ff"/>
                </a:solidFill>
                <a:latin typeface="Georgia"/>
              </a:rPr>
              <a:t>Linux Mandrake 6.1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75" name="24drukarka" descr=""/>
          <p:cNvPicPr/>
          <p:nvPr/>
        </p:nvPicPr>
        <p:blipFill>
          <a:blip r:embed="rId1"/>
          <a:stretch/>
        </p:blipFill>
        <p:spPr>
          <a:xfrm>
            <a:off x="2158920" y="2158920"/>
            <a:ext cx="5491080" cy="3595680"/>
          </a:xfrm>
          <a:prstGeom prst="rect">
            <a:avLst/>
          </a:prstGeom>
          <a:ln w="0">
            <a:noFill/>
          </a:ln>
        </p:spPr>
      </p:pic>
      <p:pic>
        <p:nvPicPr>
          <p:cNvPr id="276" name="linux_4" descr=""/>
          <p:cNvPicPr/>
          <p:nvPr/>
        </p:nvPicPr>
        <p:blipFill>
          <a:blip r:embed="rId2"/>
          <a:stretch/>
        </p:blipFill>
        <p:spPr>
          <a:xfrm>
            <a:off x="1905120" y="5334120"/>
            <a:ext cx="604800" cy="717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473D1-E0E6-4BB3-855C-77D77FD1D0CB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0" y="1438200"/>
            <a:ext cx="914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eorgia"/>
              </a:rPr>
              <a:t>Potwierdzamy opcje druku, port </a:t>
            </a:r>
            <a:r>
              <a:rPr b="1" lang="pl-PL" sz="1200" spc="-1" strike="noStrike">
                <a:solidFill>
                  <a:srgbClr val="000000"/>
                </a:solidFill>
                <a:latin typeface="Georgia"/>
              </a:rPr>
              <a:t>/dev/lp</a:t>
            </a:r>
            <a:r>
              <a:rPr b="1" lang="pl-PL" sz="1600" spc="-1" strike="noStrike">
                <a:solidFill>
                  <a:srgbClr val="000000"/>
                </a:solidFill>
                <a:latin typeface="Georgia"/>
              </a:rPr>
              <a:t>0</a:t>
            </a:r>
            <a:r>
              <a:rPr b="1" lang="pl-PL" sz="1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Georgia"/>
              </a:rPr>
              <a:t>/w DOS-ie LPT1/, wybieramy moel drukarki i ustawiamy jej właściwośc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>
            <a:hlinkClick r:id="" action="ppaction://hlinkshowjump?jump=nextslide"/>
          </p:cNvPr>
          <p:cNvSpPr/>
          <p:nvPr/>
        </p:nvSpPr>
        <p:spPr>
          <a:xfrm>
            <a:off x="7916760" y="358920"/>
            <a:ext cx="1079640" cy="360360"/>
          </a:xfrm>
          <a:custGeom>
            <a:avLst/>
            <a:gdLst>
              <a:gd name="textAreaLeft" fmla="*/ 23040 w 1079640"/>
              <a:gd name="textAreaRight" fmla="*/ 1056600 w 1079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671" h="21600">
                <a:moveTo>
                  <a:pt x="0" y="0"/>
                </a:moveTo>
                <a:lnTo>
                  <a:pt x="64671" y="0"/>
                </a:lnTo>
                <a:lnTo>
                  <a:pt x="64671" y="21600"/>
                </a:lnTo>
                <a:lnTo>
                  <a:pt x="0" y="21600"/>
                </a:lnTo>
                <a:close/>
              </a:path>
              <a:path fill="lightenLess" w="64671" h="21600">
                <a:moveTo>
                  <a:pt x="0" y="0"/>
                </a:moveTo>
                <a:lnTo>
                  <a:pt x="64671" y="0"/>
                </a:lnTo>
                <a:lnTo>
                  <a:pt x="63271" y="1400"/>
                </a:lnTo>
                <a:lnTo>
                  <a:pt x="1400" y="1400"/>
                </a:lnTo>
                <a:close/>
              </a:path>
              <a:path fill="darken" w="64671" h="21600">
                <a:moveTo>
                  <a:pt x="64671" y="0"/>
                </a:moveTo>
                <a:lnTo>
                  <a:pt x="64671" y="21600"/>
                </a:lnTo>
                <a:lnTo>
                  <a:pt x="63271" y="20200"/>
                </a:lnTo>
                <a:lnTo>
                  <a:pt x="63271" y="1400"/>
                </a:lnTo>
                <a:close/>
              </a:path>
              <a:path fill="darkenLess" w="64671" h="21600">
                <a:moveTo>
                  <a:pt x="646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71" y="20200"/>
                </a:lnTo>
                <a:close/>
              </a:path>
              <a:path fill="lighten" w="646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671" h="21600">
                <a:moveTo>
                  <a:pt x="25329" y="3794"/>
                </a:moveTo>
                <a:lnTo>
                  <a:pt x="39342" y="10800"/>
                </a:lnTo>
                <a:lnTo>
                  <a:pt x="25329" y="17806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>
            <a:hlinkClick r:id="" action="ppaction://hlinkshowjump?jump=previousslide"/>
          </p:cNvPr>
          <p:cNvSpPr/>
          <p:nvPr/>
        </p:nvSpPr>
        <p:spPr>
          <a:xfrm>
            <a:off x="5757840" y="358920"/>
            <a:ext cx="1079640" cy="360360"/>
          </a:xfrm>
          <a:custGeom>
            <a:avLst/>
            <a:gdLst>
              <a:gd name="textAreaLeft" fmla="*/ 23040 w 1079640"/>
              <a:gd name="textAreaRight" fmla="*/ 1056600 w 1079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671" h="21600">
                <a:moveTo>
                  <a:pt x="0" y="0"/>
                </a:moveTo>
                <a:lnTo>
                  <a:pt x="64671" y="0"/>
                </a:lnTo>
                <a:lnTo>
                  <a:pt x="64671" y="21600"/>
                </a:lnTo>
                <a:lnTo>
                  <a:pt x="0" y="21600"/>
                </a:lnTo>
                <a:close/>
              </a:path>
              <a:path fill="lightenLess" w="64671" h="21600">
                <a:moveTo>
                  <a:pt x="0" y="0"/>
                </a:moveTo>
                <a:lnTo>
                  <a:pt x="64671" y="0"/>
                </a:lnTo>
                <a:lnTo>
                  <a:pt x="63271" y="1400"/>
                </a:lnTo>
                <a:lnTo>
                  <a:pt x="1400" y="1400"/>
                </a:lnTo>
                <a:close/>
              </a:path>
              <a:path fill="darken" w="64671" h="21600">
                <a:moveTo>
                  <a:pt x="64671" y="0"/>
                </a:moveTo>
                <a:lnTo>
                  <a:pt x="64671" y="21600"/>
                </a:lnTo>
                <a:lnTo>
                  <a:pt x="63271" y="20200"/>
                </a:lnTo>
                <a:lnTo>
                  <a:pt x="63271" y="1400"/>
                </a:lnTo>
                <a:close/>
              </a:path>
              <a:path fill="darkenLess" w="64671" h="21600">
                <a:moveTo>
                  <a:pt x="646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71" y="20200"/>
                </a:lnTo>
                <a:close/>
              </a:path>
              <a:path fill="lighten" w="646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671" h="21600">
                <a:moveTo>
                  <a:pt x="25329" y="10800"/>
                </a:moveTo>
                <a:lnTo>
                  <a:pt x="39342" y="3794"/>
                </a:lnTo>
                <a:lnTo>
                  <a:pt x="39342" y="17806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>
            <a:hlinkClick r:id="" action="ppaction://hlinkshowjump?jump=firstslide"/>
          </p:cNvPr>
          <p:cNvSpPr/>
          <p:nvPr/>
        </p:nvSpPr>
        <p:spPr>
          <a:xfrm>
            <a:off x="6837480" y="358920"/>
            <a:ext cx="1079280" cy="360360"/>
          </a:xfrm>
          <a:custGeom>
            <a:avLst/>
            <a:gdLst>
              <a:gd name="textAreaLeft" fmla="*/ 23040 w 1079280"/>
              <a:gd name="textAreaRight" fmla="*/ 1056240 w 107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649" h="21600">
                <a:moveTo>
                  <a:pt x="0" y="0"/>
                </a:moveTo>
                <a:lnTo>
                  <a:pt x="64649" y="0"/>
                </a:lnTo>
                <a:lnTo>
                  <a:pt x="64649" y="21600"/>
                </a:lnTo>
                <a:lnTo>
                  <a:pt x="0" y="21600"/>
                </a:lnTo>
                <a:close/>
              </a:path>
              <a:path fill="lightenLess" w="64649" h="21600">
                <a:moveTo>
                  <a:pt x="0" y="0"/>
                </a:moveTo>
                <a:lnTo>
                  <a:pt x="64649" y="0"/>
                </a:lnTo>
                <a:lnTo>
                  <a:pt x="63249" y="1400"/>
                </a:lnTo>
                <a:lnTo>
                  <a:pt x="1400" y="1400"/>
                </a:lnTo>
                <a:close/>
              </a:path>
              <a:path fill="darken" w="64649" h="21600">
                <a:moveTo>
                  <a:pt x="64649" y="0"/>
                </a:moveTo>
                <a:lnTo>
                  <a:pt x="64649" y="21600"/>
                </a:lnTo>
                <a:lnTo>
                  <a:pt x="63249" y="20200"/>
                </a:lnTo>
                <a:lnTo>
                  <a:pt x="63249" y="1400"/>
                </a:lnTo>
                <a:close/>
              </a:path>
              <a:path fill="darkenLess" w="64649" h="21600">
                <a:moveTo>
                  <a:pt x="646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49" y="20200"/>
                </a:lnTo>
                <a:close/>
              </a:path>
              <a:path fill="lighten" w="646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649" h="21600">
                <a:moveTo>
                  <a:pt x="32325" y="3837"/>
                </a:moveTo>
                <a:lnTo>
                  <a:pt x="34901" y="6448"/>
                </a:lnTo>
                <a:lnTo>
                  <a:pt x="34901" y="4707"/>
                </a:lnTo>
                <a:lnTo>
                  <a:pt x="36676" y="4707"/>
                </a:lnTo>
                <a:lnTo>
                  <a:pt x="36676" y="8224"/>
                </a:lnTo>
                <a:lnTo>
                  <a:pt x="39288" y="10800"/>
                </a:lnTo>
                <a:lnTo>
                  <a:pt x="37634" y="10800"/>
                </a:lnTo>
                <a:lnTo>
                  <a:pt x="37634" y="17989"/>
                </a:lnTo>
                <a:lnTo>
                  <a:pt x="27015" y="17989"/>
                </a:lnTo>
                <a:lnTo>
                  <a:pt x="27015" y="10800"/>
                </a:lnTo>
                <a:lnTo>
                  <a:pt x="25362" y="10800"/>
                </a:lnTo>
                <a:close/>
              </a:path>
              <a:path fill="darkenLess" w="64649" h="21600">
                <a:moveTo>
                  <a:pt x="34901" y="6448"/>
                </a:moveTo>
                <a:lnTo>
                  <a:pt x="34901" y="4707"/>
                </a:lnTo>
                <a:lnTo>
                  <a:pt x="36676" y="4707"/>
                </a:lnTo>
                <a:lnTo>
                  <a:pt x="36676" y="8224"/>
                </a:lnTo>
                <a:close/>
              </a:path>
              <a:path fill="darkenLess" w="64649" h="21600">
                <a:moveTo>
                  <a:pt x="31402" y="14299"/>
                </a:moveTo>
                <a:lnTo>
                  <a:pt x="33247" y="14299"/>
                </a:lnTo>
                <a:lnTo>
                  <a:pt x="33247" y="17989"/>
                </a:lnTo>
                <a:lnTo>
                  <a:pt x="37634" y="17989"/>
                </a:lnTo>
                <a:lnTo>
                  <a:pt x="37634" y="10800"/>
                </a:lnTo>
                <a:lnTo>
                  <a:pt x="27015" y="10800"/>
                </a:lnTo>
                <a:lnTo>
                  <a:pt x="27015" y="17989"/>
                </a:lnTo>
                <a:lnTo>
                  <a:pt x="31402" y="17989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962160" y="846000"/>
            <a:ext cx="5181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3333ff"/>
                </a:solidFill>
                <a:latin typeface="Georgia"/>
              </a:rPr>
              <a:t>Linux Mandrake 6.1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82" name="25drukarka2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3733920" cy="2210040"/>
          </a:xfrm>
          <a:prstGeom prst="rect">
            <a:avLst/>
          </a:prstGeom>
          <a:ln w="0">
            <a:noFill/>
          </a:ln>
        </p:spPr>
      </p:pic>
      <p:pic>
        <p:nvPicPr>
          <p:cNvPr id="283" name="26drukarka3" descr=""/>
          <p:cNvPicPr/>
          <p:nvPr/>
        </p:nvPicPr>
        <p:blipFill>
          <a:blip r:embed="rId2"/>
          <a:stretch/>
        </p:blipFill>
        <p:spPr>
          <a:xfrm>
            <a:off x="4572000" y="1752480"/>
            <a:ext cx="3733920" cy="2224080"/>
          </a:xfrm>
          <a:prstGeom prst="rect">
            <a:avLst/>
          </a:prstGeom>
          <a:ln w="0">
            <a:noFill/>
          </a:ln>
        </p:spPr>
      </p:pic>
      <p:pic>
        <p:nvPicPr>
          <p:cNvPr id="284" name="27drukarkatyp" descr=""/>
          <p:cNvPicPr/>
          <p:nvPr/>
        </p:nvPicPr>
        <p:blipFill>
          <a:blip r:embed="rId3"/>
          <a:stretch/>
        </p:blipFill>
        <p:spPr>
          <a:xfrm>
            <a:off x="380880" y="4114800"/>
            <a:ext cx="3733920" cy="2444760"/>
          </a:xfrm>
          <a:prstGeom prst="rect">
            <a:avLst/>
          </a:prstGeom>
          <a:ln w="0">
            <a:noFill/>
          </a:ln>
        </p:spPr>
      </p:pic>
      <p:pic>
        <p:nvPicPr>
          <p:cNvPr id="285" name="28drukarkaustawienia" descr=""/>
          <p:cNvPicPr/>
          <p:nvPr/>
        </p:nvPicPr>
        <p:blipFill>
          <a:blip r:embed="rId4"/>
          <a:stretch/>
        </p:blipFill>
        <p:spPr>
          <a:xfrm>
            <a:off x="4572000" y="4114800"/>
            <a:ext cx="3757680" cy="2459160"/>
          </a:xfrm>
          <a:prstGeom prst="rect">
            <a:avLst/>
          </a:prstGeom>
          <a:ln w="0">
            <a:noFill/>
          </a:ln>
        </p:spPr>
      </p:pic>
      <p:pic>
        <p:nvPicPr>
          <p:cNvPr id="286" name="linux_4" descr=""/>
          <p:cNvPicPr/>
          <p:nvPr/>
        </p:nvPicPr>
        <p:blipFill>
          <a:blip r:embed="rId5"/>
          <a:stretch/>
        </p:blipFill>
        <p:spPr>
          <a:xfrm>
            <a:off x="0" y="6019920"/>
            <a:ext cx="604800" cy="717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F5D10-C25C-4C3F-B6BE-422BF14A3CF7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0" y="143820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Georgia"/>
              </a:rPr>
              <a:t>Sprawdzamy ustawione przed chwilą parametry drukarki i potwierdzamy lub cofamy się na początek procesu konfigurowania drukarek - jeśli chcemy coś zmienić 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>
            <a:hlinkClick r:id="" action="ppaction://hlinkshowjump?jump=nextslide"/>
          </p:cNvPr>
          <p:cNvSpPr/>
          <p:nvPr/>
        </p:nvSpPr>
        <p:spPr>
          <a:xfrm>
            <a:off x="7916760" y="358920"/>
            <a:ext cx="1079640" cy="360360"/>
          </a:xfrm>
          <a:custGeom>
            <a:avLst/>
            <a:gdLst>
              <a:gd name="textAreaLeft" fmla="*/ 23040 w 1079640"/>
              <a:gd name="textAreaRight" fmla="*/ 1056600 w 1079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671" h="21600">
                <a:moveTo>
                  <a:pt x="0" y="0"/>
                </a:moveTo>
                <a:lnTo>
                  <a:pt x="64671" y="0"/>
                </a:lnTo>
                <a:lnTo>
                  <a:pt x="64671" y="21600"/>
                </a:lnTo>
                <a:lnTo>
                  <a:pt x="0" y="21600"/>
                </a:lnTo>
                <a:close/>
              </a:path>
              <a:path fill="lightenLess" w="64671" h="21600">
                <a:moveTo>
                  <a:pt x="0" y="0"/>
                </a:moveTo>
                <a:lnTo>
                  <a:pt x="64671" y="0"/>
                </a:lnTo>
                <a:lnTo>
                  <a:pt x="63271" y="1400"/>
                </a:lnTo>
                <a:lnTo>
                  <a:pt x="1400" y="1400"/>
                </a:lnTo>
                <a:close/>
              </a:path>
              <a:path fill="darken" w="64671" h="21600">
                <a:moveTo>
                  <a:pt x="64671" y="0"/>
                </a:moveTo>
                <a:lnTo>
                  <a:pt x="64671" y="21600"/>
                </a:lnTo>
                <a:lnTo>
                  <a:pt x="63271" y="20200"/>
                </a:lnTo>
                <a:lnTo>
                  <a:pt x="63271" y="1400"/>
                </a:lnTo>
                <a:close/>
              </a:path>
              <a:path fill="darkenLess" w="64671" h="21600">
                <a:moveTo>
                  <a:pt x="646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71" y="20200"/>
                </a:lnTo>
                <a:close/>
              </a:path>
              <a:path fill="lighten" w="646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671" h="21600">
                <a:moveTo>
                  <a:pt x="25329" y="3794"/>
                </a:moveTo>
                <a:lnTo>
                  <a:pt x="39342" y="10800"/>
                </a:lnTo>
                <a:lnTo>
                  <a:pt x="25329" y="17806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>
            <a:hlinkClick r:id="" action="ppaction://hlinkshowjump?jump=previousslide"/>
          </p:cNvPr>
          <p:cNvSpPr/>
          <p:nvPr/>
        </p:nvSpPr>
        <p:spPr>
          <a:xfrm>
            <a:off x="5757840" y="358920"/>
            <a:ext cx="1079640" cy="360360"/>
          </a:xfrm>
          <a:custGeom>
            <a:avLst/>
            <a:gdLst>
              <a:gd name="textAreaLeft" fmla="*/ 23040 w 1079640"/>
              <a:gd name="textAreaRight" fmla="*/ 1056600 w 1079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671" h="21600">
                <a:moveTo>
                  <a:pt x="0" y="0"/>
                </a:moveTo>
                <a:lnTo>
                  <a:pt x="64671" y="0"/>
                </a:lnTo>
                <a:lnTo>
                  <a:pt x="64671" y="21600"/>
                </a:lnTo>
                <a:lnTo>
                  <a:pt x="0" y="21600"/>
                </a:lnTo>
                <a:close/>
              </a:path>
              <a:path fill="lightenLess" w="64671" h="21600">
                <a:moveTo>
                  <a:pt x="0" y="0"/>
                </a:moveTo>
                <a:lnTo>
                  <a:pt x="64671" y="0"/>
                </a:lnTo>
                <a:lnTo>
                  <a:pt x="63271" y="1400"/>
                </a:lnTo>
                <a:lnTo>
                  <a:pt x="1400" y="1400"/>
                </a:lnTo>
                <a:close/>
              </a:path>
              <a:path fill="darken" w="64671" h="21600">
                <a:moveTo>
                  <a:pt x="64671" y="0"/>
                </a:moveTo>
                <a:lnTo>
                  <a:pt x="64671" y="21600"/>
                </a:lnTo>
                <a:lnTo>
                  <a:pt x="63271" y="20200"/>
                </a:lnTo>
                <a:lnTo>
                  <a:pt x="63271" y="1400"/>
                </a:lnTo>
                <a:close/>
              </a:path>
              <a:path fill="darkenLess" w="64671" h="21600">
                <a:moveTo>
                  <a:pt x="646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71" y="20200"/>
                </a:lnTo>
                <a:close/>
              </a:path>
              <a:path fill="lighten" w="646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671" h="21600">
                <a:moveTo>
                  <a:pt x="25329" y="10800"/>
                </a:moveTo>
                <a:lnTo>
                  <a:pt x="39342" y="3794"/>
                </a:lnTo>
                <a:lnTo>
                  <a:pt x="39342" y="17806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>
            <a:hlinkClick r:id="" action="ppaction://hlinkshowjump?jump=firstslide"/>
          </p:cNvPr>
          <p:cNvSpPr/>
          <p:nvPr/>
        </p:nvSpPr>
        <p:spPr>
          <a:xfrm>
            <a:off x="6837480" y="358920"/>
            <a:ext cx="1079280" cy="360360"/>
          </a:xfrm>
          <a:custGeom>
            <a:avLst/>
            <a:gdLst>
              <a:gd name="textAreaLeft" fmla="*/ 23040 w 1079280"/>
              <a:gd name="textAreaRight" fmla="*/ 1056240 w 107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649" h="21600">
                <a:moveTo>
                  <a:pt x="0" y="0"/>
                </a:moveTo>
                <a:lnTo>
                  <a:pt x="64649" y="0"/>
                </a:lnTo>
                <a:lnTo>
                  <a:pt x="64649" y="21600"/>
                </a:lnTo>
                <a:lnTo>
                  <a:pt x="0" y="21600"/>
                </a:lnTo>
                <a:close/>
              </a:path>
              <a:path fill="lightenLess" w="64649" h="21600">
                <a:moveTo>
                  <a:pt x="0" y="0"/>
                </a:moveTo>
                <a:lnTo>
                  <a:pt x="64649" y="0"/>
                </a:lnTo>
                <a:lnTo>
                  <a:pt x="63249" y="1400"/>
                </a:lnTo>
                <a:lnTo>
                  <a:pt x="1400" y="1400"/>
                </a:lnTo>
                <a:close/>
              </a:path>
              <a:path fill="darken" w="64649" h="21600">
                <a:moveTo>
                  <a:pt x="64649" y="0"/>
                </a:moveTo>
                <a:lnTo>
                  <a:pt x="64649" y="21600"/>
                </a:lnTo>
                <a:lnTo>
                  <a:pt x="63249" y="20200"/>
                </a:lnTo>
                <a:lnTo>
                  <a:pt x="63249" y="1400"/>
                </a:lnTo>
                <a:close/>
              </a:path>
              <a:path fill="darkenLess" w="64649" h="21600">
                <a:moveTo>
                  <a:pt x="646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49" y="20200"/>
                </a:lnTo>
                <a:close/>
              </a:path>
              <a:path fill="lighten" w="646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649" h="21600">
                <a:moveTo>
                  <a:pt x="32325" y="3837"/>
                </a:moveTo>
                <a:lnTo>
                  <a:pt x="34901" y="6448"/>
                </a:lnTo>
                <a:lnTo>
                  <a:pt x="34901" y="4707"/>
                </a:lnTo>
                <a:lnTo>
                  <a:pt x="36676" y="4707"/>
                </a:lnTo>
                <a:lnTo>
                  <a:pt x="36676" y="8224"/>
                </a:lnTo>
                <a:lnTo>
                  <a:pt x="39288" y="10800"/>
                </a:lnTo>
                <a:lnTo>
                  <a:pt x="37634" y="10800"/>
                </a:lnTo>
                <a:lnTo>
                  <a:pt x="37634" y="17989"/>
                </a:lnTo>
                <a:lnTo>
                  <a:pt x="27015" y="17989"/>
                </a:lnTo>
                <a:lnTo>
                  <a:pt x="27015" y="10800"/>
                </a:lnTo>
                <a:lnTo>
                  <a:pt x="25362" y="10800"/>
                </a:lnTo>
                <a:close/>
              </a:path>
              <a:path fill="darkenLess" w="64649" h="21600">
                <a:moveTo>
                  <a:pt x="34901" y="6448"/>
                </a:moveTo>
                <a:lnTo>
                  <a:pt x="34901" y="4707"/>
                </a:lnTo>
                <a:lnTo>
                  <a:pt x="36676" y="4707"/>
                </a:lnTo>
                <a:lnTo>
                  <a:pt x="36676" y="8224"/>
                </a:lnTo>
                <a:close/>
              </a:path>
              <a:path fill="darkenLess" w="64649" h="21600">
                <a:moveTo>
                  <a:pt x="31402" y="14299"/>
                </a:moveTo>
                <a:lnTo>
                  <a:pt x="33247" y="14299"/>
                </a:lnTo>
                <a:lnTo>
                  <a:pt x="33247" y="17989"/>
                </a:lnTo>
                <a:lnTo>
                  <a:pt x="37634" y="17989"/>
                </a:lnTo>
                <a:lnTo>
                  <a:pt x="37634" y="10800"/>
                </a:lnTo>
                <a:lnTo>
                  <a:pt x="27015" y="10800"/>
                </a:lnTo>
                <a:lnTo>
                  <a:pt x="27015" y="17989"/>
                </a:lnTo>
                <a:lnTo>
                  <a:pt x="31402" y="17989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962160" y="846000"/>
            <a:ext cx="5181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3333ff"/>
                </a:solidFill>
                <a:latin typeface="Georgia"/>
              </a:rPr>
              <a:t>Linux Mandrake 6.1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92" name="29drukarkaweryfikacja" descr=""/>
          <p:cNvPicPr/>
          <p:nvPr/>
        </p:nvPicPr>
        <p:blipFill>
          <a:blip r:embed="rId1"/>
          <a:stretch/>
        </p:blipFill>
        <p:spPr>
          <a:xfrm>
            <a:off x="2158920" y="2158920"/>
            <a:ext cx="5491080" cy="3595680"/>
          </a:xfrm>
          <a:prstGeom prst="rect">
            <a:avLst/>
          </a:prstGeom>
          <a:ln w="0">
            <a:noFill/>
          </a:ln>
        </p:spPr>
      </p:pic>
      <p:pic>
        <p:nvPicPr>
          <p:cNvPr id="293" name="linux_4" descr=""/>
          <p:cNvPicPr/>
          <p:nvPr/>
        </p:nvPicPr>
        <p:blipFill>
          <a:blip r:embed="rId2"/>
          <a:stretch/>
        </p:blipFill>
        <p:spPr>
          <a:xfrm>
            <a:off x="1905120" y="5334120"/>
            <a:ext cx="604800" cy="717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E7CE5-7F11-45D6-9010-9E3BD47786BF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>
            <a:hlinkClick r:id="" action="ppaction://hlinkshowjump?jump=nextslide"/>
          </p:cNvPr>
          <p:cNvSpPr/>
          <p:nvPr/>
        </p:nvSpPr>
        <p:spPr>
          <a:xfrm>
            <a:off x="7916760" y="358920"/>
            <a:ext cx="1079640" cy="360360"/>
          </a:xfrm>
          <a:custGeom>
            <a:avLst/>
            <a:gdLst>
              <a:gd name="textAreaLeft" fmla="*/ 23040 w 1079640"/>
              <a:gd name="textAreaRight" fmla="*/ 1056600 w 1079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671" h="21600">
                <a:moveTo>
                  <a:pt x="0" y="0"/>
                </a:moveTo>
                <a:lnTo>
                  <a:pt x="64671" y="0"/>
                </a:lnTo>
                <a:lnTo>
                  <a:pt x="64671" y="21600"/>
                </a:lnTo>
                <a:lnTo>
                  <a:pt x="0" y="21600"/>
                </a:lnTo>
                <a:close/>
              </a:path>
              <a:path fill="lightenLess" w="64671" h="21600">
                <a:moveTo>
                  <a:pt x="0" y="0"/>
                </a:moveTo>
                <a:lnTo>
                  <a:pt x="64671" y="0"/>
                </a:lnTo>
                <a:lnTo>
                  <a:pt x="63271" y="1400"/>
                </a:lnTo>
                <a:lnTo>
                  <a:pt x="1400" y="1400"/>
                </a:lnTo>
                <a:close/>
              </a:path>
              <a:path fill="darken" w="64671" h="21600">
                <a:moveTo>
                  <a:pt x="64671" y="0"/>
                </a:moveTo>
                <a:lnTo>
                  <a:pt x="64671" y="21600"/>
                </a:lnTo>
                <a:lnTo>
                  <a:pt x="63271" y="20200"/>
                </a:lnTo>
                <a:lnTo>
                  <a:pt x="63271" y="1400"/>
                </a:lnTo>
                <a:close/>
              </a:path>
              <a:path fill="darkenLess" w="64671" h="21600">
                <a:moveTo>
                  <a:pt x="646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71" y="20200"/>
                </a:lnTo>
                <a:close/>
              </a:path>
              <a:path fill="lighten" w="646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671" h="21600">
                <a:moveTo>
                  <a:pt x="25329" y="3794"/>
                </a:moveTo>
                <a:lnTo>
                  <a:pt x="39342" y="10800"/>
                </a:lnTo>
                <a:lnTo>
                  <a:pt x="25329" y="17806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>
            <a:hlinkClick r:id="" action="ppaction://hlinkshowjump?jump=previousslide"/>
          </p:cNvPr>
          <p:cNvSpPr/>
          <p:nvPr/>
        </p:nvSpPr>
        <p:spPr>
          <a:xfrm>
            <a:off x="5757840" y="358920"/>
            <a:ext cx="1079640" cy="360360"/>
          </a:xfrm>
          <a:custGeom>
            <a:avLst/>
            <a:gdLst>
              <a:gd name="textAreaLeft" fmla="*/ 23040 w 1079640"/>
              <a:gd name="textAreaRight" fmla="*/ 1056600 w 1079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671" h="21600">
                <a:moveTo>
                  <a:pt x="0" y="0"/>
                </a:moveTo>
                <a:lnTo>
                  <a:pt x="64671" y="0"/>
                </a:lnTo>
                <a:lnTo>
                  <a:pt x="64671" y="21600"/>
                </a:lnTo>
                <a:lnTo>
                  <a:pt x="0" y="21600"/>
                </a:lnTo>
                <a:close/>
              </a:path>
              <a:path fill="lightenLess" w="64671" h="21600">
                <a:moveTo>
                  <a:pt x="0" y="0"/>
                </a:moveTo>
                <a:lnTo>
                  <a:pt x="64671" y="0"/>
                </a:lnTo>
                <a:lnTo>
                  <a:pt x="63271" y="1400"/>
                </a:lnTo>
                <a:lnTo>
                  <a:pt x="1400" y="1400"/>
                </a:lnTo>
                <a:close/>
              </a:path>
              <a:path fill="darken" w="64671" h="21600">
                <a:moveTo>
                  <a:pt x="64671" y="0"/>
                </a:moveTo>
                <a:lnTo>
                  <a:pt x="64671" y="21600"/>
                </a:lnTo>
                <a:lnTo>
                  <a:pt x="63271" y="20200"/>
                </a:lnTo>
                <a:lnTo>
                  <a:pt x="63271" y="1400"/>
                </a:lnTo>
                <a:close/>
              </a:path>
              <a:path fill="darkenLess" w="64671" h="21600">
                <a:moveTo>
                  <a:pt x="646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71" y="20200"/>
                </a:lnTo>
                <a:close/>
              </a:path>
              <a:path fill="lighten" w="646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671" h="21600">
                <a:moveTo>
                  <a:pt x="25329" y="10800"/>
                </a:moveTo>
                <a:lnTo>
                  <a:pt x="39342" y="3794"/>
                </a:lnTo>
                <a:lnTo>
                  <a:pt x="39342" y="17806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>
            <a:hlinkClick r:id="" action="ppaction://hlinkshowjump?jump=firstslide"/>
          </p:cNvPr>
          <p:cNvSpPr/>
          <p:nvPr/>
        </p:nvSpPr>
        <p:spPr>
          <a:xfrm>
            <a:off x="6837480" y="358920"/>
            <a:ext cx="1079280" cy="360360"/>
          </a:xfrm>
          <a:custGeom>
            <a:avLst/>
            <a:gdLst>
              <a:gd name="textAreaLeft" fmla="*/ 23040 w 1079280"/>
              <a:gd name="textAreaRight" fmla="*/ 1056240 w 107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649" h="21600">
                <a:moveTo>
                  <a:pt x="0" y="0"/>
                </a:moveTo>
                <a:lnTo>
                  <a:pt x="64649" y="0"/>
                </a:lnTo>
                <a:lnTo>
                  <a:pt x="64649" y="21600"/>
                </a:lnTo>
                <a:lnTo>
                  <a:pt x="0" y="21600"/>
                </a:lnTo>
                <a:close/>
              </a:path>
              <a:path fill="lightenLess" w="64649" h="21600">
                <a:moveTo>
                  <a:pt x="0" y="0"/>
                </a:moveTo>
                <a:lnTo>
                  <a:pt x="64649" y="0"/>
                </a:lnTo>
                <a:lnTo>
                  <a:pt x="63249" y="1400"/>
                </a:lnTo>
                <a:lnTo>
                  <a:pt x="1400" y="1400"/>
                </a:lnTo>
                <a:close/>
              </a:path>
              <a:path fill="darken" w="64649" h="21600">
                <a:moveTo>
                  <a:pt x="64649" y="0"/>
                </a:moveTo>
                <a:lnTo>
                  <a:pt x="64649" y="21600"/>
                </a:lnTo>
                <a:lnTo>
                  <a:pt x="63249" y="20200"/>
                </a:lnTo>
                <a:lnTo>
                  <a:pt x="63249" y="1400"/>
                </a:lnTo>
                <a:close/>
              </a:path>
              <a:path fill="darkenLess" w="64649" h="21600">
                <a:moveTo>
                  <a:pt x="646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49" y="20200"/>
                </a:lnTo>
                <a:close/>
              </a:path>
              <a:path fill="lighten" w="646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649" h="21600">
                <a:moveTo>
                  <a:pt x="32325" y="3837"/>
                </a:moveTo>
                <a:lnTo>
                  <a:pt x="34901" y="6448"/>
                </a:lnTo>
                <a:lnTo>
                  <a:pt x="34901" y="4707"/>
                </a:lnTo>
                <a:lnTo>
                  <a:pt x="36676" y="4707"/>
                </a:lnTo>
                <a:lnTo>
                  <a:pt x="36676" y="8224"/>
                </a:lnTo>
                <a:lnTo>
                  <a:pt x="39288" y="10800"/>
                </a:lnTo>
                <a:lnTo>
                  <a:pt x="37634" y="10800"/>
                </a:lnTo>
                <a:lnTo>
                  <a:pt x="37634" y="17989"/>
                </a:lnTo>
                <a:lnTo>
                  <a:pt x="27015" y="17989"/>
                </a:lnTo>
                <a:lnTo>
                  <a:pt x="27015" y="10800"/>
                </a:lnTo>
                <a:lnTo>
                  <a:pt x="25362" y="10800"/>
                </a:lnTo>
                <a:close/>
              </a:path>
              <a:path fill="darkenLess" w="64649" h="21600">
                <a:moveTo>
                  <a:pt x="34901" y="6448"/>
                </a:moveTo>
                <a:lnTo>
                  <a:pt x="34901" y="4707"/>
                </a:lnTo>
                <a:lnTo>
                  <a:pt x="36676" y="4707"/>
                </a:lnTo>
                <a:lnTo>
                  <a:pt x="36676" y="8224"/>
                </a:lnTo>
                <a:close/>
              </a:path>
              <a:path fill="darkenLess" w="64649" h="21600">
                <a:moveTo>
                  <a:pt x="31402" y="14299"/>
                </a:moveTo>
                <a:lnTo>
                  <a:pt x="33247" y="14299"/>
                </a:lnTo>
                <a:lnTo>
                  <a:pt x="33247" y="17989"/>
                </a:lnTo>
                <a:lnTo>
                  <a:pt x="37634" y="17989"/>
                </a:lnTo>
                <a:lnTo>
                  <a:pt x="37634" y="10800"/>
                </a:lnTo>
                <a:lnTo>
                  <a:pt x="27015" y="10800"/>
                </a:lnTo>
                <a:lnTo>
                  <a:pt x="27015" y="17989"/>
                </a:lnTo>
                <a:lnTo>
                  <a:pt x="31402" y="17989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962160" y="846000"/>
            <a:ext cx="5181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3333ff"/>
                </a:solidFill>
                <a:latin typeface="Georgia"/>
              </a:rPr>
              <a:t>Linux Mandrake 6.1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1438200"/>
            <a:ext cx="9144000" cy="20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7628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Georgia"/>
              </a:rPr>
              <a:t>Rozpoczynamy instalację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7628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eorgia"/>
              </a:rPr>
              <a:t>Jeśli nasz BIOS obsługuje start z dysku CD ROM, ustawiamy odpowiednią opcję w BIOS-ie, wkładamy dysk instalacyjny Linux Mandrake 6.1 do napędu CD ROM i uruchamiamy kompu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7628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eorgia"/>
              </a:rPr>
              <a:t>lu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7628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eorgia"/>
              </a:rPr>
              <a:t>przygotowujemy 3.5 calową dyskietkę instalacyjną, wkładamy ją do startowego napędu dyskietek i uruchamiamy kompu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3352680"/>
            <a:ext cx="9144000" cy="349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4762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1" lang="pl-PL" sz="1200" spc="-1" strike="noStrike">
                <a:solidFill>
                  <a:srgbClr val="000000"/>
                </a:solidFill>
                <a:latin typeface="Georgia"/>
              </a:rPr>
              <a:t>Przygotowanie dyskietki instalacyjnej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Georgia"/>
                <a:ea typeface="MS Mincho"/>
              </a:rPr>
              <a:t>W komputerze z działającym systemem DOS lub Windows włóż płytę instalacyjną Linux’a do napędu CD-ROM,</a:t>
            </a:r>
            <a:r>
              <a:rPr b="0" lang="pl-PL" sz="1200" spc="-1" strike="noStrike">
                <a:solidFill>
                  <a:srgbClr val="000000"/>
                </a:solidFill>
                <a:latin typeface="Georgia"/>
              </a:rPr>
              <a:t> z</a:t>
            </a:r>
            <a:r>
              <a:rPr b="0" lang="pl-PL" sz="1200" spc="-1" strike="noStrike">
                <a:solidFill>
                  <a:srgbClr val="000000"/>
                </a:solidFill>
                <a:latin typeface="Georgia"/>
                <a:ea typeface="MS Mincho"/>
              </a:rPr>
              <a:t>mień bieżący dysk na napęd zawierający powyższą płytę,</a:t>
            </a:r>
            <a:r>
              <a:rPr b="0" lang="pl-PL" sz="1200" spc="-1" strike="noStrike">
                <a:solidFill>
                  <a:srgbClr val="000000"/>
                </a:solidFill>
                <a:latin typeface="Georgia"/>
              </a:rPr>
              <a:t> w</a:t>
            </a:r>
            <a:r>
              <a:rPr b="0" lang="pl-PL" sz="1200" spc="-1" strike="noStrike">
                <a:solidFill>
                  <a:srgbClr val="000000"/>
                </a:solidFill>
                <a:latin typeface="Georgia"/>
                <a:ea typeface="MS Mincho"/>
              </a:rPr>
              <a:t>łóż czystą, sformatowaną dyskietkę 3,5 - calową do napędu dyskietek</a:t>
            </a:r>
            <a:r>
              <a:rPr b="0" lang="pl-PL" sz="1200" spc="-1" strike="noStrike">
                <a:solidFill>
                  <a:srgbClr val="000000"/>
                </a:solidFill>
                <a:latin typeface="Georgia"/>
              </a:rPr>
              <a:t>, p</a:t>
            </a:r>
            <a:r>
              <a:rPr b="0" lang="pl-PL" sz="1200" spc="-1" strike="noStrike">
                <a:solidFill>
                  <a:srgbClr val="000000"/>
                </a:solidFill>
                <a:latin typeface="Georgia"/>
                <a:ea typeface="MS Mincho"/>
              </a:rPr>
              <a:t>rzejdź do katalogu DOSUTILS i uruchom program RAWRITE,</a:t>
            </a:r>
            <a:r>
              <a:rPr b="0" lang="pl-PL" sz="1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Georgia"/>
                <a:ea typeface="MS Mincho"/>
              </a:rPr>
              <a:t>wprowadź nazwę pliku wraz ze ścieżką dostępu X:\IMAGES\BOOT.IMG,</a:t>
            </a:r>
            <a:r>
              <a:rPr b="0" lang="pl-PL" sz="1200" spc="-1" strike="noStrike">
                <a:solidFill>
                  <a:srgbClr val="000000"/>
                </a:solidFill>
                <a:latin typeface="Georgia"/>
              </a:rPr>
              <a:t> w</a:t>
            </a:r>
            <a:r>
              <a:rPr b="0" lang="pl-PL" sz="1200" spc="-1" strike="noStrike">
                <a:solidFill>
                  <a:srgbClr val="000000"/>
                </a:solidFill>
                <a:latin typeface="Georgia"/>
                <a:ea typeface="MS Mincho"/>
              </a:rPr>
              <a:t>prowadź literę, pod którą widoczny jest </a:t>
            </a:r>
            <a:r>
              <a:rPr b="0" lang="pl-PL" sz="1200" spc="-1" strike="noStrike">
                <a:solidFill>
                  <a:srgbClr val="000000"/>
                </a:solidFill>
                <a:latin typeface="Georgia"/>
              </a:rPr>
              <a:t>Twój </a:t>
            </a:r>
            <a:r>
              <a:rPr b="0" lang="pl-PL" sz="1200" spc="-1" strike="noStrike">
                <a:solidFill>
                  <a:srgbClr val="000000"/>
                </a:solidFill>
                <a:latin typeface="Georgia"/>
                <a:ea typeface="MS Mincho"/>
              </a:rPr>
              <a:t>napęd dyskietek,</a:t>
            </a:r>
            <a:r>
              <a:rPr b="0" lang="pl-PL" sz="1200" spc="-1" strike="noStrike">
                <a:solidFill>
                  <a:srgbClr val="000000"/>
                </a:solidFill>
                <a:latin typeface="Georgia"/>
              </a:rPr>
              <a:t> naciśnij &lt;ENTER&gt;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Georgia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1" i="1" lang="en-US" sz="1200" spc="-1" strike="noStrike">
                <a:solidFill>
                  <a:srgbClr val="ff0000"/>
                </a:solidFill>
                <a:latin typeface="Georgia"/>
                <a:ea typeface="Times New Roman"/>
              </a:rPr>
              <a:t>X:\&gt;cd DOSUTILS</a:t>
            </a:r>
            <a:r>
              <a:rPr b="1" i="1" lang="pl-PL" sz="1200" spc="-1" strike="noStrike">
                <a:solidFill>
                  <a:srgbClr val="ff0000"/>
                </a:solidFill>
                <a:latin typeface="Georgia"/>
              </a:rPr>
              <a:t> </a:t>
            </a:r>
            <a:r>
              <a:rPr b="1" i="1" lang="en-US" sz="1200" spc="-1" strike="noStrike">
                <a:solidFill>
                  <a:srgbClr val="ff0000"/>
                </a:solidFill>
                <a:latin typeface="Georgia"/>
                <a:ea typeface="Times New Roman"/>
              </a:rPr>
              <a:t>&lt;ENTER&gt;</a:t>
            </a:r>
            <a:br>
              <a:rPr sz="1200"/>
            </a:br>
            <a:r>
              <a:rPr b="1" i="1" lang="pl-PL" sz="1200" spc="-1" strike="noStrike">
                <a:solidFill>
                  <a:srgbClr val="ff0000"/>
                </a:solidFill>
                <a:latin typeface="Georgia"/>
              </a:rPr>
              <a:t>	</a:t>
            </a:r>
            <a:r>
              <a:rPr b="1" i="1" lang="en-US" sz="1200" spc="-1" strike="noStrike">
                <a:solidFill>
                  <a:srgbClr val="ff0000"/>
                </a:solidFill>
                <a:latin typeface="Georgia"/>
                <a:ea typeface="Times New Roman"/>
              </a:rPr>
              <a:t>X:\</a:t>
            </a:r>
            <a:r>
              <a:rPr b="1" i="1" lang="pl-PL" sz="1200" spc="-1" strike="noStrike">
                <a:solidFill>
                  <a:srgbClr val="ff0000"/>
                </a:solidFill>
                <a:latin typeface="Georgia"/>
              </a:rPr>
              <a:t>&gt;</a:t>
            </a:r>
            <a:r>
              <a:rPr b="1" i="1" lang="en-US" sz="1200" spc="-1" strike="noStrike">
                <a:solidFill>
                  <a:srgbClr val="ff0000"/>
                </a:solidFill>
                <a:latin typeface="Georgia"/>
                <a:ea typeface="Times New Roman"/>
              </a:rPr>
              <a:t>DOSUTILS&gt;RAWRITE</a:t>
            </a:r>
            <a:r>
              <a:rPr b="1" i="1" lang="pl-PL" sz="1200" spc="-1" strike="noStrike">
                <a:solidFill>
                  <a:srgbClr val="ff0000"/>
                </a:solidFill>
                <a:latin typeface="Georgia"/>
              </a:rPr>
              <a:t> </a:t>
            </a:r>
            <a:r>
              <a:rPr b="1" i="1" lang="en-US" sz="1200" spc="-1" strike="noStrike">
                <a:solidFill>
                  <a:srgbClr val="ff0000"/>
                </a:solidFill>
                <a:latin typeface="Georgia"/>
                <a:ea typeface="Times New Roman"/>
              </a:rPr>
              <a:t>&lt;ENTER&gt;</a:t>
            </a:r>
            <a:r>
              <a:rPr b="1" i="1" lang="pl-PL" sz="1200" spc="-1" strike="noStrike">
                <a:solidFill>
                  <a:srgbClr val="ff0000"/>
                </a:solidFill>
                <a:latin typeface="Georgia"/>
              </a:rPr>
              <a:t> </a:t>
            </a:r>
            <a:br>
              <a:rPr sz="1200"/>
            </a:br>
            <a:r>
              <a:rPr b="1" i="1" lang="pl-PL" sz="1200" spc="-1" strike="noStrike">
                <a:solidFill>
                  <a:srgbClr val="ff0000"/>
                </a:solidFill>
                <a:latin typeface="Georgia"/>
              </a:rPr>
              <a:t>	</a:t>
            </a:r>
            <a:r>
              <a:rPr b="1" i="1" lang="en-US" sz="1200" spc="-1" strike="noStrike">
                <a:solidFill>
                  <a:srgbClr val="ff0000"/>
                </a:solidFill>
                <a:latin typeface="Georgia"/>
                <a:ea typeface="Times New Roman"/>
              </a:rPr>
              <a:t>Enter the disk image source filename: X:\IMAGES\BOOT.IMG</a:t>
            </a:r>
            <a:r>
              <a:rPr b="1" i="1" lang="pl-PL" sz="1200" spc="-1" strike="noStrike">
                <a:solidFill>
                  <a:srgbClr val="ff0000"/>
                </a:solidFill>
                <a:latin typeface="Georgia"/>
              </a:rPr>
              <a:t> </a:t>
            </a:r>
            <a:r>
              <a:rPr b="1" i="1" lang="en-US" sz="1200" spc="-1" strike="noStrike">
                <a:solidFill>
                  <a:srgbClr val="ff0000"/>
                </a:solidFill>
                <a:latin typeface="Georgia"/>
                <a:ea typeface="Times New Roman"/>
              </a:rPr>
              <a:t>&lt;ENTER&gt;</a:t>
            </a:r>
            <a:r>
              <a:rPr b="1" i="1" lang="pl-PL" sz="1200" spc="-1" strike="noStrike">
                <a:solidFill>
                  <a:srgbClr val="ff0000"/>
                </a:solidFill>
                <a:latin typeface="Georgia"/>
              </a:rPr>
              <a:t> </a:t>
            </a:r>
            <a:br>
              <a:rPr sz="1200"/>
            </a:br>
            <a:r>
              <a:rPr b="1" i="1" lang="pl-PL" sz="1200" spc="-1" strike="noStrike">
                <a:solidFill>
                  <a:srgbClr val="ff0000"/>
                </a:solidFill>
                <a:latin typeface="Georgia"/>
              </a:rPr>
              <a:t>	</a:t>
            </a:r>
            <a:r>
              <a:rPr b="1" i="1" lang="en-US" sz="1200" spc="-1" strike="noStrike">
                <a:solidFill>
                  <a:srgbClr val="ff0000"/>
                </a:solidFill>
                <a:latin typeface="Georgia"/>
                <a:ea typeface="Times New Roman"/>
              </a:rPr>
              <a:t>Enter target diskette drive: A:</a:t>
            </a:r>
            <a:r>
              <a:rPr b="1" i="1" lang="pl-PL" sz="1200" spc="-1" strike="noStrike">
                <a:solidFill>
                  <a:srgbClr val="ff0000"/>
                </a:solidFill>
                <a:latin typeface="Georgia"/>
              </a:rPr>
              <a:t> </a:t>
            </a:r>
            <a:r>
              <a:rPr b="1" i="1" lang="en-US" sz="1200" spc="-1" strike="noStrike">
                <a:solidFill>
                  <a:srgbClr val="ff0000"/>
                </a:solidFill>
                <a:latin typeface="Georgia"/>
                <a:ea typeface="Times New Roman"/>
              </a:rPr>
              <a:t>&lt;ENTER&gt;</a:t>
            </a:r>
            <a:br>
              <a:rPr sz="1200"/>
            </a:br>
            <a:r>
              <a:rPr b="1" i="1" lang="pl-PL" sz="1200" spc="-1" strike="noStrike">
                <a:solidFill>
                  <a:srgbClr val="ff0000"/>
                </a:solidFill>
                <a:latin typeface="Georgia"/>
              </a:rPr>
              <a:t>	</a:t>
            </a:r>
            <a:r>
              <a:rPr b="1" i="1" lang="en-US" sz="1200" spc="-1" strike="noStrike">
                <a:solidFill>
                  <a:srgbClr val="ff0000"/>
                </a:solidFill>
                <a:latin typeface="Georgia"/>
                <a:ea typeface="Times New Roman"/>
              </a:rPr>
              <a:t>Please insert … into drive A: and press -ENTER- : &lt;EN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i="1" lang="pl-PL" sz="1200" spc="-1" strike="noStrike">
                <a:solidFill>
                  <a:srgbClr val="000000"/>
                </a:solidFill>
                <a:latin typeface="Georgia"/>
              </a:rPr>
              <a:t>X:</a:t>
            </a:r>
            <a:r>
              <a:rPr b="0" i="1" lang="pl-PL" sz="1200" spc="-1" strike="noStrike">
                <a:solidFill>
                  <a:srgbClr val="000000"/>
                </a:solidFill>
                <a:latin typeface="Georgia"/>
              </a:rPr>
              <a:t> - oznacza Twój napęd CD ROM,</a:t>
            </a:r>
            <a:br>
              <a:rPr sz="1200"/>
            </a:br>
            <a:r>
              <a:rPr b="1" i="1" lang="pl-PL" sz="1200" spc="-1" strike="noStrike">
                <a:solidFill>
                  <a:srgbClr val="000000"/>
                </a:solidFill>
                <a:latin typeface="Georgia"/>
              </a:rPr>
              <a:t>A:</a:t>
            </a:r>
            <a:r>
              <a:rPr b="0" i="1" lang="pl-PL" sz="1200" spc="-1" strike="noStrike">
                <a:solidFill>
                  <a:srgbClr val="000000"/>
                </a:solidFill>
                <a:latin typeface="Georgia"/>
              </a:rPr>
              <a:t> - to Twoja startowa stacja dyskó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linux_4" descr=""/>
          <p:cNvPicPr/>
          <p:nvPr/>
        </p:nvPicPr>
        <p:blipFill>
          <a:blip r:embed="rId1"/>
          <a:stretch/>
        </p:blipFill>
        <p:spPr>
          <a:xfrm>
            <a:off x="0" y="6019920"/>
            <a:ext cx="604800" cy="717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3D452-D6FB-4FC8-AF11-14C0CB116FB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0" y="1438200"/>
            <a:ext cx="9144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Georgia"/>
              </a:rPr>
              <a:t>Przyszła pora na wprowadzenie i potwierdzenie hasła najważniejszego użytkownika systemu – „root’a”. To osoba z prawami dostępu największymi w całej sieci. Jest ona zwykle nazywana - administrator sieci. Może wszystko zepsuć w odróżnieniu od „szarego” użytkownika”. Tego hasła nie możesz zapomnieć ... ;-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>
            <a:hlinkClick r:id="" action="ppaction://hlinkshowjump?jump=nextslide"/>
          </p:cNvPr>
          <p:cNvSpPr/>
          <p:nvPr/>
        </p:nvSpPr>
        <p:spPr>
          <a:xfrm>
            <a:off x="7916760" y="358920"/>
            <a:ext cx="1079640" cy="360360"/>
          </a:xfrm>
          <a:custGeom>
            <a:avLst/>
            <a:gdLst>
              <a:gd name="textAreaLeft" fmla="*/ 23040 w 1079640"/>
              <a:gd name="textAreaRight" fmla="*/ 1056600 w 1079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671" h="21600">
                <a:moveTo>
                  <a:pt x="0" y="0"/>
                </a:moveTo>
                <a:lnTo>
                  <a:pt x="64671" y="0"/>
                </a:lnTo>
                <a:lnTo>
                  <a:pt x="64671" y="21600"/>
                </a:lnTo>
                <a:lnTo>
                  <a:pt x="0" y="21600"/>
                </a:lnTo>
                <a:close/>
              </a:path>
              <a:path fill="lightenLess" w="64671" h="21600">
                <a:moveTo>
                  <a:pt x="0" y="0"/>
                </a:moveTo>
                <a:lnTo>
                  <a:pt x="64671" y="0"/>
                </a:lnTo>
                <a:lnTo>
                  <a:pt x="63271" y="1400"/>
                </a:lnTo>
                <a:lnTo>
                  <a:pt x="1400" y="1400"/>
                </a:lnTo>
                <a:close/>
              </a:path>
              <a:path fill="darken" w="64671" h="21600">
                <a:moveTo>
                  <a:pt x="64671" y="0"/>
                </a:moveTo>
                <a:lnTo>
                  <a:pt x="64671" y="21600"/>
                </a:lnTo>
                <a:lnTo>
                  <a:pt x="63271" y="20200"/>
                </a:lnTo>
                <a:lnTo>
                  <a:pt x="63271" y="1400"/>
                </a:lnTo>
                <a:close/>
              </a:path>
              <a:path fill="darkenLess" w="64671" h="21600">
                <a:moveTo>
                  <a:pt x="646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71" y="20200"/>
                </a:lnTo>
                <a:close/>
              </a:path>
              <a:path fill="lighten" w="646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671" h="21600">
                <a:moveTo>
                  <a:pt x="25329" y="3794"/>
                </a:moveTo>
                <a:lnTo>
                  <a:pt x="39342" y="10800"/>
                </a:lnTo>
                <a:lnTo>
                  <a:pt x="25329" y="17806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>
            <a:hlinkClick r:id="" action="ppaction://hlinkshowjump?jump=previousslide"/>
          </p:cNvPr>
          <p:cNvSpPr/>
          <p:nvPr/>
        </p:nvSpPr>
        <p:spPr>
          <a:xfrm>
            <a:off x="5757840" y="358920"/>
            <a:ext cx="1079640" cy="360360"/>
          </a:xfrm>
          <a:custGeom>
            <a:avLst/>
            <a:gdLst>
              <a:gd name="textAreaLeft" fmla="*/ 23040 w 1079640"/>
              <a:gd name="textAreaRight" fmla="*/ 1056600 w 1079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671" h="21600">
                <a:moveTo>
                  <a:pt x="0" y="0"/>
                </a:moveTo>
                <a:lnTo>
                  <a:pt x="64671" y="0"/>
                </a:lnTo>
                <a:lnTo>
                  <a:pt x="64671" y="21600"/>
                </a:lnTo>
                <a:lnTo>
                  <a:pt x="0" y="21600"/>
                </a:lnTo>
                <a:close/>
              </a:path>
              <a:path fill="lightenLess" w="64671" h="21600">
                <a:moveTo>
                  <a:pt x="0" y="0"/>
                </a:moveTo>
                <a:lnTo>
                  <a:pt x="64671" y="0"/>
                </a:lnTo>
                <a:lnTo>
                  <a:pt x="63271" y="1400"/>
                </a:lnTo>
                <a:lnTo>
                  <a:pt x="1400" y="1400"/>
                </a:lnTo>
                <a:close/>
              </a:path>
              <a:path fill="darken" w="64671" h="21600">
                <a:moveTo>
                  <a:pt x="64671" y="0"/>
                </a:moveTo>
                <a:lnTo>
                  <a:pt x="64671" y="21600"/>
                </a:lnTo>
                <a:lnTo>
                  <a:pt x="63271" y="20200"/>
                </a:lnTo>
                <a:lnTo>
                  <a:pt x="63271" y="1400"/>
                </a:lnTo>
                <a:close/>
              </a:path>
              <a:path fill="darkenLess" w="64671" h="21600">
                <a:moveTo>
                  <a:pt x="646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71" y="20200"/>
                </a:lnTo>
                <a:close/>
              </a:path>
              <a:path fill="lighten" w="646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671" h="21600">
                <a:moveTo>
                  <a:pt x="25329" y="10800"/>
                </a:moveTo>
                <a:lnTo>
                  <a:pt x="39342" y="3794"/>
                </a:lnTo>
                <a:lnTo>
                  <a:pt x="39342" y="17806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>
            <a:hlinkClick r:id="" action="ppaction://hlinkshowjump?jump=firstslide"/>
          </p:cNvPr>
          <p:cNvSpPr/>
          <p:nvPr/>
        </p:nvSpPr>
        <p:spPr>
          <a:xfrm>
            <a:off x="6837480" y="358920"/>
            <a:ext cx="1079280" cy="360360"/>
          </a:xfrm>
          <a:custGeom>
            <a:avLst/>
            <a:gdLst>
              <a:gd name="textAreaLeft" fmla="*/ 23040 w 1079280"/>
              <a:gd name="textAreaRight" fmla="*/ 1056240 w 107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649" h="21600">
                <a:moveTo>
                  <a:pt x="0" y="0"/>
                </a:moveTo>
                <a:lnTo>
                  <a:pt x="64649" y="0"/>
                </a:lnTo>
                <a:lnTo>
                  <a:pt x="64649" y="21600"/>
                </a:lnTo>
                <a:lnTo>
                  <a:pt x="0" y="21600"/>
                </a:lnTo>
                <a:close/>
              </a:path>
              <a:path fill="lightenLess" w="64649" h="21600">
                <a:moveTo>
                  <a:pt x="0" y="0"/>
                </a:moveTo>
                <a:lnTo>
                  <a:pt x="64649" y="0"/>
                </a:lnTo>
                <a:lnTo>
                  <a:pt x="63249" y="1400"/>
                </a:lnTo>
                <a:lnTo>
                  <a:pt x="1400" y="1400"/>
                </a:lnTo>
                <a:close/>
              </a:path>
              <a:path fill="darken" w="64649" h="21600">
                <a:moveTo>
                  <a:pt x="64649" y="0"/>
                </a:moveTo>
                <a:lnTo>
                  <a:pt x="64649" y="21600"/>
                </a:lnTo>
                <a:lnTo>
                  <a:pt x="63249" y="20200"/>
                </a:lnTo>
                <a:lnTo>
                  <a:pt x="63249" y="1400"/>
                </a:lnTo>
                <a:close/>
              </a:path>
              <a:path fill="darkenLess" w="64649" h="21600">
                <a:moveTo>
                  <a:pt x="646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49" y="20200"/>
                </a:lnTo>
                <a:close/>
              </a:path>
              <a:path fill="lighten" w="646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649" h="21600">
                <a:moveTo>
                  <a:pt x="32325" y="3837"/>
                </a:moveTo>
                <a:lnTo>
                  <a:pt x="34901" y="6448"/>
                </a:lnTo>
                <a:lnTo>
                  <a:pt x="34901" y="4707"/>
                </a:lnTo>
                <a:lnTo>
                  <a:pt x="36676" y="4707"/>
                </a:lnTo>
                <a:lnTo>
                  <a:pt x="36676" y="8224"/>
                </a:lnTo>
                <a:lnTo>
                  <a:pt x="39288" y="10800"/>
                </a:lnTo>
                <a:lnTo>
                  <a:pt x="37634" y="10800"/>
                </a:lnTo>
                <a:lnTo>
                  <a:pt x="37634" y="17989"/>
                </a:lnTo>
                <a:lnTo>
                  <a:pt x="27015" y="17989"/>
                </a:lnTo>
                <a:lnTo>
                  <a:pt x="27015" y="10800"/>
                </a:lnTo>
                <a:lnTo>
                  <a:pt x="25362" y="10800"/>
                </a:lnTo>
                <a:close/>
              </a:path>
              <a:path fill="darkenLess" w="64649" h="21600">
                <a:moveTo>
                  <a:pt x="34901" y="6448"/>
                </a:moveTo>
                <a:lnTo>
                  <a:pt x="34901" y="4707"/>
                </a:lnTo>
                <a:lnTo>
                  <a:pt x="36676" y="4707"/>
                </a:lnTo>
                <a:lnTo>
                  <a:pt x="36676" y="8224"/>
                </a:lnTo>
                <a:close/>
              </a:path>
              <a:path fill="darkenLess" w="64649" h="21600">
                <a:moveTo>
                  <a:pt x="31402" y="14299"/>
                </a:moveTo>
                <a:lnTo>
                  <a:pt x="33247" y="14299"/>
                </a:lnTo>
                <a:lnTo>
                  <a:pt x="33247" y="17989"/>
                </a:lnTo>
                <a:lnTo>
                  <a:pt x="37634" y="17989"/>
                </a:lnTo>
                <a:lnTo>
                  <a:pt x="37634" y="10800"/>
                </a:lnTo>
                <a:lnTo>
                  <a:pt x="27015" y="10800"/>
                </a:lnTo>
                <a:lnTo>
                  <a:pt x="27015" y="17989"/>
                </a:lnTo>
                <a:lnTo>
                  <a:pt x="31402" y="17989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962160" y="846000"/>
            <a:ext cx="5181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3333ff"/>
                </a:solidFill>
                <a:latin typeface="Georgia"/>
              </a:rPr>
              <a:t>Linux Mandrake 6.1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99" name="30hasloroota" descr=""/>
          <p:cNvPicPr/>
          <p:nvPr/>
        </p:nvPicPr>
        <p:blipFill>
          <a:blip r:embed="rId1"/>
          <a:stretch/>
        </p:blipFill>
        <p:spPr>
          <a:xfrm>
            <a:off x="2158920" y="2158920"/>
            <a:ext cx="5491080" cy="3595680"/>
          </a:xfrm>
          <a:prstGeom prst="rect">
            <a:avLst/>
          </a:prstGeom>
          <a:ln w="0">
            <a:noFill/>
          </a:ln>
        </p:spPr>
      </p:pic>
      <p:pic>
        <p:nvPicPr>
          <p:cNvPr id="300" name="linux_4" descr=""/>
          <p:cNvPicPr/>
          <p:nvPr/>
        </p:nvPicPr>
        <p:blipFill>
          <a:blip r:embed="rId2"/>
          <a:stretch/>
        </p:blipFill>
        <p:spPr>
          <a:xfrm>
            <a:off x="1905120" y="5334120"/>
            <a:ext cx="604800" cy="717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ED1F9-2D8B-4ABA-B7BC-E4B74A46873E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0" y="1438200"/>
            <a:ext cx="9144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Georgia"/>
              </a:rPr>
              <a:t>Konta administratora systemu = „root” nie powininno używać się do „normalnej” pracy w systemie. Jest to podyktowane względami bezpieczeństwa /szczególnie wtedy, gdy Twój komputer podłączony jest na stałe do Internetu/, a także możliwością całkowitego „zepsucia” systemu – szczególnie ważne w trakcie nauki posługiwania się nowym systemem operacyjnym. Instalator zaproponuje Ci założenie „zwykłego” </a:t>
            </a:r>
            <a:r>
              <a:rPr b="1" lang="pl-PL" sz="1200" spc="-1" strike="noStrike">
                <a:solidFill>
                  <a:srgbClr val="000000"/>
                </a:solidFill>
                <a:latin typeface="Georgia"/>
              </a:rPr>
              <a:t>konta użytkownika systemu</a:t>
            </a:r>
            <a:r>
              <a:rPr b="0" lang="pl-PL" sz="1200" spc="-1" strike="noStrike">
                <a:solidFill>
                  <a:srgbClr val="000000"/>
                </a:solidFill>
                <a:latin typeface="Georgia"/>
              </a:rPr>
              <a:t>. Podajesz identyfikator konta, opis użytkownika /możesz stosować polskie litery – kombinacja klawiszy </a:t>
            </a:r>
            <a:r>
              <a:rPr b="1" lang="pl-PL" sz="1200" spc="-1" strike="noStrike">
                <a:solidFill>
                  <a:srgbClr val="000000"/>
                </a:solidFill>
                <a:latin typeface="Georgia"/>
              </a:rPr>
              <a:t>prawy Alt + litera</a:t>
            </a:r>
            <a:r>
              <a:rPr b="0" lang="pl-PL" sz="1200" spc="-1" strike="noStrike">
                <a:solidFill>
                  <a:srgbClr val="000000"/>
                </a:solidFill>
                <a:latin typeface="Georgia"/>
              </a:rPr>
              <a:t>/ i to już wszystko ... będziesz mógł zalogować się w systemie używając „bezpiecznego” konta. W każdej chwili możesz skorzystać z konta „root’a” – wystarczy rozkaz </a:t>
            </a:r>
            <a:r>
              <a:rPr b="1" lang="pl-PL" sz="1200" spc="-1" strike="noStrike">
                <a:solidFill>
                  <a:srgbClr val="000000"/>
                </a:solidFill>
                <a:latin typeface="Georgia"/>
              </a:rPr>
              <a:t>su</a:t>
            </a:r>
            <a:r>
              <a:rPr b="0" lang="pl-PL" sz="1200" spc="-1" strike="noStrike">
                <a:solidFill>
                  <a:srgbClr val="000000"/>
                </a:solidFill>
                <a:latin typeface="Georgia"/>
              </a:rPr>
              <a:t> i podanie hasła administratora systemu, które sam wprowadziłeś wcześniej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>
            <a:hlinkClick r:id="" action="ppaction://hlinkshowjump?jump=nextslide"/>
          </p:cNvPr>
          <p:cNvSpPr/>
          <p:nvPr/>
        </p:nvSpPr>
        <p:spPr>
          <a:xfrm>
            <a:off x="7916760" y="358920"/>
            <a:ext cx="1079640" cy="360360"/>
          </a:xfrm>
          <a:custGeom>
            <a:avLst/>
            <a:gdLst>
              <a:gd name="textAreaLeft" fmla="*/ 23040 w 1079640"/>
              <a:gd name="textAreaRight" fmla="*/ 1056600 w 1079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671" h="21600">
                <a:moveTo>
                  <a:pt x="0" y="0"/>
                </a:moveTo>
                <a:lnTo>
                  <a:pt x="64671" y="0"/>
                </a:lnTo>
                <a:lnTo>
                  <a:pt x="64671" y="21600"/>
                </a:lnTo>
                <a:lnTo>
                  <a:pt x="0" y="21600"/>
                </a:lnTo>
                <a:close/>
              </a:path>
              <a:path fill="lightenLess" w="64671" h="21600">
                <a:moveTo>
                  <a:pt x="0" y="0"/>
                </a:moveTo>
                <a:lnTo>
                  <a:pt x="64671" y="0"/>
                </a:lnTo>
                <a:lnTo>
                  <a:pt x="63271" y="1400"/>
                </a:lnTo>
                <a:lnTo>
                  <a:pt x="1400" y="1400"/>
                </a:lnTo>
                <a:close/>
              </a:path>
              <a:path fill="darken" w="64671" h="21600">
                <a:moveTo>
                  <a:pt x="64671" y="0"/>
                </a:moveTo>
                <a:lnTo>
                  <a:pt x="64671" y="21600"/>
                </a:lnTo>
                <a:lnTo>
                  <a:pt x="63271" y="20200"/>
                </a:lnTo>
                <a:lnTo>
                  <a:pt x="63271" y="1400"/>
                </a:lnTo>
                <a:close/>
              </a:path>
              <a:path fill="darkenLess" w="64671" h="21600">
                <a:moveTo>
                  <a:pt x="646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71" y="20200"/>
                </a:lnTo>
                <a:close/>
              </a:path>
              <a:path fill="lighten" w="646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671" h="21600">
                <a:moveTo>
                  <a:pt x="25329" y="3794"/>
                </a:moveTo>
                <a:lnTo>
                  <a:pt x="39342" y="10800"/>
                </a:lnTo>
                <a:lnTo>
                  <a:pt x="25329" y="17806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>
            <a:hlinkClick r:id="" action="ppaction://hlinkshowjump?jump=previousslide"/>
          </p:cNvPr>
          <p:cNvSpPr/>
          <p:nvPr/>
        </p:nvSpPr>
        <p:spPr>
          <a:xfrm>
            <a:off x="5757840" y="358920"/>
            <a:ext cx="1079640" cy="360360"/>
          </a:xfrm>
          <a:custGeom>
            <a:avLst/>
            <a:gdLst>
              <a:gd name="textAreaLeft" fmla="*/ 23040 w 1079640"/>
              <a:gd name="textAreaRight" fmla="*/ 1056600 w 1079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671" h="21600">
                <a:moveTo>
                  <a:pt x="0" y="0"/>
                </a:moveTo>
                <a:lnTo>
                  <a:pt x="64671" y="0"/>
                </a:lnTo>
                <a:lnTo>
                  <a:pt x="64671" y="21600"/>
                </a:lnTo>
                <a:lnTo>
                  <a:pt x="0" y="21600"/>
                </a:lnTo>
                <a:close/>
              </a:path>
              <a:path fill="lightenLess" w="64671" h="21600">
                <a:moveTo>
                  <a:pt x="0" y="0"/>
                </a:moveTo>
                <a:lnTo>
                  <a:pt x="64671" y="0"/>
                </a:lnTo>
                <a:lnTo>
                  <a:pt x="63271" y="1400"/>
                </a:lnTo>
                <a:lnTo>
                  <a:pt x="1400" y="1400"/>
                </a:lnTo>
                <a:close/>
              </a:path>
              <a:path fill="darken" w="64671" h="21600">
                <a:moveTo>
                  <a:pt x="64671" y="0"/>
                </a:moveTo>
                <a:lnTo>
                  <a:pt x="64671" y="21600"/>
                </a:lnTo>
                <a:lnTo>
                  <a:pt x="63271" y="20200"/>
                </a:lnTo>
                <a:lnTo>
                  <a:pt x="63271" y="1400"/>
                </a:lnTo>
                <a:close/>
              </a:path>
              <a:path fill="darkenLess" w="64671" h="21600">
                <a:moveTo>
                  <a:pt x="646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71" y="20200"/>
                </a:lnTo>
                <a:close/>
              </a:path>
              <a:path fill="lighten" w="646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671" h="21600">
                <a:moveTo>
                  <a:pt x="25329" y="10800"/>
                </a:moveTo>
                <a:lnTo>
                  <a:pt x="39342" y="3794"/>
                </a:lnTo>
                <a:lnTo>
                  <a:pt x="39342" y="17806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>
            <a:hlinkClick r:id="" action="ppaction://hlinkshowjump?jump=firstslide"/>
          </p:cNvPr>
          <p:cNvSpPr/>
          <p:nvPr/>
        </p:nvSpPr>
        <p:spPr>
          <a:xfrm>
            <a:off x="6837480" y="358920"/>
            <a:ext cx="1079280" cy="360360"/>
          </a:xfrm>
          <a:custGeom>
            <a:avLst/>
            <a:gdLst>
              <a:gd name="textAreaLeft" fmla="*/ 23040 w 1079280"/>
              <a:gd name="textAreaRight" fmla="*/ 1056240 w 107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649" h="21600">
                <a:moveTo>
                  <a:pt x="0" y="0"/>
                </a:moveTo>
                <a:lnTo>
                  <a:pt x="64649" y="0"/>
                </a:lnTo>
                <a:lnTo>
                  <a:pt x="64649" y="21600"/>
                </a:lnTo>
                <a:lnTo>
                  <a:pt x="0" y="21600"/>
                </a:lnTo>
                <a:close/>
              </a:path>
              <a:path fill="lightenLess" w="64649" h="21600">
                <a:moveTo>
                  <a:pt x="0" y="0"/>
                </a:moveTo>
                <a:lnTo>
                  <a:pt x="64649" y="0"/>
                </a:lnTo>
                <a:lnTo>
                  <a:pt x="63249" y="1400"/>
                </a:lnTo>
                <a:lnTo>
                  <a:pt x="1400" y="1400"/>
                </a:lnTo>
                <a:close/>
              </a:path>
              <a:path fill="darken" w="64649" h="21600">
                <a:moveTo>
                  <a:pt x="64649" y="0"/>
                </a:moveTo>
                <a:lnTo>
                  <a:pt x="64649" y="21600"/>
                </a:lnTo>
                <a:lnTo>
                  <a:pt x="63249" y="20200"/>
                </a:lnTo>
                <a:lnTo>
                  <a:pt x="63249" y="1400"/>
                </a:lnTo>
                <a:close/>
              </a:path>
              <a:path fill="darkenLess" w="64649" h="21600">
                <a:moveTo>
                  <a:pt x="646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49" y="20200"/>
                </a:lnTo>
                <a:close/>
              </a:path>
              <a:path fill="lighten" w="646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649" h="21600">
                <a:moveTo>
                  <a:pt x="32325" y="3837"/>
                </a:moveTo>
                <a:lnTo>
                  <a:pt x="34901" y="6448"/>
                </a:lnTo>
                <a:lnTo>
                  <a:pt x="34901" y="4707"/>
                </a:lnTo>
                <a:lnTo>
                  <a:pt x="36676" y="4707"/>
                </a:lnTo>
                <a:lnTo>
                  <a:pt x="36676" y="8224"/>
                </a:lnTo>
                <a:lnTo>
                  <a:pt x="39288" y="10800"/>
                </a:lnTo>
                <a:lnTo>
                  <a:pt x="37634" y="10800"/>
                </a:lnTo>
                <a:lnTo>
                  <a:pt x="37634" y="17989"/>
                </a:lnTo>
                <a:lnTo>
                  <a:pt x="27015" y="17989"/>
                </a:lnTo>
                <a:lnTo>
                  <a:pt x="27015" y="10800"/>
                </a:lnTo>
                <a:lnTo>
                  <a:pt x="25362" y="10800"/>
                </a:lnTo>
                <a:close/>
              </a:path>
              <a:path fill="darkenLess" w="64649" h="21600">
                <a:moveTo>
                  <a:pt x="34901" y="6448"/>
                </a:moveTo>
                <a:lnTo>
                  <a:pt x="34901" y="4707"/>
                </a:lnTo>
                <a:lnTo>
                  <a:pt x="36676" y="4707"/>
                </a:lnTo>
                <a:lnTo>
                  <a:pt x="36676" y="8224"/>
                </a:lnTo>
                <a:close/>
              </a:path>
              <a:path fill="darkenLess" w="64649" h="21600">
                <a:moveTo>
                  <a:pt x="31402" y="14299"/>
                </a:moveTo>
                <a:lnTo>
                  <a:pt x="33247" y="14299"/>
                </a:lnTo>
                <a:lnTo>
                  <a:pt x="33247" y="17989"/>
                </a:lnTo>
                <a:lnTo>
                  <a:pt x="37634" y="17989"/>
                </a:lnTo>
                <a:lnTo>
                  <a:pt x="37634" y="10800"/>
                </a:lnTo>
                <a:lnTo>
                  <a:pt x="27015" y="10800"/>
                </a:lnTo>
                <a:lnTo>
                  <a:pt x="27015" y="17989"/>
                </a:lnTo>
                <a:lnTo>
                  <a:pt x="31402" y="17989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962160" y="846000"/>
            <a:ext cx="5181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3333ff"/>
                </a:solidFill>
                <a:latin typeface="Georgia"/>
              </a:rPr>
              <a:t>Linux Mandrake 6.1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06" name="linux_4" descr=""/>
          <p:cNvPicPr/>
          <p:nvPr/>
        </p:nvPicPr>
        <p:blipFill>
          <a:blip r:embed="rId1"/>
          <a:stretch/>
        </p:blipFill>
        <p:spPr>
          <a:xfrm>
            <a:off x="0" y="6019920"/>
            <a:ext cx="604800" cy="717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F7C53-EDD9-424B-810C-449BA541B655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0" y="1438200"/>
            <a:ext cx="9144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Georgia"/>
              </a:rPr>
              <a:t>Konfigurujemy sposób sprawdzania tożsamości użytkowników. Odznaczamy opcję </a:t>
            </a:r>
            <a:r>
              <a:rPr b="1" lang="pl-PL" sz="1200" spc="-1" strike="noStrike">
                <a:solidFill>
                  <a:srgbClr val="000000"/>
                </a:solidFill>
                <a:latin typeface="Georgia"/>
              </a:rPr>
              <a:t>Enable NIS</a:t>
            </a:r>
            <a:r>
              <a:rPr b="0" lang="pl-PL" sz="1200" spc="-1" strike="noStrike">
                <a:solidFill>
                  <a:srgbClr val="000000"/>
                </a:solidFill>
                <a:latin typeface="Georgia"/>
              </a:rPr>
              <a:t>, zaznaczamy natomiast </a:t>
            </a:r>
            <a:r>
              <a:rPr b="1" lang="pl-PL" sz="1200" spc="-1" strike="noStrike">
                <a:solidFill>
                  <a:srgbClr val="000000"/>
                </a:solidFill>
                <a:latin typeface="Georgia"/>
              </a:rPr>
              <a:t>Use Shadow Passwords</a:t>
            </a:r>
            <a:r>
              <a:rPr b="0" lang="pl-PL" sz="1200" spc="-1" strike="noStrike">
                <a:solidFill>
                  <a:srgbClr val="000000"/>
                </a:solidFill>
                <a:latin typeface="Georgia"/>
              </a:rPr>
              <a:t> oraz </a:t>
            </a:r>
            <a:r>
              <a:rPr b="1" lang="pl-PL" sz="1200" spc="-1" strike="noStrike">
                <a:solidFill>
                  <a:srgbClr val="000000"/>
                </a:solidFill>
                <a:latin typeface="Georgia"/>
              </a:rPr>
              <a:t>Enable MD5 Passwords</a:t>
            </a:r>
            <a:r>
              <a:rPr b="0" lang="pl-PL" sz="1200" spc="-1" strike="noStrike">
                <a:solidFill>
                  <a:srgbClr val="000000"/>
                </a:solidFill>
                <a:latin typeface="Georgia"/>
              </a:rPr>
              <a:t>. W przypadku pracy w sieci lokalnej lub Internecie da nam to pewną ochronę przed „włamaniem” na konta użytkownikó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>
            <a:hlinkClick r:id="" action="ppaction://hlinkshowjump?jump=nextslide"/>
          </p:cNvPr>
          <p:cNvSpPr/>
          <p:nvPr/>
        </p:nvSpPr>
        <p:spPr>
          <a:xfrm>
            <a:off x="7916760" y="358920"/>
            <a:ext cx="1079640" cy="360360"/>
          </a:xfrm>
          <a:custGeom>
            <a:avLst/>
            <a:gdLst>
              <a:gd name="textAreaLeft" fmla="*/ 23040 w 1079640"/>
              <a:gd name="textAreaRight" fmla="*/ 1056600 w 1079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671" h="21600">
                <a:moveTo>
                  <a:pt x="0" y="0"/>
                </a:moveTo>
                <a:lnTo>
                  <a:pt x="64671" y="0"/>
                </a:lnTo>
                <a:lnTo>
                  <a:pt x="64671" y="21600"/>
                </a:lnTo>
                <a:lnTo>
                  <a:pt x="0" y="21600"/>
                </a:lnTo>
                <a:close/>
              </a:path>
              <a:path fill="lightenLess" w="64671" h="21600">
                <a:moveTo>
                  <a:pt x="0" y="0"/>
                </a:moveTo>
                <a:lnTo>
                  <a:pt x="64671" y="0"/>
                </a:lnTo>
                <a:lnTo>
                  <a:pt x="63271" y="1400"/>
                </a:lnTo>
                <a:lnTo>
                  <a:pt x="1400" y="1400"/>
                </a:lnTo>
                <a:close/>
              </a:path>
              <a:path fill="darken" w="64671" h="21600">
                <a:moveTo>
                  <a:pt x="64671" y="0"/>
                </a:moveTo>
                <a:lnTo>
                  <a:pt x="64671" y="21600"/>
                </a:lnTo>
                <a:lnTo>
                  <a:pt x="63271" y="20200"/>
                </a:lnTo>
                <a:lnTo>
                  <a:pt x="63271" y="1400"/>
                </a:lnTo>
                <a:close/>
              </a:path>
              <a:path fill="darkenLess" w="64671" h="21600">
                <a:moveTo>
                  <a:pt x="646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71" y="20200"/>
                </a:lnTo>
                <a:close/>
              </a:path>
              <a:path fill="lighten" w="646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671" h="21600">
                <a:moveTo>
                  <a:pt x="25329" y="3794"/>
                </a:moveTo>
                <a:lnTo>
                  <a:pt x="39342" y="10800"/>
                </a:lnTo>
                <a:lnTo>
                  <a:pt x="25329" y="17806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>
            <a:hlinkClick r:id="" action="ppaction://hlinkshowjump?jump=previousslide"/>
          </p:cNvPr>
          <p:cNvSpPr/>
          <p:nvPr/>
        </p:nvSpPr>
        <p:spPr>
          <a:xfrm>
            <a:off x="5757840" y="358920"/>
            <a:ext cx="1079640" cy="360360"/>
          </a:xfrm>
          <a:custGeom>
            <a:avLst/>
            <a:gdLst>
              <a:gd name="textAreaLeft" fmla="*/ 23040 w 1079640"/>
              <a:gd name="textAreaRight" fmla="*/ 1056600 w 1079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671" h="21600">
                <a:moveTo>
                  <a:pt x="0" y="0"/>
                </a:moveTo>
                <a:lnTo>
                  <a:pt x="64671" y="0"/>
                </a:lnTo>
                <a:lnTo>
                  <a:pt x="64671" y="21600"/>
                </a:lnTo>
                <a:lnTo>
                  <a:pt x="0" y="21600"/>
                </a:lnTo>
                <a:close/>
              </a:path>
              <a:path fill="lightenLess" w="64671" h="21600">
                <a:moveTo>
                  <a:pt x="0" y="0"/>
                </a:moveTo>
                <a:lnTo>
                  <a:pt x="64671" y="0"/>
                </a:lnTo>
                <a:lnTo>
                  <a:pt x="63271" y="1400"/>
                </a:lnTo>
                <a:lnTo>
                  <a:pt x="1400" y="1400"/>
                </a:lnTo>
                <a:close/>
              </a:path>
              <a:path fill="darken" w="64671" h="21600">
                <a:moveTo>
                  <a:pt x="64671" y="0"/>
                </a:moveTo>
                <a:lnTo>
                  <a:pt x="64671" y="21600"/>
                </a:lnTo>
                <a:lnTo>
                  <a:pt x="63271" y="20200"/>
                </a:lnTo>
                <a:lnTo>
                  <a:pt x="63271" y="1400"/>
                </a:lnTo>
                <a:close/>
              </a:path>
              <a:path fill="darkenLess" w="64671" h="21600">
                <a:moveTo>
                  <a:pt x="646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71" y="20200"/>
                </a:lnTo>
                <a:close/>
              </a:path>
              <a:path fill="lighten" w="646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671" h="21600">
                <a:moveTo>
                  <a:pt x="25329" y="10800"/>
                </a:moveTo>
                <a:lnTo>
                  <a:pt x="39342" y="3794"/>
                </a:lnTo>
                <a:lnTo>
                  <a:pt x="39342" y="17806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>
            <a:hlinkClick r:id="" action="ppaction://hlinkshowjump?jump=firstslide"/>
          </p:cNvPr>
          <p:cNvSpPr/>
          <p:nvPr/>
        </p:nvSpPr>
        <p:spPr>
          <a:xfrm>
            <a:off x="6837480" y="358920"/>
            <a:ext cx="1079280" cy="360360"/>
          </a:xfrm>
          <a:custGeom>
            <a:avLst/>
            <a:gdLst>
              <a:gd name="textAreaLeft" fmla="*/ 23040 w 1079280"/>
              <a:gd name="textAreaRight" fmla="*/ 1056240 w 107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649" h="21600">
                <a:moveTo>
                  <a:pt x="0" y="0"/>
                </a:moveTo>
                <a:lnTo>
                  <a:pt x="64649" y="0"/>
                </a:lnTo>
                <a:lnTo>
                  <a:pt x="64649" y="21600"/>
                </a:lnTo>
                <a:lnTo>
                  <a:pt x="0" y="21600"/>
                </a:lnTo>
                <a:close/>
              </a:path>
              <a:path fill="lightenLess" w="64649" h="21600">
                <a:moveTo>
                  <a:pt x="0" y="0"/>
                </a:moveTo>
                <a:lnTo>
                  <a:pt x="64649" y="0"/>
                </a:lnTo>
                <a:lnTo>
                  <a:pt x="63249" y="1400"/>
                </a:lnTo>
                <a:lnTo>
                  <a:pt x="1400" y="1400"/>
                </a:lnTo>
                <a:close/>
              </a:path>
              <a:path fill="darken" w="64649" h="21600">
                <a:moveTo>
                  <a:pt x="64649" y="0"/>
                </a:moveTo>
                <a:lnTo>
                  <a:pt x="64649" y="21600"/>
                </a:lnTo>
                <a:lnTo>
                  <a:pt x="63249" y="20200"/>
                </a:lnTo>
                <a:lnTo>
                  <a:pt x="63249" y="1400"/>
                </a:lnTo>
                <a:close/>
              </a:path>
              <a:path fill="darkenLess" w="64649" h="21600">
                <a:moveTo>
                  <a:pt x="646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49" y="20200"/>
                </a:lnTo>
                <a:close/>
              </a:path>
              <a:path fill="lighten" w="646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649" h="21600">
                <a:moveTo>
                  <a:pt x="32325" y="3837"/>
                </a:moveTo>
                <a:lnTo>
                  <a:pt x="34901" y="6448"/>
                </a:lnTo>
                <a:lnTo>
                  <a:pt x="34901" y="4707"/>
                </a:lnTo>
                <a:lnTo>
                  <a:pt x="36676" y="4707"/>
                </a:lnTo>
                <a:lnTo>
                  <a:pt x="36676" y="8224"/>
                </a:lnTo>
                <a:lnTo>
                  <a:pt x="39288" y="10800"/>
                </a:lnTo>
                <a:lnTo>
                  <a:pt x="37634" y="10800"/>
                </a:lnTo>
                <a:lnTo>
                  <a:pt x="37634" y="17989"/>
                </a:lnTo>
                <a:lnTo>
                  <a:pt x="27015" y="17989"/>
                </a:lnTo>
                <a:lnTo>
                  <a:pt x="27015" y="10800"/>
                </a:lnTo>
                <a:lnTo>
                  <a:pt x="25362" y="10800"/>
                </a:lnTo>
                <a:close/>
              </a:path>
              <a:path fill="darkenLess" w="64649" h="21600">
                <a:moveTo>
                  <a:pt x="34901" y="6448"/>
                </a:moveTo>
                <a:lnTo>
                  <a:pt x="34901" y="4707"/>
                </a:lnTo>
                <a:lnTo>
                  <a:pt x="36676" y="4707"/>
                </a:lnTo>
                <a:lnTo>
                  <a:pt x="36676" y="8224"/>
                </a:lnTo>
                <a:close/>
              </a:path>
              <a:path fill="darkenLess" w="64649" h="21600">
                <a:moveTo>
                  <a:pt x="31402" y="14299"/>
                </a:moveTo>
                <a:lnTo>
                  <a:pt x="33247" y="14299"/>
                </a:lnTo>
                <a:lnTo>
                  <a:pt x="33247" y="17989"/>
                </a:lnTo>
                <a:lnTo>
                  <a:pt x="37634" y="17989"/>
                </a:lnTo>
                <a:lnTo>
                  <a:pt x="37634" y="10800"/>
                </a:lnTo>
                <a:lnTo>
                  <a:pt x="27015" y="10800"/>
                </a:lnTo>
                <a:lnTo>
                  <a:pt x="27015" y="17989"/>
                </a:lnTo>
                <a:lnTo>
                  <a:pt x="31402" y="17989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3962160" y="846000"/>
            <a:ext cx="5181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3333ff"/>
                </a:solidFill>
                <a:latin typeface="Georgia"/>
              </a:rPr>
              <a:t>Linux Mandrake 6.1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2" name="31autentyfikacja" descr=""/>
          <p:cNvPicPr/>
          <p:nvPr/>
        </p:nvPicPr>
        <p:blipFill>
          <a:blip r:embed="rId1"/>
          <a:stretch/>
        </p:blipFill>
        <p:spPr>
          <a:xfrm>
            <a:off x="2158920" y="2158920"/>
            <a:ext cx="5491080" cy="3595680"/>
          </a:xfrm>
          <a:prstGeom prst="rect">
            <a:avLst/>
          </a:prstGeom>
          <a:ln w="0">
            <a:noFill/>
          </a:ln>
        </p:spPr>
      </p:pic>
      <p:pic>
        <p:nvPicPr>
          <p:cNvPr id="313" name="linux_4" descr=""/>
          <p:cNvPicPr/>
          <p:nvPr/>
        </p:nvPicPr>
        <p:blipFill>
          <a:blip r:embed="rId2"/>
          <a:stretch/>
        </p:blipFill>
        <p:spPr>
          <a:xfrm>
            <a:off x="1905120" y="5334120"/>
            <a:ext cx="604800" cy="717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56615-41CA-4899-A49B-8609FFC0D729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0" y="1438200"/>
            <a:ext cx="914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Georgia"/>
              </a:rPr>
              <a:t>Tworzymy dyskietkę startową dla naszego systemu. Wkładamy czystą dyskietkę 3.5 calową do napędu i naciskamy </a:t>
            </a:r>
            <a:r>
              <a:rPr b="1" lang="pl-PL" sz="1200" spc="-1" strike="noStrike">
                <a:solidFill>
                  <a:srgbClr val="000000"/>
                </a:solidFill>
                <a:latin typeface="Georgia"/>
              </a:rPr>
              <a:t>Tak</a:t>
            </a:r>
            <a:r>
              <a:rPr b="0" lang="pl-PL" sz="1200" spc="-1" strike="noStrike">
                <a:solidFill>
                  <a:srgbClr val="000000"/>
                </a:solidFill>
                <a:latin typeface="Georgia"/>
              </a:rPr>
              <a:t>. Pozwoli to na uruchamianie Linux-a tylko wtedy, kiedy dyskietka ta znajdować się będzie w napędzie po włączeniu komputera – w przeciwnym razie uruchomiony zostanie system Windows lub inny /jeśli jest na dysku zainstalowany/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>
            <a:hlinkClick r:id="" action="ppaction://hlinkshowjump?jump=nextslide"/>
          </p:cNvPr>
          <p:cNvSpPr/>
          <p:nvPr/>
        </p:nvSpPr>
        <p:spPr>
          <a:xfrm>
            <a:off x="7916760" y="358920"/>
            <a:ext cx="1079640" cy="360360"/>
          </a:xfrm>
          <a:custGeom>
            <a:avLst/>
            <a:gdLst>
              <a:gd name="textAreaLeft" fmla="*/ 23040 w 1079640"/>
              <a:gd name="textAreaRight" fmla="*/ 1056600 w 1079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671" h="21600">
                <a:moveTo>
                  <a:pt x="0" y="0"/>
                </a:moveTo>
                <a:lnTo>
                  <a:pt x="64671" y="0"/>
                </a:lnTo>
                <a:lnTo>
                  <a:pt x="64671" y="21600"/>
                </a:lnTo>
                <a:lnTo>
                  <a:pt x="0" y="21600"/>
                </a:lnTo>
                <a:close/>
              </a:path>
              <a:path fill="lightenLess" w="64671" h="21600">
                <a:moveTo>
                  <a:pt x="0" y="0"/>
                </a:moveTo>
                <a:lnTo>
                  <a:pt x="64671" y="0"/>
                </a:lnTo>
                <a:lnTo>
                  <a:pt x="63271" y="1400"/>
                </a:lnTo>
                <a:lnTo>
                  <a:pt x="1400" y="1400"/>
                </a:lnTo>
                <a:close/>
              </a:path>
              <a:path fill="darken" w="64671" h="21600">
                <a:moveTo>
                  <a:pt x="64671" y="0"/>
                </a:moveTo>
                <a:lnTo>
                  <a:pt x="64671" y="21600"/>
                </a:lnTo>
                <a:lnTo>
                  <a:pt x="63271" y="20200"/>
                </a:lnTo>
                <a:lnTo>
                  <a:pt x="63271" y="1400"/>
                </a:lnTo>
                <a:close/>
              </a:path>
              <a:path fill="darkenLess" w="64671" h="21600">
                <a:moveTo>
                  <a:pt x="646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71" y="20200"/>
                </a:lnTo>
                <a:close/>
              </a:path>
              <a:path fill="lighten" w="646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671" h="21600">
                <a:moveTo>
                  <a:pt x="25329" y="3794"/>
                </a:moveTo>
                <a:lnTo>
                  <a:pt x="39342" y="10800"/>
                </a:lnTo>
                <a:lnTo>
                  <a:pt x="25329" y="17806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>
            <a:hlinkClick r:id="" action="ppaction://hlinkshowjump?jump=previousslide"/>
          </p:cNvPr>
          <p:cNvSpPr/>
          <p:nvPr/>
        </p:nvSpPr>
        <p:spPr>
          <a:xfrm>
            <a:off x="5757840" y="358920"/>
            <a:ext cx="1079640" cy="360360"/>
          </a:xfrm>
          <a:custGeom>
            <a:avLst/>
            <a:gdLst>
              <a:gd name="textAreaLeft" fmla="*/ 23040 w 1079640"/>
              <a:gd name="textAreaRight" fmla="*/ 1056600 w 1079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671" h="21600">
                <a:moveTo>
                  <a:pt x="0" y="0"/>
                </a:moveTo>
                <a:lnTo>
                  <a:pt x="64671" y="0"/>
                </a:lnTo>
                <a:lnTo>
                  <a:pt x="64671" y="21600"/>
                </a:lnTo>
                <a:lnTo>
                  <a:pt x="0" y="21600"/>
                </a:lnTo>
                <a:close/>
              </a:path>
              <a:path fill="lightenLess" w="64671" h="21600">
                <a:moveTo>
                  <a:pt x="0" y="0"/>
                </a:moveTo>
                <a:lnTo>
                  <a:pt x="64671" y="0"/>
                </a:lnTo>
                <a:lnTo>
                  <a:pt x="63271" y="1400"/>
                </a:lnTo>
                <a:lnTo>
                  <a:pt x="1400" y="1400"/>
                </a:lnTo>
                <a:close/>
              </a:path>
              <a:path fill="darken" w="64671" h="21600">
                <a:moveTo>
                  <a:pt x="64671" y="0"/>
                </a:moveTo>
                <a:lnTo>
                  <a:pt x="64671" y="21600"/>
                </a:lnTo>
                <a:lnTo>
                  <a:pt x="63271" y="20200"/>
                </a:lnTo>
                <a:lnTo>
                  <a:pt x="63271" y="1400"/>
                </a:lnTo>
                <a:close/>
              </a:path>
              <a:path fill="darkenLess" w="64671" h="21600">
                <a:moveTo>
                  <a:pt x="646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71" y="20200"/>
                </a:lnTo>
                <a:close/>
              </a:path>
              <a:path fill="lighten" w="646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671" h="21600">
                <a:moveTo>
                  <a:pt x="25329" y="10800"/>
                </a:moveTo>
                <a:lnTo>
                  <a:pt x="39342" y="3794"/>
                </a:lnTo>
                <a:lnTo>
                  <a:pt x="39342" y="17806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>
            <a:hlinkClick r:id="" action="ppaction://hlinkshowjump?jump=firstslide"/>
          </p:cNvPr>
          <p:cNvSpPr/>
          <p:nvPr/>
        </p:nvSpPr>
        <p:spPr>
          <a:xfrm>
            <a:off x="6837480" y="358920"/>
            <a:ext cx="1079280" cy="360360"/>
          </a:xfrm>
          <a:custGeom>
            <a:avLst/>
            <a:gdLst>
              <a:gd name="textAreaLeft" fmla="*/ 23040 w 1079280"/>
              <a:gd name="textAreaRight" fmla="*/ 1056240 w 107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649" h="21600">
                <a:moveTo>
                  <a:pt x="0" y="0"/>
                </a:moveTo>
                <a:lnTo>
                  <a:pt x="64649" y="0"/>
                </a:lnTo>
                <a:lnTo>
                  <a:pt x="64649" y="21600"/>
                </a:lnTo>
                <a:lnTo>
                  <a:pt x="0" y="21600"/>
                </a:lnTo>
                <a:close/>
              </a:path>
              <a:path fill="lightenLess" w="64649" h="21600">
                <a:moveTo>
                  <a:pt x="0" y="0"/>
                </a:moveTo>
                <a:lnTo>
                  <a:pt x="64649" y="0"/>
                </a:lnTo>
                <a:lnTo>
                  <a:pt x="63249" y="1400"/>
                </a:lnTo>
                <a:lnTo>
                  <a:pt x="1400" y="1400"/>
                </a:lnTo>
                <a:close/>
              </a:path>
              <a:path fill="darken" w="64649" h="21600">
                <a:moveTo>
                  <a:pt x="64649" y="0"/>
                </a:moveTo>
                <a:lnTo>
                  <a:pt x="64649" y="21600"/>
                </a:lnTo>
                <a:lnTo>
                  <a:pt x="63249" y="20200"/>
                </a:lnTo>
                <a:lnTo>
                  <a:pt x="63249" y="1400"/>
                </a:lnTo>
                <a:close/>
              </a:path>
              <a:path fill="darkenLess" w="64649" h="21600">
                <a:moveTo>
                  <a:pt x="646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49" y="20200"/>
                </a:lnTo>
                <a:close/>
              </a:path>
              <a:path fill="lighten" w="646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649" h="21600">
                <a:moveTo>
                  <a:pt x="32325" y="3837"/>
                </a:moveTo>
                <a:lnTo>
                  <a:pt x="34901" y="6448"/>
                </a:lnTo>
                <a:lnTo>
                  <a:pt x="34901" y="4707"/>
                </a:lnTo>
                <a:lnTo>
                  <a:pt x="36676" y="4707"/>
                </a:lnTo>
                <a:lnTo>
                  <a:pt x="36676" y="8224"/>
                </a:lnTo>
                <a:lnTo>
                  <a:pt x="39288" y="10800"/>
                </a:lnTo>
                <a:lnTo>
                  <a:pt x="37634" y="10800"/>
                </a:lnTo>
                <a:lnTo>
                  <a:pt x="37634" y="17989"/>
                </a:lnTo>
                <a:lnTo>
                  <a:pt x="27015" y="17989"/>
                </a:lnTo>
                <a:lnTo>
                  <a:pt x="27015" y="10800"/>
                </a:lnTo>
                <a:lnTo>
                  <a:pt x="25362" y="10800"/>
                </a:lnTo>
                <a:close/>
              </a:path>
              <a:path fill="darkenLess" w="64649" h="21600">
                <a:moveTo>
                  <a:pt x="34901" y="6448"/>
                </a:moveTo>
                <a:lnTo>
                  <a:pt x="34901" y="4707"/>
                </a:lnTo>
                <a:lnTo>
                  <a:pt x="36676" y="4707"/>
                </a:lnTo>
                <a:lnTo>
                  <a:pt x="36676" y="8224"/>
                </a:lnTo>
                <a:close/>
              </a:path>
              <a:path fill="darkenLess" w="64649" h="21600">
                <a:moveTo>
                  <a:pt x="31402" y="14299"/>
                </a:moveTo>
                <a:lnTo>
                  <a:pt x="33247" y="14299"/>
                </a:lnTo>
                <a:lnTo>
                  <a:pt x="33247" y="17989"/>
                </a:lnTo>
                <a:lnTo>
                  <a:pt x="37634" y="17989"/>
                </a:lnTo>
                <a:lnTo>
                  <a:pt x="37634" y="10800"/>
                </a:lnTo>
                <a:lnTo>
                  <a:pt x="27015" y="10800"/>
                </a:lnTo>
                <a:lnTo>
                  <a:pt x="27015" y="17989"/>
                </a:lnTo>
                <a:lnTo>
                  <a:pt x="31402" y="17989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3962160" y="846000"/>
            <a:ext cx="5181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3333ff"/>
                </a:solidFill>
                <a:latin typeface="Georgia"/>
              </a:rPr>
              <a:t>Linux Mandrake 6.1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9" name="32czydyskstartowy" descr=""/>
          <p:cNvPicPr/>
          <p:nvPr/>
        </p:nvPicPr>
        <p:blipFill>
          <a:blip r:embed="rId1"/>
          <a:stretch/>
        </p:blipFill>
        <p:spPr>
          <a:xfrm>
            <a:off x="2158920" y="2158920"/>
            <a:ext cx="5491080" cy="3595680"/>
          </a:xfrm>
          <a:prstGeom prst="rect">
            <a:avLst/>
          </a:prstGeom>
          <a:ln w="0">
            <a:noFill/>
          </a:ln>
        </p:spPr>
      </p:pic>
      <p:pic>
        <p:nvPicPr>
          <p:cNvPr id="320" name="linux_4" descr=""/>
          <p:cNvPicPr/>
          <p:nvPr/>
        </p:nvPicPr>
        <p:blipFill>
          <a:blip r:embed="rId2"/>
          <a:stretch/>
        </p:blipFill>
        <p:spPr>
          <a:xfrm>
            <a:off x="1905120" y="5334120"/>
            <a:ext cx="604800" cy="717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A9F45-BB0F-4948-B22E-9D6E6A14C9C2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/>
          <p:nvPr/>
        </p:nvSpPr>
        <p:spPr>
          <a:xfrm>
            <a:off x="0" y="1438200"/>
            <a:ext cx="914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Georgia"/>
              </a:rPr>
              <a:t>Wskazujemy miejsce w którym zostanie zainstalowany „bootloader” /tzw. </a:t>
            </a:r>
            <a:r>
              <a:rPr b="1" lang="pl-PL" sz="1200" spc="-1" strike="noStrike">
                <a:solidFill>
                  <a:srgbClr val="000000"/>
                </a:solidFill>
                <a:latin typeface="Georgia"/>
              </a:rPr>
              <a:t>LILO</a:t>
            </a:r>
            <a:r>
              <a:rPr b="0" lang="pl-PL" sz="1200" spc="-1" strike="noStrike">
                <a:solidFill>
                  <a:srgbClr val="000000"/>
                </a:solidFill>
                <a:latin typeface="Georgia"/>
              </a:rPr>
              <a:t>/ systemu. Proponuję wybrać opcję </a:t>
            </a:r>
            <a:r>
              <a:rPr b="1" lang="pl-PL" sz="1200" spc="-1" strike="noStrike">
                <a:solidFill>
                  <a:srgbClr val="000000"/>
                </a:solidFill>
                <a:latin typeface="Georgia"/>
              </a:rPr>
              <a:t>Pierwszy sektor partycji bootującej</a:t>
            </a:r>
            <a:r>
              <a:rPr b="0" lang="pl-PL" sz="1200" spc="-1" strike="noStrike">
                <a:solidFill>
                  <a:srgbClr val="000000"/>
                </a:solidFill>
                <a:latin typeface="Georgia"/>
              </a:rPr>
              <a:t> – wybranie opcji </a:t>
            </a:r>
            <a:r>
              <a:rPr b="1" lang="pl-PL" sz="1200" spc="-1" strike="noStrike">
                <a:solidFill>
                  <a:srgbClr val="000000"/>
                </a:solidFill>
                <a:latin typeface="Georgia"/>
              </a:rPr>
              <a:t>Master boot record</a:t>
            </a:r>
            <a:r>
              <a:rPr b="0" lang="pl-PL" sz="1200" spc="-1" strike="noStrike">
                <a:solidFill>
                  <a:srgbClr val="000000"/>
                </a:solidFill>
                <a:latin typeface="Georgia"/>
              </a:rPr>
              <a:t> spowoduje pojawianie się przy każdorazowym uruchamianiu komputera „bootloadera” pozwalającego wybrać jeden z dostępnych na dyskach systemów operacyjnych /my mamy dyskietkę startową systemu Linux/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>
            <a:hlinkClick r:id="" action="ppaction://hlinkshowjump?jump=nextslide"/>
          </p:cNvPr>
          <p:cNvSpPr/>
          <p:nvPr/>
        </p:nvSpPr>
        <p:spPr>
          <a:xfrm>
            <a:off x="7916760" y="358920"/>
            <a:ext cx="1079640" cy="360360"/>
          </a:xfrm>
          <a:custGeom>
            <a:avLst/>
            <a:gdLst>
              <a:gd name="textAreaLeft" fmla="*/ 23040 w 1079640"/>
              <a:gd name="textAreaRight" fmla="*/ 1056600 w 1079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671" h="21600">
                <a:moveTo>
                  <a:pt x="0" y="0"/>
                </a:moveTo>
                <a:lnTo>
                  <a:pt x="64671" y="0"/>
                </a:lnTo>
                <a:lnTo>
                  <a:pt x="64671" y="21600"/>
                </a:lnTo>
                <a:lnTo>
                  <a:pt x="0" y="21600"/>
                </a:lnTo>
                <a:close/>
              </a:path>
              <a:path fill="lightenLess" w="64671" h="21600">
                <a:moveTo>
                  <a:pt x="0" y="0"/>
                </a:moveTo>
                <a:lnTo>
                  <a:pt x="64671" y="0"/>
                </a:lnTo>
                <a:lnTo>
                  <a:pt x="63271" y="1400"/>
                </a:lnTo>
                <a:lnTo>
                  <a:pt x="1400" y="1400"/>
                </a:lnTo>
                <a:close/>
              </a:path>
              <a:path fill="darken" w="64671" h="21600">
                <a:moveTo>
                  <a:pt x="64671" y="0"/>
                </a:moveTo>
                <a:lnTo>
                  <a:pt x="64671" y="21600"/>
                </a:lnTo>
                <a:lnTo>
                  <a:pt x="63271" y="20200"/>
                </a:lnTo>
                <a:lnTo>
                  <a:pt x="63271" y="1400"/>
                </a:lnTo>
                <a:close/>
              </a:path>
              <a:path fill="darkenLess" w="64671" h="21600">
                <a:moveTo>
                  <a:pt x="646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71" y="20200"/>
                </a:lnTo>
                <a:close/>
              </a:path>
              <a:path fill="lighten" w="646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671" h="21600">
                <a:moveTo>
                  <a:pt x="25329" y="3794"/>
                </a:moveTo>
                <a:lnTo>
                  <a:pt x="39342" y="10800"/>
                </a:lnTo>
                <a:lnTo>
                  <a:pt x="25329" y="17806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>
            <a:hlinkClick r:id="" action="ppaction://hlinkshowjump?jump=previousslide"/>
          </p:cNvPr>
          <p:cNvSpPr/>
          <p:nvPr/>
        </p:nvSpPr>
        <p:spPr>
          <a:xfrm>
            <a:off x="5757840" y="358920"/>
            <a:ext cx="1079640" cy="360360"/>
          </a:xfrm>
          <a:custGeom>
            <a:avLst/>
            <a:gdLst>
              <a:gd name="textAreaLeft" fmla="*/ 23040 w 1079640"/>
              <a:gd name="textAreaRight" fmla="*/ 1056600 w 1079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671" h="21600">
                <a:moveTo>
                  <a:pt x="0" y="0"/>
                </a:moveTo>
                <a:lnTo>
                  <a:pt x="64671" y="0"/>
                </a:lnTo>
                <a:lnTo>
                  <a:pt x="64671" y="21600"/>
                </a:lnTo>
                <a:lnTo>
                  <a:pt x="0" y="21600"/>
                </a:lnTo>
                <a:close/>
              </a:path>
              <a:path fill="lightenLess" w="64671" h="21600">
                <a:moveTo>
                  <a:pt x="0" y="0"/>
                </a:moveTo>
                <a:lnTo>
                  <a:pt x="64671" y="0"/>
                </a:lnTo>
                <a:lnTo>
                  <a:pt x="63271" y="1400"/>
                </a:lnTo>
                <a:lnTo>
                  <a:pt x="1400" y="1400"/>
                </a:lnTo>
                <a:close/>
              </a:path>
              <a:path fill="darken" w="64671" h="21600">
                <a:moveTo>
                  <a:pt x="64671" y="0"/>
                </a:moveTo>
                <a:lnTo>
                  <a:pt x="64671" y="21600"/>
                </a:lnTo>
                <a:lnTo>
                  <a:pt x="63271" y="20200"/>
                </a:lnTo>
                <a:lnTo>
                  <a:pt x="63271" y="1400"/>
                </a:lnTo>
                <a:close/>
              </a:path>
              <a:path fill="darkenLess" w="64671" h="21600">
                <a:moveTo>
                  <a:pt x="646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71" y="20200"/>
                </a:lnTo>
                <a:close/>
              </a:path>
              <a:path fill="lighten" w="646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671" h="21600">
                <a:moveTo>
                  <a:pt x="25329" y="10800"/>
                </a:moveTo>
                <a:lnTo>
                  <a:pt x="39342" y="3794"/>
                </a:lnTo>
                <a:lnTo>
                  <a:pt x="39342" y="17806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>
            <a:hlinkClick r:id="" action="ppaction://hlinkshowjump?jump=firstslide"/>
          </p:cNvPr>
          <p:cNvSpPr/>
          <p:nvPr/>
        </p:nvSpPr>
        <p:spPr>
          <a:xfrm>
            <a:off x="6837480" y="358920"/>
            <a:ext cx="1079280" cy="360360"/>
          </a:xfrm>
          <a:custGeom>
            <a:avLst/>
            <a:gdLst>
              <a:gd name="textAreaLeft" fmla="*/ 23040 w 1079280"/>
              <a:gd name="textAreaRight" fmla="*/ 1056240 w 107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649" h="21600">
                <a:moveTo>
                  <a:pt x="0" y="0"/>
                </a:moveTo>
                <a:lnTo>
                  <a:pt x="64649" y="0"/>
                </a:lnTo>
                <a:lnTo>
                  <a:pt x="64649" y="21600"/>
                </a:lnTo>
                <a:lnTo>
                  <a:pt x="0" y="21600"/>
                </a:lnTo>
                <a:close/>
              </a:path>
              <a:path fill="lightenLess" w="64649" h="21600">
                <a:moveTo>
                  <a:pt x="0" y="0"/>
                </a:moveTo>
                <a:lnTo>
                  <a:pt x="64649" y="0"/>
                </a:lnTo>
                <a:lnTo>
                  <a:pt x="63249" y="1400"/>
                </a:lnTo>
                <a:lnTo>
                  <a:pt x="1400" y="1400"/>
                </a:lnTo>
                <a:close/>
              </a:path>
              <a:path fill="darken" w="64649" h="21600">
                <a:moveTo>
                  <a:pt x="64649" y="0"/>
                </a:moveTo>
                <a:lnTo>
                  <a:pt x="64649" y="21600"/>
                </a:lnTo>
                <a:lnTo>
                  <a:pt x="63249" y="20200"/>
                </a:lnTo>
                <a:lnTo>
                  <a:pt x="63249" y="1400"/>
                </a:lnTo>
                <a:close/>
              </a:path>
              <a:path fill="darkenLess" w="64649" h="21600">
                <a:moveTo>
                  <a:pt x="646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49" y="20200"/>
                </a:lnTo>
                <a:close/>
              </a:path>
              <a:path fill="lighten" w="646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649" h="21600">
                <a:moveTo>
                  <a:pt x="32325" y="3837"/>
                </a:moveTo>
                <a:lnTo>
                  <a:pt x="34901" y="6448"/>
                </a:lnTo>
                <a:lnTo>
                  <a:pt x="34901" y="4707"/>
                </a:lnTo>
                <a:lnTo>
                  <a:pt x="36676" y="4707"/>
                </a:lnTo>
                <a:lnTo>
                  <a:pt x="36676" y="8224"/>
                </a:lnTo>
                <a:lnTo>
                  <a:pt x="39288" y="10800"/>
                </a:lnTo>
                <a:lnTo>
                  <a:pt x="37634" y="10800"/>
                </a:lnTo>
                <a:lnTo>
                  <a:pt x="37634" y="17989"/>
                </a:lnTo>
                <a:lnTo>
                  <a:pt x="27015" y="17989"/>
                </a:lnTo>
                <a:lnTo>
                  <a:pt x="27015" y="10800"/>
                </a:lnTo>
                <a:lnTo>
                  <a:pt x="25362" y="10800"/>
                </a:lnTo>
                <a:close/>
              </a:path>
              <a:path fill="darkenLess" w="64649" h="21600">
                <a:moveTo>
                  <a:pt x="34901" y="6448"/>
                </a:moveTo>
                <a:lnTo>
                  <a:pt x="34901" y="4707"/>
                </a:lnTo>
                <a:lnTo>
                  <a:pt x="36676" y="4707"/>
                </a:lnTo>
                <a:lnTo>
                  <a:pt x="36676" y="8224"/>
                </a:lnTo>
                <a:close/>
              </a:path>
              <a:path fill="darkenLess" w="64649" h="21600">
                <a:moveTo>
                  <a:pt x="31402" y="14299"/>
                </a:moveTo>
                <a:lnTo>
                  <a:pt x="33247" y="14299"/>
                </a:lnTo>
                <a:lnTo>
                  <a:pt x="33247" y="17989"/>
                </a:lnTo>
                <a:lnTo>
                  <a:pt x="37634" y="17989"/>
                </a:lnTo>
                <a:lnTo>
                  <a:pt x="37634" y="10800"/>
                </a:lnTo>
                <a:lnTo>
                  <a:pt x="27015" y="10800"/>
                </a:lnTo>
                <a:lnTo>
                  <a:pt x="27015" y="17989"/>
                </a:lnTo>
                <a:lnTo>
                  <a:pt x="31402" y="17989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962160" y="846000"/>
            <a:ext cx="5181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3333ff"/>
                </a:solidFill>
                <a:latin typeface="Georgia"/>
              </a:rPr>
              <a:t>Linux Mandrake 6.1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26" name="33gdzielilo" descr=""/>
          <p:cNvPicPr/>
          <p:nvPr/>
        </p:nvPicPr>
        <p:blipFill>
          <a:blip r:embed="rId1"/>
          <a:stretch/>
        </p:blipFill>
        <p:spPr>
          <a:xfrm>
            <a:off x="2158920" y="2338560"/>
            <a:ext cx="5491080" cy="3595680"/>
          </a:xfrm>
          <a:prstGeom prst="rect">
            <a:avLst/>
          </a:prstGeom>
          <a:ln w="0">
            <a:noFill/>
          </a:ln>
        </p:spPr>
      </p:pic>
      <p:pic>
        <p:nvPicPr>
          <p:cNvPr id="327" name="linux_4" descr=""/>
          <p:cNvPicPr/>
          <p:nvPr/>
        </p:nvPicPr>
        <p:blipFill>
          <a:blip r:embed="rId2"/>
          <a:stretch/>
        </p:blipFill>
        <p:spPr>
          <a:xfrm>
            <a:off x="1828800" y="5486400"/>
            <a:ext cx="604800" cy="717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A4FF7-1D61-40FE-B304-824D99FF1B79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0" y="1438200"/>
            <a:ext cx="914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Georgia"/>
              </a:rPr>
              <a:t>Kolejne ekrany pozwalają dodać specjalne opcje przy starcie systemu – nie ma takiej potrzeby oraz zdecydować, który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Georgia"/>
              </a:rPr>
              <a:t>z systemów na naszym dysku ma być uruchamiany domyślnie /dla tych, którzy zainstalowali LILO w „Master boot” sektorze/. Przyjmujemy domyślne ustawienia potwierdzając je przyciskiem </a:t>
            </a:r>
            <a:r>
              <a:rPr b="1" lang="pl-PL" sz="1200" spc="-1" strike="noStrike">
                <a:solidFill>
                  <a:srgbClr val="000000"/>
                </a:solidFill>
                <a:latin typeface="Georgia"/>
              </a:rPr>
              <a:t>Tak</a:t>
            </a:r>
            <a:r>
              <a:rPr b="0" lang="pl-PL" sz="12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>
            <a:hlinkClick r:id="" action="ppaction://hlinkshowjump?jump=nextslide"/>
          </p:cNvPr>
          <p:cNvSpPr/>
          <p:nvPr/>
        </p:nvSpPr>
        <p:spPr>
          <a:xfrm>
            <a:off x="7916760" y="358920"/>
            <a:ext cx="1079640" cy="360360"/>
          </a:xfrm>
          <a:custGeom>
            <a:avLst/>
            <a:gdLst>
              <a:gd name="textAreaLeft" fmla="*/ 23040 w 1079640"/>
              <a:gd name="textAreaRight" fmla="*/ 1056600 w 1079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671" h="21600">
                <a:moveTo>
                  <a:pt x="0" y="0"/>
                </a:moveTo>
                <a:lnTo>
                  <a:pt x="64671" y="0"/>
                </a:lnTo>
                <a:lnTo>
                  <a:pt x="64671" y="21600"/>
                </a:lnTo>
                <a:lnTo>
                  <a:pt x="0" y="21600"/>
                </a:lnTo>
                <a:close/>
              </a:path>
              <a:path fill="lightenLess" w="64671" h="21600">
                <a:moveTo>
                  <a:pt x="0" y="0"/>
                </a:moveTo>
                <a:lnTo>
                  <a:pt x="64671" y="0"/>
                </a:lnTo>
                <a:lnTo>
                  <a:pt x="63271" y="1400"/>
                </a:lnTo>
                <a:lnTo>
                  <a:pt x="1400" y="1400"/>
                </a:lnTo>
                <a:close/>
              </a:path>
              <a:path fill="darken" w="64671" h="21600">
                <a:moveTo>
                  <a:pt x="64671" y="0"/>
                </a:moveTo>
                <a:lnTo>
                  <a:pt x="64671" y="21600"/>
                </a:lnTo>
                <a:lnTo>
                  <a:pt x="63271" y="20200"/>
                </a:lnTo>
                <a:lnTo>
                  <a:pt x="63271" y="1400"/>
                </a:lnTo>
                <a:close/>
              </a:path>
              <a:path fill="darkenLess" w="64671" h="21600">
                <a:moveTo>
                  <a:pt x="646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71" y="20200"/>
                </a:lnTo>
                <a:close/>
              </a:path>
              <a:path fill="lighten" w="646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671" h="21600">
                <a:moveTo>
                  <a:pt x="25329" y="3794"/>
                </a:moveTo>
                <a:lnTo>
                  <a:pt x="39342" y="10800"/>
                </a:lnTo>
                <a:lnTo>
                  <a:pt x="25329" y="17806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>
            <a:hlinkClick r:id="" action="ppaction://hlinkshowjump?jump=previousslide"/>
          </p:cNvPr>
          <p:cNvSpPr/>
          <p:nvPr/>
        </p:nvSpPr>
        <p:spPr>
          <a:xfrm>
            <a:off x="5757840" y="358920"/>
            <a:ext cx="1079640" cy="360360"/>
          </a:xfrm>
          <a:custGeom>
            <a:avLst/>
            <a:gdLst>
              <a:gd name="textAreaLeft" fmla="*/ 23040 w 1079640"/>
              <a:gd name="textAreaRight" fmla="*/ 1056600 w 1079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671" h="21600">
                <a:moveTo>
                  <a:pt x="0" y="0"/>
                </a:moveTo>
                <a:lnTo>
                  <a:pt x="64671" y="0"/>
                </a:lnTo>
                <a:lnTo>
                  <a:pt x="64671" y="21600"/>
                </a:lnTo>
                <a:lnTo>
                  <a:pt x="0" y="21600"/>
                </a:lnTo>
                <a:close/>
              </a:path>
              <a:path fill="lightenLess" w="64671" h="21600">
                <a:moveTo>
                  <a:pt x="0" y="0"/>
                </a:moveTo>
                <a:lnTo>
                  <a:pt x="64671" y="0"/>
                </a:lnTo>
                <a:lnTo>
                  <a:pt x="63271" y="1400"/>
                </a:lnTo>
                <a:lnTo>
                  <a:pt x="1400" y="1400"/>
                </a:lnTo>
                <a:close/>
              </a:path>
              <a:path fill="darken" w="64671" h="21600">
                <a:moveTo>
                  <a:pt x="64671" y="0"/>
                </a:moveTo>
                <a:lnTo>
                  <a:pt x="64671" y="21600"/>
                </a:lnTo>
                <a:lnTo>
                  <a:pt x="63271" y="20200"/>
                </a:lnTo>
                <a:lnTo>
                  <a:pt x="63271" y="1400"/>
                </a:lnTo>
                <a:close/>
              </a:path>
              <a:path fill="darkenLess" w="64671" h="21600">
                <a:moveTo>
                  <a:pt x="646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71" y="20200"/>
                </a:lnTo>
                <a:close/>
              </a:path>
              <a:path fill="lighten" w="646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671" h="21600">
                <a:moveTo>
                  <a:pt x="25329" y="10800"/>
                </a:moveTo>
                <a:lnTo>
                  <a:pt x="39342" y="3794"/>
                </a:lnTo>
                <a:lnTo>
                  <a:pt x="39342" y="17806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>
            <a:hlinkClick r:id="" action="ppaction://hlinkshowjump?jump=firstslide"/>
          </p:cNvPr>
          <p:cNvSpPr/>
          <p:nvPr/>
        </p:nvSpPr>
        <p:spPr>
          <a:xfrm>
            <a:off x="6837480" y="358920"/>
            <a:ext cx="1079280" cy="360360"/>
          </a:xfrm>
          <a:custGeom>
            <a:avLst/>
            <a:gdLst>
              <a:gd name="textAreaLeft" fmla="*/ 23040 w 1079280"/>
              <a:gd name="textAreaRight" fmla="*/ 1056240 w 107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649" h="21600">
                <a:moveTo>
                  <a:pt x="0" y="0"/>
                </a:moveTo>
                <a:lnTo>
                  <a:pt x="64649" y="0"/>
                </a:lnTo>
                <a:lnTo>
                  <a:pt x="64649" y="21600"/>
                </a:lnTo>
                <a:lnTo>
                  <a:pt x="0" y="21600"/>
                </a:lnTo>
                <a:close/>
              </a:path>
              <a:path fill="lightenLess" w="64649" h="21600">
                <a:moveTo>
                  <a:pt x="0" y="0"/>
                </a:moveTo>
                <a:lnTo>
                  <a:pt x="64649" y="0"/>
                </a:lnTo>
                <a:lnTo>
                  <a:pt x="63249" y="1400"/>
                </a:lnTo>
                <a:lnTo>
                  <a:pt x="1400" y="1400"/>
                </a:lnTo>
                <a:close/>
              </a:path>
              <a:path fill="darken" w="64649" h="21600">
                <a:moveTo>
                  <a:pt x="64649" y="0"/>
                </a:moveTo>
                <a:lnTo>
                  <a:pt x="64649" y="21600"/>
                </a:lnTo>
                <a:lnTo>
                  <a:pt x="63249" y="20200"/>
                </a:lnTo>
                <a:lnTo>
                  <a:pt x="63249" y="1400"/>
                </a:lnTo>
                <a:close/>
              </a:path>
              <a:path fill="darkenLess" w="64649" h="21600">
                <a:moveTo>
                  <a:pt x="646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49" y="20200"/>
                </a:lnTo>
                <a:close/>
              </a:path>
              <a:path fill="lighten" w="646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649" h="21600">
                <a:moveTo>
                  <a:pt x="32325" y="3837"/>
                </a:moveTo>
                <a:lnTo>
                  <a:pt x="34901" y="6448"/>
                </a:lnTo>
                <a:lnTo>
                  <a:pt x="34901" y="4707"/>
                </a:lnTo>
                <a:lnTo>
                  <a:pt x="36676" y="4707"/>
                </a:lnTo>
                <a:lnTo>
                  <a:pt x="36676" y="8224"/>
                </a:lnTo>
                <a:lnTo>
                  <a:pt x="39288" y="10800"/>
                </a:lnTo>
                <a:lnTo>
                  <a:pt x="37634" y="10800"/>
                </a:lnTo>
                <a:lnTo>
                  <a:pt x="37634" y="17989"/>
                </a:lnTo>
                <a:lnTo>
                  <a:pt x="27015" y="17989"/>
                </a:lnTo>
                <a:lnTo>
                  <a:pt x="27015" y="10800"/>
                </a:lnTo>
                <a:lnTo>
                  <a:pt x="25362" y="10800"/>
                </a:lnTo>
                <a:close/>
              </a:path>
              <a:path fill="darkenLess" w="64649" h="21600">
                <a:moveTo>
                  <a:pt x="34901" y="6448"/>
                </a:moveTo>
                <a:lnTo>
                  <a:pt x="34901" y="4707"/>
                </a:lnTo>
                <a:lnTo>
                  <a:pt x="36676" y="4707"/>
                </a:lnTo>
                <a:lnTo>
                  <a:pt x="36676" y="8224"/>
                </a:lnTo>
                <a:close/>
              </a:path>
              <a:path fill="darkenLess" w="64649" h="21600">
                <a:moveTo>
                  <a:pt x="31402" y="14299"/>
                </a:moveTo>
                <a:lnTo>
                  <a:pt x="33247" y="14299"/>
                </a:lnTo>
                <a:lnTo>
                  <a:pt x="33247" y="17989"/>
                </a:lnTo>
                <a:lnTo>
                  <a:pt x="37634" y="17989"/>
                </a:lnTo>
                <a:lnTo>
                  <a:pt x="37634" y="10800"/>
                </a:lnTo>
                <a:lnTo>
                  <a:pt x="27015" y="10800"/>
                </a:lnTo>
                <a:lnTo>
                  <a:pt x="27015" y="17989"/>
                </a:lnTo>
                <a:lnTo>
                  <a:pt x="31402" y="17989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962160" y="846000"/>
            <a:ext cx="5181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3333ff"/>
                </a:solidFill>
                <a:latin typeface="Georgia"/>
              </a:rPr>
              <a:t>Linux Mandrake 6.1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33" name="34specjalneopcje" descr=""/>
          <p:cNvPicPr/>
          <p:nvPr/>
        </p:nvPicPr>
        <p:blipFill>
          <a:blip r:embed="rId1"/>
          <a:stretch/>
        </p:blipFill>
        <p:spPr>
          <a:xfrm>
            <a:off x="719280" y="2158920"/>
            <a:ext cx="3297240" cy="2158920"/>
          </a:xfrm>
          <a:prstGeom prst="rect">
            <a:avLst/>
          </a:prstGeom>
          <a:ln w="0">
            <a:noFill/>
          </a:ln>
        </p:spPr>
      </p:pic>
      <p:pic>
        <p:nvPicPr>
          <p:cNvPr id="334" name="35ktorastartowapartycja" descr=""/>
          <p:cNvPicPr/>
          <p:nvPr/>
        </p:nvPicPr>
        <p:blipFill>
          <a:blip r:embed="rId2"/>
          <a:stretch/>
        </p:blipFill>
        <p:spPr>
          <a:xfrm>
            <a:off x="4678200" y="2158920"/>
            <a:ext cx="3297240" cy="2158920"/>
          </a:xfrm>
          <a:prstGeom prst="rect">
            <a:avLst/>
          </a:prstGeom>
          <a:ln w="0">
            <a:noFill/>
          </a:ln>
        </p:spPr>
      </p:pic>
      <p:sp>
        <p:nvSpPr>
          <p:cNvPr id="335" name=""/>
          <p:cNvSpPr/>
          <p:nvPr/>
        </p:nvSpPr>
        <p:spPr>
          <a:xfrm>
            <a:off x="0" y="4648320"/>
            <a:ext cx="9144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eorgia"/>
              </a:rPr>
              <a:t>Teraz nastąpi część instalacji pozwalająca używać systemy graficznego X-Window. Jeśli posiadamy nietypową kartę graficzną może to być zadanie niewykonalne w prosty sposób /bez instalowania specjalnych sterowników w już zainstalowanym systemie/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linux_4" descr=""/>
          <p:cNvPicPr/>
          <p:nvPr/>
        </p:nvPicPr>
        <p:blipFill>
          <a:blip r:embed="rId3"/>
          <a:stretch/>
        </p:blipFill>
        <p:spPr>
          <a:xfrm>
            <a:off x="304920" y="3886200"/>
            <a:ext cx="604800" cy="717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CECFB-B845-4CD6-A124-5266A259412C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/>
          <p:nvPr/>
        </p:nvSpPr>
        <p:spPr>
          <a:xfrm>
            <a:off x="0" y="1438200"/>
            <a:ext cx="91440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Georgia"/>
              </a:rPr>
              <a:t>Powinna zostać wykryta używana przez nas karta graficzna oraz ilość zainstalowanej na niej pamięci. Na ekranie pokaże się odpowiedni komunikat. Jeśli tak się stało – instalowany jest odpowiedni server X-Window – jeśli nie musimy wybrać naszą kartę z dostępnej listy /nie zawsze przyniesie to skutek pozytywny/. Następnie zaznaczamy na wyświetlonej liście swój model monitora – jeśli nie ma go na liście proponuję wybrać </a:t>
            </a:r>
            <a:r>
              <a:rPr b="1" lang="pl-PL" sz="1200" spc="-1" strike="noStrike">
                <a:solidFill>
                  <a:srgbClr val="000000"/>
                </a:solidFill>
                <a:latin typeface="Georgia"/>
              </a:rPr>
              <a:t>Generic Multisync </a:t>
            </a:r>
            <a:r>
              <a:rPr b="0" lang="pl-PL" sz="1200" spc="-1" strike="noStrike">
                <a:solidFill>
                  <a:srgbClr val="000000"/>
                </a:solidFill>
                <a:latin typeface="Georgia"/>
              </a:rPr>
              <a:t>/dla nowszych typów/, lub </a:t>
            </a:r>
            <a:r>
              <a:rPr b="1" lang="pl-PL" sz="1200" spc="-1" strike="noStrike">
                <a:solidFill>
                  <a:srgbClr val="000000"/>
                </a:solidFill>
                <a:latin typeface="Georgia"/>
              </a:rPr>
              <a:t>Generic Monitor</a:t>
            </a:r>
            <a:r>
              <a:rPr b="0" lang="pl-PL" sz="1200" spc="-1" strike="noStrike">
                <a:solidFill>
                  <a:srgbClr val="000000"/>
                </a:solidFill>
                <a:latin typeface="Georgia"/>
              </a:rPr>
              <a:t> dla starszych. W kolejnym kroku nastąpi próbne uruchomienie trybu graficznego /uruchamiamy go przez naciśnięcie </a:t>
            </a:r>
            <a:r>
              <a:rPr b="1" lang="pl-PL" sz="1200" spc="-1" strike="noStrike">
                <a:solidFill>
                  <a:srgbClr val="000000"/>
                </a:solidFill>
                <a:latin typeface="Georgia"/>
              </a:rPr>
              <a:t>Probe</a:t>
            </a:r>
            <a:r>
              <a:rPr b="0" lang="pl-PL" sz="1200" spc="-1" strike="noStrike">
                <a:solidFill>
                  <a:srgbClr val="000000"/>
                </a:solidFill>
                <a:latin typeface="Georgia"/>
              </a:rPr>
              <a:t>/. Jeśli wystąpi błąd określamy ilość pamięci naszej karty graficznej. Powinniśmy określić układ zegarowy kart /</a:t>
            </a:r>
            <a:r>
              <a:rPr b="1" lang="pl-PL" sz="1200" spc="-1" strike="noStrike">
                <a:solidFill>
                  <a:srgbClr val="000000"/>
                </a:solidFill>
                <a:latin typeface="Georgia"/>
              </a:rPr>
              <a:t>Clockchip</a:t>
            </a:r>
            <a:r>
              <a:rPr b="0" lang="pl-PL" sz="1200" spc="-1" strike="noStrike">
                <a:solidFill>
                  <a:srgbClr val="000000"/>
                </a:solidFill>
                <a:latin typeface="Georgia"/>
              </a:rPr>
              <a:t>/ - tutaj najlepiej jest zostawić domyślną odpowiedź – </a:t>
            </a:r>
            <a:r>
              <a:rPr b="1" lang="pl-PL" sz="1200" spc="-1" strike="noStrike">
                <a:solidFill>
                  <a:srgbClr val="000000"/>
                </a:solidFill>
                <a:latin typeface="Georgia"/>
              </a:rPr>
              <a:t>No clockchip settings</a:t>
            </a:r>
            <a:r>
              <a:rPr b="0" lang="pl-PL" sz="1200" spc="-1" strike="noStrike">
                <a:solidFill>
                  <a:srgbClr val="000000"/>
                </a:solidFill>
                <a:latin typeface="Georgia"/>
              </a:rPr>
              <a:t>. Określamy następnie tryby graficzne w których ma pracować nasz monitor /jeśli wybierzemy kilka to przełączenie między nimi odbywa się sekwencyjnie po naciśnięciu kombinacji klawiszy </a:t>
            </a:r>
            <a:r>
              <a:rPr b="1" lang="pl-PL" sz="1200" spc="-1" strike="noStrike">
                <a:solidFill>
                  <a:srgbClr val="000000"/>
                </a:solidFill>
                <a:latin typeface="Georgia"/>
              </a:rPr>
              <a:t>Ctrl </a:t>
            </a:r>
            <a:r>
              <a:rPr b="0" lang="pl-PL" sz="1200" spc="-1" strike="noStrike">
                <a:solidFill>
                  <a:srgbClr val="000000"/>
                </a:solidFill>
                <a:latin typeface="Georgia"/>
              </a:rPr>
              <a:t>+ </a:t>
            </a:r>
            <a:r>
              <a:rPr b="1" lang="pl-PL" sz="1200" spc="-1" strike="noStrike">
                <a:solidFill>
                  <a:srgbClr val="000000"/>
                </a:solidFill>
                <a:latin typeface="Georgia"/>
              </a:rPr>
              <a:t>Shift </a:t>
            </a:r>
            <a:r>
              <a:rPr b="0" lang="pl-PL" sz="1200" spc="-1" strike="noStrike">
                <a:solidFill>
                  <a:srgbClr val="000000"/>
                </a:solidFill>
                <a:latin typeface="Georgia"/>
              </a:rPr>
              <a:t>+ klawisz „</a:t>
            </a:r>
            <a:r>
              <a:rPr b="1" lang="pl-PL" sz="1200" spc="-1" strike="noStrike">
                <a:solidFill>
                  <a:srgbClr val="000000"/>
                </a:solidFill>
                <a:latin typeface="Georgia"/>
              </a:rPr>
              <a:t>+</a:t>
            </a:r>
            <a:r>
              <a:rPr b="0" lang="pl-PL" sz="1200" spc="-1" strike="noStrike">
                <a:solidFill>
                  <a:srgbClr val="000000"/>
                </a:solidFill>
                <a:latin typeface="Georgia"/>
              </a:rPr>
              <a:t>” w części numerycznej klawiatury/. Po pomyślnym zakończeniu testu konfiguracji odpowiadamy na pytanie dotyczące poprawności wyświetlanego obrazu kontrolnego. Jeśli nie był on poprawny to rozpoczynamy całą procedurę od początku – jeśli był poprawny to na pytanie – Czy po starcie wyświetlić obraz w trybie graficznym  ? Odpowiadamy zgodnie z naszą intencją – proponuję </a:t>
            </a:r>
            <a:r>
              <a:rPr b="1" lang="pl-PL" sz="1200" spc="-1" strike="noStrike">
                <a:solidFill>
                  <a:srgbClr val="000000"/>
                </a:solidFill>
                <a:latin typeface="Georgia"/>
              </a:rPr>
              <a:t>Nie</a:t>
            </a:r>
            <a:r>
              <a:rPr b="0" lang="pl-PL" sz="1200" spc="-1" strike="noStrike">
                <a:solidFill>
                  <a:srgbClr val="000000"/>
                </a:solidFill>
                <a:latin typeface="Georgia"/>
              </a:rPr>
              <a:t>. Zawsze mamy możliwość jego uruchomienia przez wydanie rozkazu </a:t>
            </a:r>
            <a:r>
              <a:rPr b="1" lang="pl-PL" sz="1200" spc="-1" strike="noStrike">
                <a:solidFill>
                  <a:srgbClr val="000000"/>
                </a:solidFill>
                <a:latin typeface="Georgia"/>
              </a:rPr>
              <a:t>startx</a:t>
            </a:r>
            <a:r>
              <a:rPr b="0" lang="pl-PL" sz="1200" spc="-1" strike="noStrike">
                <a:solidFill>
                  <a:srgbClr val="000000"/>
                </a:solidFill>
                <a:latin typeface="Georgi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Georgia"/>
              </a:rPr>
              <a:t>Na ekranie pojawiają słowa gratulacyjne – należą nam się – przecież zainstalowaliśmy i wstępnie skonfigurowaliśmy system Linux na naszym dysku ... ;-)). Następuje restart systemu i jeśli pozostawiliśmy dyskietkę startową systemu Linux w napędzie następuje jego uruchomienie ... i to już wszystko 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>
            <a:hlinkClick r:id="" action="ppaction://hlinkshowjump?jump=nextslide"/>
          </p:cNvPr>
          <p:cNvSpPr/>
          <p:nvPr/>
        </p:nvSpPr>
        <p:spPr>
          <a:xfrm>
            <a:off x="7916760" y="358920"/>
            <a:ext cx="1079640" cy="360360"/>
          </a:xfrm>
          <a:custGeom>
            <a:avLst/>
            <a:gdLst>
              <a:gd name="textAreaLeft" fmla="*/ 23040 w 1079640"/>
              <a:gd name="textAreaRight" fmla="*/ 1056600 w 1079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671" h="21600">
                <a:moveTo>
                  <a:pt x="0" y="0"/>
                </a:moveTo>
                <a:lnTo>
                  <a:pt x="64671" y="0"/>
                </a:lnTo>
                <a:lnTo>
                  <a:pt x="64671" y="21600"/>
                </a:lnTo>
                <a:lnTo>
                  <a:pt x="0" y="21600"/>
                </a:lnTo>
                <a:close/>
              </a:path>
              <a:path fill="lightenLess" w="64671" h="21600">
                <a:moveTo>
                  <a:pt x="0" y="0"/>
                </a:moveTo>
                <a:lnTo>
                  <a:pt x="64671" y="0"/>
                </a:lnTo>
                <a:lnTo>
                  <a:pt x="63271" y="1400"/>
                </a:lnTo>
                <a:lnTo>
                  <a:pt x="1400" y="1400"/>
                </a:lnTo>
                <a:close/>
              </a:path>
              <a:path fill="darken" w="64671" h="21600">
                <a:moveTo>
                  <a:pt x="64671" y="0"/>
                </a:moveTo>
                <a:lnTo>
                  <a:pt x="64671" y="21600"/>
                </a:lnTo>
                <a:lnTo>
                  <a:pt x="63271" y="20200"/>
                </a:lnTo>
                <a:lnTo>
                  <a:pt x="63271" y="1400"/>
                </a:lnTo>
                <a:close/>
              </a:path>
              <a:path fill="darkenLess" w="64671" h="21600">
                <a:moveTo>
                  <a:pt x="646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71" y="20200"/>
                </a:lnTo>
                <a:close/>
              </a:path>
              <a:path fill="lighten" w="646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671" h="21600">
                <a:moveTo>
                  <a:pt x="25329" y="3794"/>
                </a:moveTo>
                <a:lnTo>
                  <a:pt x="39342" y="10800"/>
                </a:lnTo>
                <a:lnTo>
                  <a:pt x="25329" y="17806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>
            <a:hlinkClick r:id="" action="ppaction://hlinkshowjump?jump=previousslide"/>
          </p:cNvPr>
          <p:cNvSpPr/>
          <p:nvPr/>
        </p:nvSpPr>
        <p:spPr>
          <a:xfrm>
            <a:off x="5757840" y="358920"/>
            <a:ext cx="1079640" cy="360360"/>
          </a:xfrm>
          <a:custGeom>
            <a:avLst/>
            <a:gdLst>
              <a:gd name="textAreaLeft" fmla="*/ 23040 w 1079640"/>
              <a:gd name="textAreaRight" fmla="*/ 1056600 w 1079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671" h="21600">
                <a:moveTo>
                  <a:pt x="0" y="0"/>
                </a:moveTo>
                <a:lnTo>
                  <a:pt x="64671" y="0"/>
                </a:lnTo>
                <a:lnTo>
                  <a:pt x="64671" y="21600"/>
                </a:lnTo>
                <a:lnTo>
                  <a:pt x="0" y="21600"/>
                </a:lnTo>
                <a:close/>
              </a:path>
              <a:path fill="lightenLess" w="64671" h="21600">
                <a:moveTo>
                  <a:pt x="0" y="0"/>
                </a:moveTo>
                <a:lnTo>
                  <a:pt x="64671" y="0"/>
                </a:lnTo>
                <a:lnTo>
                  <a:pt x="63271" y="1400"/>
                </a:lnTo>
                <a:lnTo>
                  <a:pt x="1400" y="1400"/>
                </a:lnTo>
                <a:close/>
              </a:path>
              <a:path fill="darken" w="64671" h="21600">
                <a:moveTo>
                  <a:pt x="64671" y="0"/>
                </a:moveTo>
                <a:lnTo>
                  <a:pt x="64671" y="21600"/>
                </a:lnTo>
                <a:lnTo>
                  <a:pt x="63271" y="20200"/>
                </a:lnTo>
                <a:lnTo>
                  <a:pt x="63271" y="1400"/>
                </a:lnTo>
                <a:close/>
              </a:path>
              <a:path fill="darkenLess" w="64671" h="21600">
                <a:moveTo>
                  <a:pt x="646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71" y="20200"/>
                </a:lnTo>
                <a:close/>
              </a:path>
              <a:path fill="lighten" w="646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671" h="21600">
                <a:moveTo>
                  <a:pt x="25329" y="10800"/>
                </a:moveTo>
                <a:lnTo>
                  <a:pt x="39342" y="3794"/>
                </a:lnTo>
                <a:lnTo>
                  <a:pt x="39342" y="17806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>
            <a:hlinkClick r:id="" action="ppaction://hlinkshowjump?jump=firstslide"/>
          </p:cNvPr>
          <p:cNvSpPr/>
          <p:nvPr/>
        </p:nvSpPr>
        <p:spPr>
          <a:xfrm>
            <a:off x="6837480" y="358920"/>
            <a:ext cx="1079280" cy="360360"/>
          </a:xfrm>
          <a:custGeom>
            <a:avLst/>
            <a:gdLst>
              <a:gd name="textAreaLeft" fmla="*/ 23040 w 1079280"/>
              <a:gd name="textAreaRight" fmla="*/ 1056240 w 107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649" h="21600">
                <a:moveTo>
                  <a:pt x="0" y="0"/>
                </a:moveTo>
                <a:lnTo>
                  <a:pt x="64649" y="0"/>
                </a:lnTo>
                <a:lnTo>
                  <a:pt x="64649" y="21600"/>
                </a:lnTo>
                <a:lnTo>
                  <a:pt x="0" y="21600"/>
                </a:lnTo>
                <a:close/>
              </a:path>
              <a:path fill="lightenLess" w="64649" h="21600">
                <a:moveTo>
                  <a:pt x="0" y="0"/>
                </a:moveTo>
                <a:lnTo>
                  <a:pt x="64649" y="0"/>
                </a:lnTo>
                <a:lnTo>
                  <a:pt x="63249" y="1400"/>
                </a:lnTo>
                <a:lnTo>
                  <a:pt x="1400" y="1400"/>
                </a:lnTo>
                <a:close/>
              </a:path>
              <a:path fill="darken" w="64649" h="21600">
                <a:moveTo>
                  <a:pt x="64649" y="0"/>
                </a:moveTo>
                <a:lnTo>
                  <a:pt x="64649" y="21600"/>
                </a:lnTo>
                <a:lnTo>
                  <a:pt x="63249" y="20200"/>
                </a:lnTo>
                <a:lnTo>
                  <a:pt x="63249" y="1400"/>
                </a:lnTo>
                <a:close/>
              </a:path>
              <a:path fill="darkenLess" w="64649" h="21600">
                <a:moveTo>
                  <a:pt x="646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49" y="20200"/>
                </a:lnTo>
                <a:close/>
              </a:path>
              <a:path fill="lighten" w="646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649" h="21600">
                <a:moveTo>
                  <a:pt x="32325" y="3837"/>
                </a:moveTo>
                <a:lnTo>
                  <a:pt x="34901" y="6448"/>
                </a:lnTo>
                <a:lnTo>
                  <a:pt x="34901" y="4707"/>
                </a:lnTo>
                <a:lnTo>
                  <a:pt x="36676" y="4707"/>
                </a:lnTo>
                <a:lnTo>
                  <a:pt x="36676" y="8224"/>
                </a:lnTo>
                <a:lnTo>
                  <a:pt x="39288" y="10800"/>
                </a:lnTo>
                <a:lnTo>
                  <a:pt x="37634" y="10800"/>
                </a:lnTo>
                <a:lnTo>
                  <a:pt x="37634" y="17989"/>
                </a:lnTo>
                <a:lnTo>
                  <a:pt x="27015" y="17989"/>
                </a:lnTo>
                <a:lnTo>
                  <a:pt x="27015" y="10800"/>
                </a:lnTo>
                <a:lnTo>
                  <a:pt x="25362" y="10800"/>
                </a:lnTo>
                <a:close/>
              </a:path>
              <a:path fill="darkenLess" w="64649" h="21600">
                <a:moveTo>
                  <a:pt x="34901" y="6448"/>
                </a:moveTo>
                <a:lnTo>
                  <a:pt x="34901" y="4707"/>
                </a:lnTo>
                <a:lnTo>
                  <a:pt x="36676" y="4707"/>
                </a:lnTo>
                <a:lnTo>
                  <a:pt x="36676" y="8224"/>
                </a:lnTo>
                <a:close/>
              </a:path>
              <a:path fill="darkenLess" w="64649" h="21600">
                <a:moveTo>
                  <a:pt x="31402" y="14299"/>
                </a:moveTo>
                <a:lnTo>
                  <a:pt x="33247" y="14299"/>
                </a:lnTo>
                <a:lnTo>
                  <a:pt x="33247" y="17989"/>
                </a:lnTo>
                <a:lnTo>
                  <a:pt x="37634" y="17989"/>
                </a:lnTo>
                <a:lnTo>
                  <a:pt x="37634" y="10800"/>
                </a:lnTo>
                <a:lnTo>
                  <a:pt x="27015" y="10800"/>
                </a:lnTo>
                <a:lnTo>
                  <a:pt x="27015" y="17989"/>
                </a:lnTo>
                <a:lnTo>
                  <a:pt x="31402" y="17989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962160" y="846000"/>
            <a:ext cx="5181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3333ff"/>
                </a:solidFill>
                <a:latin typeface="Georgia"/>
              </a:rPr>
              <a:t>Linux Mandrake 6.1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42" name="linux_4" descr=""/>
          <p:cNvPicPr/>
          <p:nvPr/>
        </p:nvPicPr>
        <p:blipFill>
          <a:blip r:embed="rId1"/>
          <a:stretch/>
        </p:blipFill>
        <p:spPr>
          <a:xfrm>
            <a:off x="0" y="6019920"/>
            <a:ext cx="604800" cy="717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40B9E-98CA-456A-8404-B9F69026D191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/>
          <p:nvPr/>
        </p:nvSpPr>
        <p:spPr>
          <a:xfrm>
            <a:off x="0" y="1438200"/>
            <a:ext cx="91440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6600" spc="-1" strike="noStrike">
                <a:solidFill>
                  <a:srgbClr val="333399"/>
                </a:solidFill>
                <a:latin typeface="Georgia"/>
              </a:rPr>
              <a:t>ŻYCZĘ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6600" spc="-1" strike="noStrike">
                <a:solidFill>
                  <a:srgbClr val="333399"/>
                </a:solidFill>
                <a:latin typeface="Georgia"/>
              </a:rPr>
              <a:t>POWODZENI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>
            <a:hlinkClick r:id="" action="ppaction://hlinkshowjump?jump=previousslide"/>
          </p:cNvPr>
          <p:cNvSpPr/>
          <p:nvPr/>
        </p:nvSpPr>
        <p:spPr>
          <a:xfrm>
            <a:off x="6858000" y="380880"/>
            <a:ext cx="1079640" cy="360360"/>
          </a:xfrm>
          <a:custGeom>
            <a:avLst/>
            <a:gdLst>
              <a:gd name="textAreaLeft" fmla="*/ 23040 w 1079640"/>
              <a:gd name="textAreaRight" fmla="*/ 1056600 w 1079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671" h="21600">
                <a:moveTo>
                  <a:pt x="0" y="0"/>
                </a:moveTo>
                <a:lnTo>
                  <a:pt x="64671" y="0"/>
                </a:lnTo>
                <a:lnTo>
                  <a:pt x="64671" y="21600"/>
                </a:lnTo>
                <a:lnTo>
                  <a:pt x="0" y="21600"/>
                </a:lnTo>
                <a:close/>
              </a:path>
              <a:path fill="lightenLess" w="64671" h="21600">
                <a:moveTo>
                  <a:pt x="0" y="0"/>
                </a:moveTo>
                <a:lnTo>
                  <a:pt x="64671" y="0"/>
                </a:lnTo>
                <a:lnTo>
                  <a:pt x="63271" y="1400"/>
                </a:lnTo>
                <a:lnTo>
                  <a:pt x="1400" y="1400"/>
                </a:lnTo>
                <a:close/>
              </a:path>
              <a:path fill="darken" w="64671" h="21600">
                <a:moveTo>
                  <a:pt x="64671" y="0"/>
                </a:moveTo>
                <a:lnTo>
                  <a:pt x="64671" y="21600"/>
                </a:lnTo>
                <a:lnTo>
                  <a:pt x="63271" y="20200"/>
                </a:lnTo>
                <a:lnTo>
                  <a:pt x="63271" y="1400"/>
                </a:lnTo>
                <a:close/>
              </a:path>
              <a:path fill="darkenLess" w="64671" h="21600">
                <a:moveTo>
                  <a:pt x="646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71" y="20200"/>
                </a:lnTo>
                <a:close/>
              </a:path>
              <a:path fill="lighten" w="646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671" h="21600">
                <a:moveTo>
                  <a:pt x="25329" y="10800"/>
                </a:moveTo>
                <a:lnTo>
                  <a:pt x="39342" y="3794"/>
                </a:lnTo>
                <a:lnTo>
                  <a:pt x="39342" y="17806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>
            <a:hlinkClick r:id="" action="ppaction://hlinkshowjump?jump=firstslide"/>
          </p:cNvPr>
          <p:cNvSpPr/>
          <p:nvPr/>
        </p:nvSpPr>
        <p:spPr>
          <a:xfrm>
            <a:off x="7924680" y="380880"/>
            <a:ext cx="1079640" cy="360360"/>
          </a:xfrm>
          <a:custGeom>
            <a:avLst/>
            <a:gdLst>
              <a:gd name="textAreaLeft" fmla="*/ 23040 w 1079640"/>
              <a:gd name="textAreaRight" fmla="*/ 1056600 w 1079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671" h="21600">
                <a:moveTo>
                  <a:pt x="0" y="0"/>
                </a:moveTo>
                <a:lnTo>
                  <a:pt x="64671" y="0"/>
                </a:lnTo>
                <a:lnTo>
                  <a:pt x="64671" y="21600"/>
                </a:lnTo>
                <a:lnTo>
                  <a:pt x="0" y="21600"/>
                </a:lnTo>
                <a:close/>
              </a:path>
              <a:path fill="lightenLess" w="64671" h="21600">
                <a:moveTo>
                  <a:pt x="0" y="0"/>
                </a:moveTo>
                <a:lnTo>
                  <a:pt x="64671" y="0"/>
                </a:lnTo>
                <a:lnTo>
                  <a:pt x="63271" y="1400"/>
                </a:lnTo>
                <a:lnTo>
                  <a:pt x="1400" y="1400"/>
                </a:lnTo>
                <a:close/>
              </a:path>
              <a:path fill="darken" w="64671" h="21600">
                <a:moveTo>
                  <a:pt x="64671" y="0"/>
                </a:moveTo>
                <a:lnTo>
                  <a:pt x="64671" y="21600"/>
                </a:lnTo>
                <a:lnTo>
                  <a:pt x="63271" y="20200"/>
                </a:lnTo>
                <a:lnTo>
                  <a:pt x="63271" y="1400"/>
                </a:lnTo>
                <a:close/>
              </a:path>
              <a:path fill="darkenLess" w="64671" h="21600">
                <a:moveTo>
                  <a:pt x="646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71" y="20200"/>
                </a:lnTo>
                <a:close/>
              </a:path>
              <a:path fill="lighten" w="646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671" h="21600">
                <a:moveTo>
                  <a:pt x="32335" y="3837"/>
                </a:moveTo>
                <a:lnTo>
                  <a:pt x="34912" y="6448"/>
                </a:lnTo>
                <a:lnTo>
                  <a:pt x="34912" y="4707"/>
                </a:lnTo>
                <a:lnTo>
                  <a:pt x="36687" y="4707"/>
                </a:lnTo>
                <a:lnTo>
                  <a:pt x="36687" y="8224"/>
                </a:lnTo>
                <a:lnTo>
                  <a:pt x="39298" y="10800"/>
                </a:lnTo>
                <a:lnTo>
                  <a:pt x="37645" y="10800"/>
                </a:lnTo>
                <a:lnTo>
                  <a:pt x="37645" y="17989"/>
                </a:lnTo>
                <a:lnTo>
                  <a:pt x="27026" y="17989"/>
                </a:lnTo>
                <a:lnTo>
                  <a:pt x="27026" y="10800"/>
                </a:lnTo>
                <a:lnTo>
                  <a:pt x="25372" y="10800"/>
                </a:lnTo>
                <a:close/>
              </a:path>
              <a:path fill="darkenLess" w="64671" h="21600">
                <a:moveTo>
                  <a:pt x="34912" y="6448"/>
                </a:moveTo>
                <a:lnTo>
                  <a:pt x="34912" y="4707"/>
                </a:lnTo>
                <a:lnTo>
                  <a:pt x="36687" y="4707"/>
                </a:lnTo>
                <a:lnTo>
                  <a:pt x="36687" y="8224"/>
                </a:lnTo>
                <a:close/>
              </a:path>
              <a:path fill="darkenLess" w="64671" h="21600">
                <a:moveTo>
                  <a:pt x="31413" y="14299"/>
                </a:moveTo>
                <a:lnTo>
                  <a:pt x="33258" y="14299"/>
                </a:lnTo>
                <a:lnTo>
                  <a:pt x="33258" y="17989"/>
                </a:lnTo>
                <a:lnTo>
                  <a:pt x="37645" y="17989"/>
                </a:lnTo>
                <a:lnTo>
                  <a:pt x="37645" y="10800"/>
                </a:lnTo>
                <a:lnTo>
                  <a:pt x="27026" y="10800"/>
                </a:lnTo>
                <a:lnTo>
                  <a:pt x="27026" y="17989"/>
                </a:lnTo>
                <a:lnTo>
                  <a:pt x="31413" y="17989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4102560" y="4599000"/>
            <a:ext cx="46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Georgia"/>
              </a:rPr>
              <a:t>©</a:t>
            </a: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 Stanisław Rożniatowski, WODIiP Opole, luty 2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164148_Linux_User" descr=""/>
          <p:cNvPicPr/>
          <p:nvPr/>
        </p:nvPicPr>
        <p:blipFill>
          <a:blip r:embed="rId1"/>
          <a:stretch/>
        </p:blipFill>
        <p:spPr>
          <a:xfrm>
            <a:off x="5562720" y="5029200"/>
            <a:ext cx="2879640" cy="719280"/>
          </a:xfrm>
          <a:prstGeom prst="rect">
            <a:avLst/>
          </a:prstGeom>
          <a:ln w="0">
            <a:noFill/>
          </a:ln>
        </p:spPr>
      </p:pic>
      <p:pic>
        <p:nvPicPr>
          <p:cNvPr id="348" name="linux_4" descr=""/>
          <p:cNvPicPr/>
          <p:nvPr/>
        </p:nvPicPr>
        <p:blipFill>
          <a:blip r:embed="rId2"/>
          <a:stretch/>
        </p:blipFill>
        <p:spPr>
          <a:xfrm>
            <a:off x="685800" y="762120"/>
            <a:ext cx="2286000" cy="2590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09D2C-1E42-4C75-8FCF-3A75272987FC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>
            <a:hlinkClick r:id="" action="ppaction://hlinkshowjump?jump=nextslide"/>
          </p:cNvPr>
          <p:cNvSpPr/>
          <p:nvPr/>
        </p:nvSpPr>
        <p:spPr>
          <a:xfrm>
            <a:off x="7916760" y="358920"/>
            <a:ext cx="1079640" cy="360360"/>
          </a:xfrm>
          <a:custGeom>
            <a:avLst/>
            <a:gdLst>
              <a:gd name="textAreaLeft" fmla="*/ 23040 w 1079640"/>
              <a:gd name="textAreaRight" fmla="*/ 1056600 w 1079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671" h="21600">
                <a:moveTo>
                  <a:pt x="0" y="0"/>
                </a:moveTo>
                <a:lnTo>
                  <a:pt x="64671" y="0"/>
                </a:lnTo>
                <a:lnTo>
                  <a:pt x="64671" y="21600"/>
                </a:lnTo>
                <a:lnTo>
                  <a:pt x="0" y="21600"/>
                </a:lnTo>
                <a:close/>
              </a:path>
              <a:path fill="lightenLess" w="64671" h="21600">
                <a:moveTo>
                  <a:pt x="0" y="0"/>
                </a:moveTo>
                <a:lnTo>
                  <a:pt x="64671" y="0"/>
                </a:lnTo>
                <a:lnTo>
                  <a:pt x="63271" y="1400"/>
                </a:lnTo>
                <a:lnTo>
                  <a:pt x="1400" y="1400"/>
                </a:lnTo>
                <a:close/>
              </a:path>
              <a:path fill="darken" w="64671" h="21600">
                <a:moveTo>
                  <a:pt x="64671" y="0"/>
                </a:moveTo>
                <a:lnTo>
                  <a:pt x="64671" y="21600"/>
                </a:lnTo>
                <a:lnTo>
                  <a:pt x="63271" y="20200"/>
                </a:lnTo>
                <a:lnTo>
                  <a:pt x="63271" y="1400"/>
                </a:lnTo>
                <a:close/>
              </a:path>
              <a:path fill="darkenLess" w="64671" h="21600">
                <a:moveTo>
                  <a:pt x="646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71" y="20200"/>
                </a:lnTo>
                <a:close/>
              </a:path>
              <a:path fill="lighten" w="646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671" h="21600">
                <a:moveTo>
                  <a:pt x="25329" y="3794"/>
                </a:moveTo>
                <a:lnTo>
                  <a:pt x="39342" y="10800"/>
                </a:lnTo>
                <a:lnTo>
                  <a:pt x="25329" y="17806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>
            <a:hlinkClick r:id="" action="ppaction://hlinkshowjump?jump=previousslide"/>
          </p:cNvPr>
          <p:cNvSpPr/>
          <p:nvPr/>
        </p:nvSpPr>
        <p:spPr>
          <a:xfrm>
            <a:off x="5757840" y="358920"/>
            <a:ext cx="1079640" cy="360360"/>
          </a:xfrm>
          <a:custGeom>
            <a:avLst/>
            <a:gdLst>
              <a:gd name="textAreaLeft" fmla="*/ 23040 w 1079640"/>
              <a:gd name="textAreaRight" fmla="*/ 1056600 w 1079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671" h="21600">
                <a:moveTo>
                  <a:pt x="0" y="0"/>
                </a:moveTo>
                <a:lnTo>
                  <a:pt x="64671" y="0"/>
                </a:lnTo>
                <a:lnTo>
                  <a:pt x="64671" y="21600"/>
                </a:lnTo>
                <a:lnTo>
                  <a:pt x="0" y="21600"/>
                </a:lnTo>
                <a:close/>
              </a:path>
              <a:path fill="lightenLess" w="64671" h="21600">
                <a:moveTo>
                  <a:pt x="0" y="0"/>
                </a:moveTo>
                <a:lnTo>
                  <a:pt x="64671" y="0"/>
                </a:lnTo>
                <a:lnTo>
                  <a:pt x="63271" y="1400"/>
                </a:lnTo>
                <a:lnTo>
                  <a:pt x="1400" y="1400"/>
                </a:lnTo>
                <a:close/>
              </a:path>
              <a:path fill="darken" w="64671" h="21600">
                <a:moveTo>
                  <a:pt x="64671" y="0"/>
                </a:moveTo>
                <a:lnTo>
                  <a:pt x="64671" y="21600"/>
                </a:lnTo>
                <a:lnTo>
                  <a:pt x="63271" y="20200"/>
                </a:lnTo>
                <a:lnTo>
                  <a:pt x="63271" y="1400"/>
                </a:lnTo>
                <a:close/>
              </a:path>
              <a:path fill="darkenLess" w="64671" h="21600">
                <a:moveTo>
                  <a:pt x="646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71" y="20200"/>
                </a:lnTo>
                <a:close/>
              </a:path>
              <a:path fill="lighten" w="646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671" h="21600">
                <a:moveTo>
                  <a:pt x="25329" y="10800"/>
                </a:moveTo>
                <a:lnTo>
                  <a:pt x="39342" y="3794"/>
                </a:lnTo>
                <a:lnTo>
                  <a:pt x="39342" y="17806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>
            <a:hlinkClick r:id="" action="ppaction://hlinkshowjump?jump=firstslide"/>
          </p:cNvPr>
          <p:cNvSpPr/>
          <p:nvPr/>
        </p:nvSpPr>
        <p:spPr>
          <a:xfrm>
            <a:off x="6837480" y="358920"/>
            <a:ext cx="1079280" cy="360360"/>
          </a:xfrm>
          <a:custGeom>
            <a:avLst/>
            <a:gdLst>
              <a:gd name="textAreaLeft" fmla="*/ 23040 w 1079280"/>
              <a:gd name="textAreaRight" fmla="*/ 1056240 w 107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649" h="21600">
                <a:moveTo>
                  <a:pt x="0" y="0"/>
                </a:moveTo>
                <a:lnTo>
                  <a:pt x="64649" y="0"/>
                </a:lnTo>
                <a:lnTo>
                  <a:pt x="64649" y="21600"/>
                </a:lnTo>
                <a:lnTo>
                  <a:pt x="0" y="21600"/>
                </a:lnTo>
                <a:close/>
              </a:path>
              <a:path fill="lightenLess" w="64649" h="21600">
                <a:moveTo>
                  <a:pt x="0" y="0"/>
                </a:moveTo>
                <a:lnTo>
                  <a:pt x="64649" y="0"/>
                </a:lnTo>
                <a:lnTo>
                  <a:pt x="63249" y="1400"/>
                </a:lnTo>
                <a:lnTo>
                  <a:pt x="1400" y="1400"/>
                </a:lnTo>
                <a:close/>
              </a:path>
              <a:path fill="darken" w="64649" h="21600">
                <a:moveTo>
                  <a:pt x="64649" y="0"/>
                </a:moveTo>
                <a:lnTo>
                  <a:pt x="64649" y="21600"/>
                </a:lnTo>
                <a:lnTo>
                  <a:pt x="63249" y="20200"/>
                </a:lnTo>
                <a:lnTo>
                  <a:pt x="63249" y="1400"/>
                </a:lnTo>
                <a:close/>
              </a:path>
              <a:path fill="darkenLess" w="64649" h="21600">
                <a:moveTo>
                  <a:pt x="646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49" y="20200"/>
                </a:lnTo>
                <a:close/>
              </a:path>
              <a:path fill="lighten" w="646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649" h="21600">
                <a:moveTo>
                  <a:pt x="32325" y="3837"/>
                </a:moveTo>
                <a:lnTo>
                  <a:pt x="34901" y="6448"/>
                </a:lnTo>
                <a:lnTo>
                  <a:pt x="34901" y="4707"/>
                </a:lnTo>
                <a:lnTo>
                  <a:pt x="36676" y="4707"/>
                </a:lnTo>
                <a:lnTo>
                  <a:pt x="36676" y="8224"/>
                </a:lnTo>
                <a:lnTo>
                  <a:pt x="39288" y="10800"/>
                </a:lnTo>
                <a:lnTo>
                  <a:pt x="37634" y="10800"/>
                </a:lnTo>
                <a:lnTo>
                  <a:pt x="37634" y="17989"/>
                </a:lnTo>
                <a:lnTo>
                  <a:pt x="27015" y="17989"/>
                </a:lnTo>
                <a:lnTo>
                  <a:pt x="27015" y="10800"/>
                </a:lnTo>
                <a:lnTo>
                  <a:pt x="25362" y="10800"/>
                </a:lnTo>
                <a:close/>
              </a:path>
              <a:path fill="darkenLess" w="64649" h="21600">
                <a:moveTo>
                  <a:pt x="34901" y="6448"/>
                </a:moveTo>
                <a:lnTo>
                  <a:pt x="34901" y="4707"/>
                </a:lnTo>
                <a:lnTo>
                  <a:pt x="36676" y="4707"/>
                </a:lnTo>
                <a:lnTo>
                  <a:pt x="36676" y="8224"/>
                </a:lnTo>
                <a:close/>
              </a:path>
              <a:path fill="darkenLess" w="64649" h="21600">
                <a:moveTo>
                  <a:pt x="31402" y="14299"/>
                </a:moveTo>
                <a:lnTo>
                  <a:pt x="33247" y="14299"/>
                </a:lnTo>
                <a:lnTo>
                  <a:pt x="33247" y="17989"/>
                </a:lnTo>
                <a:lnTo>
                  <a:pt x="37634" y="17989"/>
                </a:lnTo>
                <a:lnTo>
                  <a:pt x="37634" y="10800"/>
                </a:lnTo>
                <a:lnTo>
                  <a:pt x="27015" y="10800"/>
                </a:lnTo>
                <a:lnTo>
                  <a:pt x="27015" y="17989"/>
                </a:lnTo>
                <a:lnTo>
                  <a:pt x="31402" y="17989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962160" y="846000"/>
            <a:ext cx="5181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3333ff"/>
                </a:solidFill>
                <a:latin typeface="Georgia"/>
              </a:rPr>
              <a:t>Linux Mandrake 6.1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1438200"/>
            <a:ext cx="9144000" cy="211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Georgia"/>
              </a:rPr>
              <a:t>Po uruchomieniu programu instalacyjnego z dysku CD ROM lub dyskietki na ekranie pojawia się strona startowa systemu Linux, dająca nam do wyboru dwa tryby instalacji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Georgia"/>
              </a:rPr>
              <a:t>-  </a:t>
            </a:r>
            <a:r>
              <a:rPr b="1" lang="pl-PL" sz="1200" spc="-1" strike="noStrike">
                <a:solidFill>
                  <a:srgbClr val="000000"/>
                </a:solidFill>
                <a:latin typeface="Georgia"/>
              </a:rPr>
              <a:t>normal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Georgia"/>
              </a:rPr>
              <a:t>-  </a:t>
            </a:r>
            <a:r>
              <a:rPr b="1" lang="pl-PL" sz="1200" spc="-1" strike="noStrike">
                <a:solidFill>
                  <a:srgbClr val="000000"/>
                </a:solidFill>
                <a:latin typeface="Georgia"/>
              </a:rPr>
              <a:t>exper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Georgia"/>
              </a:rPr>
              <a:t>Dla zdecydowanej większości użytkowników odpowiednim trybem instalacji jest tryb </a:t>
            </a:r>
            <a:r>
              <a:rPr b="1" lang="pl-PL" sz="1200" spc="-1" strike="noStrike">
                <a:solidFill>
                  <a:srgbClr val="000000"/>
                </a:solidFill>
                <a:latin typeface="Georgia"/>
              </a:rPr>
              <a:t>normalny</a:t>
            </a:r>
            <a:r>
              <a:rPr b="0" lang="pl-PL" sz="1200" spc="-1" strike="noStrike">
                <a:solidFill>
                  <a:srgbClr val="000000"/>
                </a:solidFill>
                <a:latin typeface="Georgia"/>
              </a:rPr>
              <a:t>. By rozpocząć w nim dalszą część instalacji naciskamy </a:t>
            </a:r>
            <a:r>
              <a:rPr b="1" lang="pl-PL" sz="1200" spc="-1" strike="noStrike">
                <a:solidFill>
                  <a:srgbClr val="000000"/>
                </a:solidFill>
                <a:latin typeface="Georgia"/>
              </a:rPr>
              <a:t>&lt;ENTER&gt;. </a:t>
            </a:r>
            <a:r>
              <a:rPr b="0" lang="pl-PL" sz="1200" spc="-1" strike="noStrike">
                <a:solidFill>
                  <a:srgbClr val="000000"/>
                </a:solidFill>
                <a:latin typeface="Georgia"/>
              </a:rPr>
              <a:t>Uruchamiane jest w tej chwili jądro Linux-a i rozpakowywane w pamięci RAM komputera. Przy „okazji” rozpoznawane są urządzenia w które wyposażony jest nasz komputer /procesor, dyski twarde, stacje dysków, ilość pamięci RAM, karta sieciowa, interfejsy szeregowe i równoległe, ... i.t.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2517840"/>
            <a:ext cx="9372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41148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0000"/>
                </a:solidFill>
                <a:latin typeface="Tahoma"/>
              </a:rPr>
              <a:t>Welcome to Linux-Mandrake 6.1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linux_4" descr=""/>
          <p:cNvPicPr/>
          <p:nvPr/>
        </p:nvPicPr>
        <p:blipFill>
          <a:blip r:embed="rId1"/>
          <a:stretch/>
        </p:blipFill>
        <p:spPr>
          <a:xfrm>
            <a:off x="0" y="6019920"/>
            <a:ext cx="604800" cy="717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7FC9D-8901-439F-AE20-E8FB276BD0E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962160" y="846000"/>
            <a:ext cx="5181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3333ff"/>
                </a:solidFill>
                <a:latin typeface="Georgia"/>
              </a:rPr>
              <a:t>Linux Mandrake 6.1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8" name="1jezyk" descr=""/>
          <p:cNvPicPr/>
          <p:nvPr/>
        </p:nvPicPr>
        <p:blipFill>
          <a:blip r:embed="rId1"/>
          <a:stretch/>
        </p:blipFill>
        <p:spPr>
          <a:xfrm>
            <a:off x="2158920" y="2158920"/>
            <a:ext cx="5491080" cy="359748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0" y="1438200"/>
            <a:ext cx="9144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19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eorgia"/>
              </a:rPr>
              <a:t>Po uruchomieniu i rozpakowaniu jądra systemu  następuje dalszy ciąg instalacji w trybie „pseudograficznym”. Wybieramy język w którym odbywać się będzie instalacja  : </a:t>
            </a:r>
            <a:r>
              <a:rPr b="1" lang="pl-PL" sz="1200" spc="-1" strike="noStrike">
                <a:solidFill>
                  <a:srgbClr val="000000"/>
                </a:solidFill>
                <a:latin typeface="Georgia"/>
              </a:rPr>
              <a:t>Polish</a:t>
            </a:r>
            <a:r>
              <a:rPr b="0" lang="pl-PL" sz="1200" spc="-1" strike="noStrike">
                <a:solidFill>
                  <a:srgbClr val="000000"/>
                </a:solidFill>
                <a:latin typeface="Georgia"/>
              </a:rPr>
              <a:t>, od tej chwili będzie on „dominującym” podczas instalacj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>
            <a:hlinkClick r:id="" action="ppaction://hlinkshowjump?jump=nextslide"/>
          </p:cNvPr>
          <p:cNvSpPr/>
          <p:nvPr/>
        </p:nvSpPr>
        <p:spPr>
          <a:xfrm>
            <a:off x="7916760" y="358920"/>
            <a:ext cx="1079640" cy="360360"/>
          </a:xfrm>
          <a:custGeom>
            <a:avLst/>
            <a:gdLst>
              <a:gd name="textAreaLeft" fmla="*/ 23040 w 1079640"/>
              <a:gd name="textAreaRight" fmla="*/ 1056600 w 1079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671" h="21600">
                <a:moveTo>
                  <a:pt x="0" y="0"/>
                </a:moveTo>
                <a:lnTo>
                  <a:pt x="64671" y="0"/>
                </a:lnTo>
                <a:lnTo>
                  <a:pt x="64671" y="21600"/>
                </a:lnTo>
                <a:lnTo>
                  <a:pt x="0" y="21600"/>
                </a:lnTo>
                <a:close/>
              </a:path>
              <a:path fill="lightenLess" w="64671" h="21600">
                <a:moveTo>
                  <a:pt x="0" y="0"/>
                </a:moveTo>
                <a:lnTo>
                  <a:pt x="64671" y="0"/>
                </a:lnTo>
                <a:lnTo>
                  <a:pt x="63271" y="1400"/>
                </a:lnTo>
                <a:lnTo>
                  <a:pt x="1400" y="1400"/>
                </a:lnTo>
                <a:close/>
              </a:path>
              <a:path fill="darken" w="64671" h="21600">
                <a:moveTo>
                  <a:pt x="64671" y="0"/>
                </a:moveTo>
                <a:lnTo>
                  <a:pt x="64671" y="21600"/>
                </a:lnTo>
                <a:lnTo>
                  <a:pt x="63271" y="20200"/>
                </a:lnTo>
                <a:lnTo>
                  <a:pt x="63271" y="1400"/>
                </a:lnTo>
                <a:close/>
              </a:path>
              <a:path fill="darkenLess" w="64671" h="21600">
                <a:moveTo>
                  <a:pt x="646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71" y="20200"/>
                </a:lnTo>
                <a:close/>
              </a:path>
              <a:path fill="lighten" w="646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671" h="21600">
                <a:moveTo>
                  <a:pt x="25329" y="3794"/>
                </a:moveTo>
                <a:lnTo>
                  <a:pt x="39342" y="10800"/>
                </a:lnTo>
                <a:lnTo>
                  <a:pt x="25329" y="17806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>
            <a:hlinkClick r:id="" action="ppaction://hlinkshowjump?jump=previousslide"/>
          </p:cNvPr>
          <p:cNvSpPr/>
          <p:nvPr/>
        </p:nvSpPr>
        <p:spPr>
          <a:xfrm>
            <a:off x="5757840" y="358920"/>
            <a:ext cx="1079640" cy="360360"/>
          </a:xfrm>
          <a:custGeom>
            <a:avLst/>
            <a:gdLst>
              <a:gd name="textAreaLeft" fmla="*/ 23040 w 1079640"/>
              <a:gd name="textAreaRight" fmla="*/ 1056600 w 1079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671" h="21600">
                <a:moveTo>
                  <a:pt x="0" y="0"/>
                </a:moveTo>
                <a:lnTo>
                  <a:pt x="64671" y="0"/>
                </a:lnTo>
                <a:lnTo>
                  <a:pt x="64671" y="21600"/>
                </a:lnTo>
                <a:lnTo>
                  <a:pt x="0" y="21600"/>
                </a:lnTo>
                <a:close/>
              </a:path>
              <a:path fill="lightenLess" w="64671" h="21600">
                <a:moveTo>
                  <a:pt x="0" y="0"/>
                </a:moveTo>
                <a:lnTo>
                  <a:pt x="64671" y="0"/>
                </a:lnTo>
                <a:lnTo>
                  <a:pt x="63271" y="1400"/>
                </a:lnTo>
                <a:lnTo>
                  <a:pt x="1400" y="1400"/>
                </a:lnTo>
                <a:close/>
              </a:path>
              <a:path fill="darken" w="64671" h="21600">
                <a:moveTo>
                  <a:pt x="64671" y="0"/>
                </a:moveTo>
                <a:lnTo>
                  <a:pt x="64671" y="21600"/>
                </a:lnTo>
                <a:lnTo>
                  <a:pt x="63271" y="20200"/>
                </a:lnTo>
                <a:lnTo>
                  <a:pt x="63271" y="1400"/>
                </a:lnTo>
                <a:close/>
              </a:path>
              <a:path fill="darkenLess" w="64671" h="21600">
                <a:moveTo>
                  <a:pt x="646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71" y="20200"/>
                </a:lnTo>
                <a:close/>
              </a:path>
              <a:path fill="lighten" w="646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671" h="21600">
                <a:moveTo>
                  <a:pt x="25329" y="10800"/>
                </a:moveTo>
                <a:lnTo>
                  <a:pt x="39342" y="3794"/>
                </a:lnTo>
                <a:lnTo>
                  <a:pt x="39342" y="17806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>
            <a:hlinkClick r:id="" action="ppaction://hlinkshowjump?jump=firstslide"/>
          </p:cNvPr>
          <p:cNvSpPr/>
          <p:nvPr/>
        </p:nvSpPr>
        <p:spPr>
          <a:xfrm>
            <a:off x="6837480" y="358920"/>
            <a:ext cx="1079280" cy="360360"/>
          </a:xfrm>
          <a:custGeom>
            <a:avLst/>
            <a:gdLst>
              <a:gd name="textAreaLeft" fmla="*/ 23040 w 1079280"/>
              <a:gd name="textAreaRight" fmla="*/ 1056240 w 107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649" h="21600">
                <a:moveTo>
                  <a:pt x="0" y="0"/>
                </a:moveTo>
                <a:lnTo>
                  <a:pt x="64649" y="0"/>
                </a:lnTo>
                <a:lnTo>
                  <a:pt x="64649" y="21600"/>
                </a:lnTo>
                <a:lnTo>
                  <a:pt x="0" y="21600"/>
                </a:lnTo>
                <a:close/>
              </a:path>
              <a:path fill="lightenLess" w="64649" h="21600">
                <a:moveTo>
                  <a:pt x="0" y="0"/>
                </a:moveTo>
                <a:lnTo>
                  <a:pt x="64649" y="0"/>
                </a:lnTo>
                <a:lnTo>
                  <a:pt x="63249" y="1400"/>
                </a:lnTo>
                <a:lnTo>
                  <a:pt x="1400" y="1400"/>
                </a:lnTo>
                <a:close/>
              </a:path>
              <a:path fill="darken" w="64649" h="21600">
                <a:moveTo>
                  <a:pt x="64649" y="0"/>
                </a:moveTo>
                <a:lnTo>
                  <a:pt x="64649" y="21600"/>
                </a:lnTo>
                <a:lnTo>
                  <a:pt x="63249" y="20200"/>
                </a:lnTo>
                <a:lnTo>
                  <a:pt x="63249" y="1400"/>
                </a:lnTo>
                <a:close/>
              </a:path>
              <a:path fill="darkenLess" w="64649" h="21600">
                <a:moveTo>
                  <a:pt x="646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49" y="20200"/>
                </a:lnTo>
                <a:close/>
              </a:path>
              <a:path fill="lighten" w="646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649" h="21600">
                <a:moveTo>
                  <a:pt x="32325" y="3837"/>
                </a:moveTo>
                <a:lnTo>
                  <a:pt x="34901" y="6448"/>
                </a:lnTo>
                <a:lnTo>
                  <a:pt x="34901" y="4707"/>
                </a:lnTo>
                <a:lnTo>
                  <a:pt x="36676" y="4707"/>
                </a:lnTo>
                <a:lnTo>
                  <a:pt x="36676" y="8224"/>
                </a:lnTo>
                <a:lnTo>
                  <a:pt x="39288" y="10800"/>
                </a:lnTo>
                <a:lnTo>
                  <a:pt x="37634" y="10800"/>
                </a:lnTo>
                <a:lnTo>
                  <a:pt x="37634" y="17989"/>
                </a:lnTo>
                <a:lnTo>
                  <a:pt x="27015" y="17989"/>
                </a:lnTo>
                <a:lnTo>
                  <a:pt x="27015" y="10800"/>
                </a:lnTo>
                <a:lnTo>
                  <a:pt x="25362" y="10800"/>
                </a:lnTo>
                <a:close/>
              </a:path>
              <a:path fill="darkenLess" w="64649" h="21600">
                <a:moveTo>
                  <a:pt x="34901" y="6448"/>
                </a:moveTo>
                <a:lnTo>
                  <a:pt x="34901" y="4707"/>
                </a:lnTo>
                <a:lnTo>
                  <a:pt x="36676" y="4707"/>
                </a:lnTo>
                <a:lnTo>
                  <a:pt x="36676" y="8224"/>
                </a:lnTo>
                <a:close/>
              </a:path>
              <a:path fill="darkenLess" w="64649" h="21600">
                <a:moveTo>
                  <a:pt x="31402" y="14299"/>
                </a:moveTo>
                <a:lnTo>
                  <a:pt x="33247" y="14299"/>
                </a:lnTo>
                <a:lnTo>
                  <a:pt x="33247" y="17989"/>
                </a:lnTo>
                <a:lnTo>
                  <a:pt x="37634" y="17989"/>
                </a:lnTo>
                <a:lnTo>
                  <a:pt x="37634" y="10800"/>
                </a:lnTo>
                <a:lnTo>
                  <a:pt x="27015" y="10800"/>
                </a:lnTo>
                <a:lnTo>
                  <a:pt x="27015" y="17989"/>
                </a:lnTo>
                <a:lnTo>
                  <a:pt x="31402" y="17989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linux_4" descr=""/>
          <p:cNvPicPr/>
          <p:nvPr/>
        </p:nvPicPr>
        <p:blipFill>
          <a:blip r:embed="rId2"/>
          <a:stretch/>
        </p:blipFill>
        <p:spPr>
          <a:xfrm>
            <a:off x="1905120" y="5334120"/>
            <a:ext cx="604800" cy="717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1CB9A-00CB-4D80-AD42-E3DCE199C04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1438200"/>
            <a:ext cx="9144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Georgia"/>
              </a:rPr>
              <a:t>Określamy  typ używanej klawiatury – zaznaczamy : </a:t>
            </a:r>
            <a:r>
              <a:rPr b="1" lang="pl-PL" sz="1200" spc="-1" strike="noStrike">
                <a:solidFill>
                  <a:srgbClr val="000000"/>
                </a:solidFill>
                <a:latin typeface="Georgia"/>
              </a:rPr>
              <a:t>pl</a:t>
            </a:r>
            <a:r>
              <a:rPr b="0" lang="pl-PL" sz="1200" spc="-1" strike="noStrike">
                <a:solidFill>
                  <a:srgbClr val="000000"/>
                </a:solidFill>
                <a:latin typeface="Georgia"/>
              </a:rPr>
              <a:t> umożliwi to zainstalowanie sterownika polskiej klawiatury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Georgia"/>
              </a:rPr>
              <a:t>w standardzie programisty /prawy Alt + litera/ dla tekstowego trybu pracy system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2klawiatura" descr=""/>
          <p:cNvPicPr/>
          <p:nvPr/>
        </p:nvPicPr>
        <p:blipFill>
          <a:blip r:embed="rId1"/>
          <a:stretch/>
        </p:blipFill>
        <p:spPr>
          <a:xfrm>
            <a:off x="2158920" y="2158920"/>
            <a:ext cx="5499360" cy="3600360"/>
          </a:xfrm>
          <a:prstGeom prst="rect">
            <a:avLst/>
          </a:prstGeom>
          <a:ln w="0">
            <a:noFill/>
          </a:ln>
        </p:spPr>
      </p:pic>
      <p:sp>
        <p:nvSpPr>
          <p:cNvPr id="126" name="">
            <a:hlinkClick r:id="" action="ppaction://hlinkshowjump?jump=nextslide"/>
          </p:cNvPr>
          <p:cNvSpPr/>
          <p:nvPr/>
        </p:nvSpPr>
        <p:spPr>
          <a:xfrm>
            <a:off x="7916760" y="358920"/>
            <a:ext cx="1079640" cy="360360"/>
          </a:xfrm>
          <a:custGeom>
            <a:avLst/>
            <a:gdLst>
              <a:gd name="textAreaLeft" fmla="*/ 23040 w 1079640"/>
              <a:gd name="textAreaRight" fmla="*/ 1056600 w 1079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671" h="21600">
                <a:moveTo>
                  <a:pt x="0" y="0"/>
                </a:moveTo>
                <a:lnTo>
                  <a:pt x="64671" y="0"/>
                </a:lnTo>
                <a:lnTo>
                  <a:pt x="64671" y="21600"/>
                </a:lnTo>
                <a:lnTo>
                  <a:pt x="0" y="21600"/>
                </a:lnTo>
                <a:close/>
              </a:path>
              <a:path fill="lightenLess" w="64671" h="21600">
                <a:moveTo>
                  <a:pt x="0" y="0"/>
                </a:moveTo>
                <a:lnTo>
                  <a:pt x="64671" y="0"/>
                </a:lnTo>
                <a:lnTo>
                  <a:pt x="63271" y="1400"/>
                </a:lnTo>
                <a:lnTo>
                  <a:pt x="1400" y="1400"/>
                </a:lnTo>
                <a:close/>
              </a:path>
              <a:path fill="darken" w="64671" h="21600">
                <a:moveTo>
                  <a:pt x="64671" y="0"/>
                </a:moveTo>
                <a:lnTo>
                  <a:pt x="64671" y="21600"/>
                </a:lnTo>
                <a:lnTo>
                  <a:pt x="63271" y="20200"/>
                </a:lnTo>
                <a:lnTo>
                  <a:pt x="63271" y="1400"/>
                </a:lnTo>
                <a:close/>
              </a:path>
              <a:path fill="darkenLess" w="64671" h="21600">
                <a:moveTo>
                  <a:pt x="646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71" y="20200"/>
                </a:lnTo>
                <a:close/>
              </a:path>
              <a:path fill="lighten" w="646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671" h="21600">
                <a:moveTo>
                  <a:pt x="25329" y="3794"/>
                </a:moveTo>
                <a:lnTo>
                  <a:pt x="39342" y="10800"/>
                </a:lnTo>
                <a:lnTo>
                  <a:pt x="25329" y="17806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>
            <a:hlinkClick r:id="" action="ppaction://hlinkshowjump?jump=previousslide"/>
          </p:cNvPr>
          <p:cNvSpPr/>
          <p:nvPr/>
        </p:nvSpPr>
        <p:spPr>
          <a:xfrm>
            <a:off x="5757840" y="358920"/>
            <a:ext cx="1079640" cy="360360"/>
          </a:xfrm>
          <a:custGeom>
            <a:avLst/>
            <a:gdLst>
              <a:gd name="textAreaLeft" fmla="*/ 23040 w 1079640"/>
              <a:gd name="textAreaRight" fmla="*/ 1056600 w 1079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671" h="21600">
                <a:moveTo>
                  <a:pt x="0" y="0"/>
                </a:moveTo>
                <a:lnTo>
                  <a:pt x="64671" y="0"/>
                </a:lnTo>
                <a:lnTo>
                  <a:pt x="64671" y="21600"/>
                </a:lnTo>
                <a:lnTo>
                  <a:pt x="0" y="21600"/>
                </a:lnTo>
                <a:close/>
              </a:path>
              <a:path fill="lightenLess" w="64671" h="21600">
                <a:moveTo>
                  <a:pt x="0" y="0"/>
                </a:moveTo>
                <a:lnTo>
                  <a:pt x="64671" y="0"/>
                </a:lnTo>
                <a:lnTo>
                  <a:pt x="63271" y="1400"/>
                </a:lnTo>
                <a:lnTo>
                  <a:pt x="1400" y="1400"/>
                </a:lnTo>
                <a:close/>
              </a:path>
              <a:path fill="darken" w="64671" h="21600">
                <a:moveTo>
                  <a:pt x="64671" y="0"/>
                </a:moveTo>
                <a:lnTo>
                  <a:pt x="64671" y="21600"/>
                </a:lnTo>
                <a:lnTo>
                  <a:pt x="63271" y="20200"/>
                </a:lnTo>
                <a:lnTo>
                  <a:pt x="63271" y="1400"/>
                </a:lnTo>
                <a:close/>
              </a:path>
              <a:path fill="darkenLess" w="64671" h="21600">
                <a:moveTo>
                  <a:pt x="646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71" y="20200"/>
                </a:lnTo>
                <a:close/>
              </a:path>
              <a:path fill="lighten" w="646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671" h="21600">
                <a:moveTo>
                  <a:pt x="25329" y="10800"/>
                </a:moveTo>
                <a:lnTo>
                  <a:pt x="39342" y="3794"/>
                </a:lnTo>
                <a:lnTo>
                  <a:pt x="39342" y="17806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>
            <a:hlinkClick r:id="" action="ppaction://hlinkshowjump?jump=firstslide"/>
          </p:cNvPr>
          <p:cNvSpPr/>
          <p:nvPr/>
        </p:nvSpPr>
        <p:spPr>
          <a:xfrm>
            <a:off x="6837480" y="358920"/>
            <a:ext cx="1079280" cy="360360"/>
          </a:xfrm>
          <a:custGeom>
            <a:avLst/>
            <a:gdLst>
              <a:gd name="textAreaLeft" fmla="*/ 23040 w 1079280"/>
              <a:gd name="textAreaRight" fmla="*/ 1056240 w 107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649" h="21600">
                <a:moveTo>
                  <a:pt x="0" y="0"/>
                </a:moveTo>
                <a:lnTo>
                  <a:pt x="64649" y="0"/>
                </a:lnTo>
                <a:lnTo>
                  <a:pt x="64649" y="21600"/>
                </a:lnTo>
                <a:lnTo>
                  <a:pt x="0" y="21600"/>
                </a:lnTo>
                <a:close/>
              </a:path>
              <a:path fill="lightenLess" w="64649" h="21600">
                <a:moveTo>
                  <a:pt x="0" y="0"/>
                </a:moveTo>
                <a:lnTo>
                  <a:pt x="64649" y="0"/>
                </a:lnTo>
                <a:lnTo>
                  <a:pt x="63249" y="1400"/>
                </a:lnTo>
                <a:lnTo>
                  <a:pt x="1400" y="1400"/>
                </a:lnTo>
                <a:close/>
              </a:path>
              <a:path fill="darken" w="64649" h="21600">
                <a:moveTo>
                  <a:pt x="64649" y="0"/>
                </a:moveTo>
                <a:lnTo>
                  <a:pt x="64649" y="21600"/>
                </a:lnTo>
                <a:lnTo>
                  <a:pt x="63249" y="20200"/>
                </a:lnTo>
                <a:lnTo>
                  <a:pt x="63249" y="1400"/>
                </a:lnTo>
                <a:close/>
              </a:path>
              <a:path fill="darkenLess" w="64649" h="21600">
                <a:moveTo>
                  <a:pt x="646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49" y="20200"/>
                </a:lnTo>
                <a:close/>
              </a:path>
              <a:path fill="lighten" w="646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649" h="21600">
                <a:moveTo>
                  <a:pt x="32325" y="3837"/>
                </a:moveTo>
                <a:lnTo>
                  <a:pt x="34901" y="6448"/>
                </a:lnTo>
                <a:lnTo>
                  <a:pt x="34901" y="4707"/>
                </a:lnTo>
                <a:lnTo>
                  <a:pt x="36676" y="4707"/>
                </a:lnTo>
                <a:lnTo>
                  <a:pt x="36676" y="8224"/>
                </a:lnTo>
                <a:lnTo>
                  <a:pt x="39288" y="10800"/>
                </a:lnTo>
                <a:lnTo>
                  <a:pt x="37634" y="10800"/>
                </a:lnTo>
                <a:lnTo>
                  <a:pt x="37634" y="17989"/>
                </a:lnTo>
                <a:lnTo>
                  <a:pt x="27015" y="17989"/>
                </a:lnTo>
                <a:lnTo>
                  <a:pt x="27015" y="10800"/>
                </a:lnTo>
                <a:lnTo>
                  <a:pt x="25362" y="10800"/>
                </a:lnTo>
                <a:close/>
              </a:path>
              <a:path fill="darkenLess" w="64649" h="21600">
                <a:moveTo>
                  <a:pt x="34901" y="6448"/>
                </a:moveTo>
                <a:lnTo>
                  <a:pt x="34901" y="4707"/>
                </a:lnTo>
                <a:lnTo>
                  <a:pt x="36676" y="4707"/>
                </a:lnTo>
                <a:lnTo>
                  <a:pt x="36676" y="8224"/>
                </a:lnTo>
                <a:close/>
              </a:path>
              <a:path fill="darkenLess" w="64649" h="21600">
                <a:moveTo>
                  <a:pt x="31402" y="14299"/>
                </a:moveTo>
                <a:lnTo>
                  <a:pt x="33247" y="14299"/>
                </a:lnTo>
                <a:lnTo>
                  <a:pt x="33247" y="17989"/>
                </a:lnTo>
                <a:lnTo>
                  <a:pt x="37634" y="17989"/>
                </a:lnTo>
                <a:lnTo>
                  <a:pt x="37634" y="10800"/>
                </a:lnTo>
                <a:lnTo>
                  <a:pt x="27015" y="10800"/>
                </a:lnTo>
                <a:lnTo>
                  <a:pt x="27015" y="17989"/>
                </a:lnTo>
                <a:lnTo>
                  <a:pt x="31402" y="17989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962160" y="846000"/>
            <a:ext cx="5181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3333ff"/>
                </a:solidFill>
                <a:latin typeface="Georgia"/>
              </a:rPr>
              <a:t>Linux Mandrake 6.1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0" name="linux_4" descr=""/>
          <p:cNvPicPr/>
          <p:nvPr/>
        </p:nvPicPr>
        <p:blipFill>
          <a:blip r:embed="rId2"/>
          <a:stretch/>
        </p:blipFill>
        <p:spPr>
          <a:xfrm>
            <a:off x="1905120" y="5334120"/>
            <a:ext cx="604800" cy="717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694B4-177F-4937-B83D-8220B410AB4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0" y="1438200"/>
            <a:ext cx="9144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Georgia"/>
              </a:rPr>
              <a:t>Określamy metodę instalacji - z jakiego dysku instalujemy system – zaznaczamy :  </a:t>
            </a:r>
            <a:r>
              <a:rPr b="1" lang="pl-PL" sz="1200" spc="-1" strike="noStrike">
                <a:solidFill>
                  <a:srgbClr val="000000"/>
                </a:solidFill>
                <a:latin typeface="Georgia"/>
              </a:rPr>
              <a:t>Local CD ROM</a:t>
            </a:r>
            <a:r>
              <a:rPr b="0" lang="pl-PL" sz="1200" spc="-1" strike="noStrike">
                <a:solidFill>
                  <a:srgbClr val="000000"/>
                </a:solidFill>
                <a:latin typeface="Georgia"/>
              </a:rPr>
              <a:t>, krążek instalacyjny powinien znajdować się w napędzie. Nastąpi próba jego rozpoznania i przejdziemy do następnej fazy insalacji system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3zcdromu" descr=""/>
          <p:cNvPicPr/>
          <p:nvPr/>
        </p:nvPicPr>
        <p:blipFill>
          <a:blip r:embed="rId1"/>
          <a:stretch/>
        </p:blipFill>
        <p:spPr>
          <a:xfrm>
            <a:off x="2158920" y="2158920"/>
            <a:ext cx="5499360" cy="3600360"/>
          </a:xfrm>
          <a:prstGeom prst="rect">
            <a:avLst/>
          </a:prstGeom>
          <a:ln w="0">
            <a:noFill/>
          </a:ln>
        </p:spPr>
      </p:pic>
      <p:sp>
        <p:nvSpPr>
          <p:cNvPr id="133" name="">
            <a:hlinkClick r:id="" action="ppaction://hlinkshowjump?jump=nextslide"/>
          </p:cNvPr>
          <p:cNvSpPr/>
          <p:nvPr/>
        </p:nvSpPr>
        <p:spPr>
          <a:xfrm>
            <a:off x="7916760" y="358920"/>
            <a:ext cx="1079640" cy="360360"/>
          </a:xfrm>
          <a:custGeom>
            <a:avLst/>
            <a:gdLst>
              <a:gd name="textAreaLeft" fmla="*/ 23040 w 1079640"/>
              <a:gd name="textAreaRight" fmla="*/ 1056600 w 1079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671" h="21600">
                <a:moveTo>
                  <a:pt x="0" y="0"/>
                </a:moveTo>
                <a:lnTo>
                  <a:pt x="64671" y="0"/>
                </a:lnTo>
                <a:lnTo>
                  <a:pt x="64671" y="21600"/>
                </a:lnTo>
                <a:lnTo>
                  <a:pt x="0" y="21600"/>
                </a:lnTo>
                <a:close/>
              </a:path>
              <a:path fill="lightenLess" w="64671" h="21600">
                <a:moveTo>
                  <a:pt x="0" y="0"/>
                </a:moveTo>
                <a:lnTo>
                  <a:pt x="64671" y="0"/>
                </a:lnTo>
                <a:lnTo>
                  <a:pt x="63271" y="1400"/>
                </a:lnTo>
                <a:lnTo>
                  <a:pt x="1400" y="1400"/>
                </a:lnTo>
                <a:close/>
              </a:path>
              <a:path fill="darken" w="64671" h="21600">
                <a:moveTo>
                  <a:pt x="64671" y="0"/>
                </a:moveTo>
                <a:lnTo>
                  <a:pt x="64671" y="21600"/>
                </a:lnTo>
                <a:lnTo>
                  <a:pt x="63271" y="20200"/>
                </a:lnTo>
                <a:lnTo>
                  <a:pt x="63271" y="1400"/>
                </a:lnTo>
                <a:close/>
              </a:path>
              <a:path fill="darkenLess" w="64671" h="21600">
                <a:moveTo>
                  <a:pt x="646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71" y="20200"/>
                </a:lnTo>
                <a:close/>
              </a:path>
              <a:path fill="lighten" w="646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671" h="21600">
                <a:moveTo>
                  <a:pt x="25329" y="3794"/>
                </a:moveTo>
                <a:lnTo>
                  <a:pt x="39342" y="10800"/>
                </a:lnTo>
                <a:lnTo>
                  <a:pt x="25329" y="17806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>
            <a:hlinkClick r:id="" action="ppaction://hlinkshowjump?jump=previousslide"/>
          </p:cNvPr>
          <p:cNvSpPr/>
          <p:nvPr/>
        </p:nvSpPr>
        <p:spPr>
          <a:xfrm>
            <a:off x="5757840" y="358920"/>
            <a:ext cx="1079640" cy="360360"/>
          </a:xfrm>
          <a:custGeom>
            <a:avLst/>
            <a:gdLst>
              <a:gd name="textAreaLeft" fmla="*/ 23040 w 1079640"/>
              <a:gd name="textAreaRight" fmla="*/ 1056600 w 1079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671" h="21600">
                <a:moveTo>
                  <a:pt x="0" y="0"/>
                </a:moveTo>
                <a:lnTo>
                  <a:pt x="64671" y="0"/>
                </a:lnTo>
                <a:lnTo>
                  <a:pt x="64671" y="21600"/>
                </a:lnTo>
                <a:lnTo>
                  <a:pt x="0" y="21600"/>
                </a:lnTo>
                <a:close/>
              </a:path>
              <a:path fill="lightenLess" w="64671" h="21600">
                <a:moveTo>
                  <a:pt x="0" y="0"/>
                </a:moveTo>
                <a:lnTo>
                  <a:pt x="64671" y="0"/>
                </a:lnTo>
                <a:lnTo>
                  <a:pt x="63271" y="1400"/>
                </a:lnTo>
                <a:lnTo>
                  <a:pt x="1400" y="1400"/>
                </a:lnTo>
                <a:close/>
              </a:path>
              <a:path fill="darken" w="64671" h="21600">
                <a:moveTo>
                  <a:pt x="64671" y="0"/>
                </a:moveTo>
                <a:lnTo>
                  <a:pt x="64671" y="21600"/>
                </a:lnTo>
                <a:lnTo>
                  <a:pt x="63271" y="20200"/>
                </a:lnTo>
                <a:lnTo>
                  <a:pt x="63271" y="1400"/>
                </a:lnTo>
                <a:close/>
              </a:path>
              <a:path fill="darkenLess" w="64671" h="21600">
                <a:moveTo>
                  <a:pt x="646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71" y="20200"/>
                </a:lnTo>
                <a:close/>
              </a:path>
              <a:path fill="lighten" w="646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671" h="21600">
                <a:moveTo>
                  <a:pt x="25329" y="10800"/>
                </a:moveTo>
                <a:lnTo>
                  <a:pt x="39342" y="3794"/>
                </a:lnTo>
                <a:lnTo>
                  <a:pt x="39342" y="17806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>
            <a:hlinkClick r:id="" action="ppaction://hlinkshowjump?jump=firstslide"/>
          </p:cNvPr>
          <p:cNvSpPr/>
          <p:nvPr/>
        </p:nvSpPr>
        <p:spPr>
          <a:xfrm>
            <a:off x="6837480" y="358920"/>
            <a:ext cx="1079280" cy="360360"/>
          </a:xfrm>
          <a:custGeom>
            <a:avLst/>
            <a:gdLst>
              <a:gd name="textAreaLeft" fmla="*/ 23040 w 1079280"/>
              <a:gd name="textAreaRight" fmla="*/ 1056240 w 107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649" h="21600">
                <a:moveTo>
                  <a:pt x="0" y="0"/>
                </a:moveTo>
                <a:lnTo>
                  <a:pt x="64649" y="0"/>
                </a:lnTo>
                <a:lnTo>
                  <a:pt x="64649" y="21600"/>
                </a:lnTo>
                <a:lnTo>
                  <a:pt x="0" y="21600"/>
                </a:lnTo>
                <a:close/>
              </a:path>
              <a:path fill="lightenLess" w="64649" h="21600">
                <a:moveTo>
                  <a:pt x="0" y="0"/>
                </a:moveTo>
                <a:lnTo>
                  <a:pt x="64649" y="0"/>
                </a:lnTo>
                <a:lnTo>
                  <a:pt x="63249" y="1400"/>
                </a:lnTo>
                <a:lnTo>
                  <a:pt x="1400" y="1400"/>
                </a:lnTo>
                <a:close/>
              </a:path>
              <a:path fill="darken" w="64649" h="21600">
                <a:moveTo>
                  <a:pt x="64649" y="0"/>
                </a:moveTo>
                <a:lnTo>
                  <a:pt x="64649" y="21600"/>
                </a:lnTo>
                <a:lnTo>
                  <a:pt x="63249" y="20200"/>
                </a:lnTo>
                <a:lnTo>
                  <a:pt x="63249" y="1400"/>
                </a:lnTo>
                <a:close/>
              </a:path>
              <a:path fill="darkenLess" w="64649" h="21600">
                <a:moveTo>
                  <a:pt x="646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49" y="20200"/>
                </a:lnTo>
                <a:close/>
              </a:path>
              <a:path fill="lighten" w="646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649" h="21600">
                <a:moveTo>
                  <a:pt x="32325" y="3837"/>
                </a:moveTo>
                <a:lnTo>
                  <a:pt x="34901" y="6448"/>
                </a:lnTo>
                <a:lnTo>
                  <a:pt x="34901" y="4707"/>
                </a:lnTo>
                <a:lnTo>
                  <a:pt x="36676" y="4707"/>
                </a:lnTo>
                <a:lnTo>
                  <a:pt x="36676" y="8224"/>
                </a:lnTo>
                <a:lnTo>
                  <a:pt x="39288" y="10800"/>
                </a:lnTo>
                <a:lnTo>
                  <a:pt x="37634" y="10800"/>
                </a:lnTo>
                <a:lnTo>
                  <a:pt x="37634" y="17989"/>
                </a:lnTo>
                <a:lnTo>
                  <a:pt x="27015" y="17989"/>
                </a:lnTo>
                <a:lnTo>
                  <a:pt x="27015" y="10800"/>
                </a:lnTo>
                <a:lnTo>
                  <a:pt x="25362" y="10800"/>
                </a:lnTo>
                <a:close/>
              </a:path>
              <a:path fill="darkenLess" w="64649" h="21600">
                <a:moveTo>
                  <a:pt x="34901" y="6448"/>
                </a:moveTo>
                <a:lnTo>
                  <a:pt x="34901" y="4707"/>
                </a:lnTo>
                <a:lnTo>
                  <a:pt x="36676" y="4707"/>
                </a:lnTo>
                <a:lnTo>
                  <a:pt x="36676" y="8224"/>
                </a:lnTo>
                <a:close/>
              </a:path>
              <a:path fill="darkenLess" w="64649" h="21600">
                <a:moveTo>
                  <a:pt x="31402" y="14299"/>
                </a:moveTo>
                <a:lnTo>
                  <a:pt x="33247" y="14299"/>
                </a:lnTo>
                <a:lnTo>
                  <a:pt x="33247" y="17989"/>
                </a:lnTo>
                <a:lnTo>
                  <a:pt x="37634" y="17989"/>
                </a:lnTo>
                <a:lnTo>
                  <a:pt x="37634" y="10800"/>
                </a:lnTo>
                <a:lnTo>
                  <a:pt x="27015" y="10800"/>
                </a:lnTo>
                <a:lnTo>
                  <a:pt x="27015" y="17989"/>
                </a:lnTo>
                <a:lnTo>
                  <a:pt x="31402" y="17989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962160" y="846000"/>
            <a:ext cx="5181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3333ff"/>
                </a:solidFill>
                <a:latin typeface="Georgia"/>
              </a:rPr>
              <a:t>Linux Mandrake 6.1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7" name="linux_4" descr=""/>
          <p:cNvPicPr/>
          <p:nvPr/>
        </p:nvPicPr>
        <p:blipFill>
          <a:blip r:embed="rId2"/>
          <a:stretch/>
        </p:blipFill>
        <p:spPr>
          <a:xfrm>
            <a:off x="1905120" y="5334120"/>
            <a:ext cx="604800" cy="717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89D3B-C85B-4992-BED2-DD2444B44A7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0" y="143820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Georgia"/>
              </a:rPr>
              <a:t>Decydujemy się na instalację - </a:t>
            </a:r>
            <a:r>
              <a:rPr b="1" lang="pl-PL" sz="1200" spc="-1" strike="noStrike">
                <a:solidFill>
                  <a:srgbClr val="000000"/>
                </a:solidFill>
                <a:latin typeface="Georgia"/>
              </a:rPr>
              <a:t>Install</a:t>
            </a:r>
            <a:r>
              <a:rPr b="0" lang="pl-PL" sz="1200" spc="-1" strike="noStrike">
                <a:solidFill>
                  <a:srgbClr val="000000"/>
                </a:solidFill>
                <a:latin typeface="Georgia"/>
              </a:rPr>
              <a:t> systemu, a nie unowocześnienie już istniejącego – Upgra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4install" descr=""/>
          <p:cNvPicPr/>
          <p:nvPr/>
        </p:nvPicPr>
        <p:blipFill>
          <a:blip r:embed="rId1"/>
          <a:stretch/>
        </p:blipFill>
        <p:spPr>
          <a:xfrm>
            <a:off x="2158920" y="2158920"/>
            <a:ext cx="5499360" cy="3600360"/>
          </a:xfrm>
          <a:prstGeom prst="rect">
            <a:avLst/>
          </a:prstGeom>
          <a:ln w="0">
            <a:noFill/>
          </a:ln>
        </p:spPr>
      </p:pic>
      <p:sp>
        <p:nvSpPr>
          <p:cNvPr id="140" name="">
            <a:hlinkClick r:id="" action="ppaction://hlinkshowjump?jump=nextslide"/>
          </p:cNvPr>
          <p:cNvSpPr/>
          <p:nvPr/>
        </p:nvSpPr>
        <p:spPr>
          <a:xfrm>
            <a:off x="7916760" y="358920"/>
            <a:ext cx="1079640" cy="360360"/>
          </a:xfrm>
          <a:custGeom>
            <a:avLst/>
            <a:gdLst>
              <a:gd name="textAreaLeft" fmla="*/ 23040 w 1079640"/>
              <a:gd name="textAreaRight" fmla="*/ 1056600 w 1079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671" h="21600">
                <a:moveTo>
                  <a:pt x="0" y="0"/>
                </a:moveTo>
                <a:lnTo>
                  <a:pt x="64671" y="0"/>
                </a:lnTo>
                <a:lnTo>
                  <a:pt x="64671" y="21600"/>
                </a:lnTo>
                <a:lnTo>
                  <a:pt x="0" y="21600"/>
                </a:lnTo>
                <a:close/>
              </a:path>
              <a:path fill="lightenLess" w="64671" h="21600">
                <a:moveTo>
                  <a:pt x="0" y="0"/>
                </a:moveTo>
                <a:lnTo>
                  <a:pt x="64671" y="0"/>
                </a:lnTo>
                <a:lnTo>
                  <a:pt x="63271" y="1400"/>
                </a:lnTo>
                <a:lnTo>
                  <a:pt x="1400" y="1400"/>
                </a:lnTo>
                <a:close/>
              </a:path>
              <a:path fill="darken" w="64671" h="21600">
                <a:moveTo>
                  <a:pt x="64671" y="0"/>
                </a:moveTo>
                <a:lnTo>
                  <a:pt x="64671" y="21600"/>
                </a:lnTo>
                <a:lnTo>
                  <a:pt x="63271" y="20200"/>
                </a:lnTo>
                <a:lnTo>
                  <a:pt x="63271" y="1400"/>
                </a:lnTo>
                <a:close/>
              </a:path>
              <a:path fill="darkenLess" w="64671" h="21600">
                <a:moveTo>
                  <a:pt x="646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71" y="20200"/>
                </a:lnTo>
                <a:close/>
              </a:path>
              <a:path fill="lighten" w="646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671" h="21600">
                <a:moveTo>
                  <a:pt x="25329" y="3794"/>
                </a:moveTo>
                <a:lnTo>
                  <a:pt x="39342" y="10800"/>
                </a:lnTo>
                <a:lnTo>
                  <a:pt x="25329" y="17806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>
            <a:hlinkClick r:id="" action="ppaction://hlinkshowjump?jump=previousslide"/>
          </p:cNvPr>
          <p:cNvSpPr/>
          <p:nvPr/>
        </p:nvSpPr>
        <p:spPr>
          <a:xfrm>
            <a:off x="5757840" y="358920"/>
            <a:ext cx="1079640" cy="360360"/>
          </a:xfrm>
          <a:custGeom>
            <a:avLst/>
            <a:gdLst>
              <a:gd name="textAreaLeft" fmla="*/ 23040 w 1079640"/>
              <a:gd name="textAreaRight" fmla="*/ 1056600 w 1079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671" h="21600">
                <a:moveTo>
                  <a:pt x="0" y="0"/>
                </a:moveTo>
                <a:lnTo>
                  <a:pt x="64671" y="0"/>
                </a:lnTo>
                <a:lnTo>
                  <a:pt x="64671" y="21600"/>
                </a:lnTo>
                <a:lnTo>
                  <a:pt x="0" y="21600"/>
                </a:lnTo>
                <a:close/>
              </a:path>
              <a:path fill="lightenLess" w="64671" h="21600">
                <a:moveTo>
                  <a:pt x="0" y="0"/>
                </a:moveTo>
                <a:lnTo>
                  <a:pt x="64671" y="0"/>
                </a:lnTo>
                <a:lnTo>
                  <a:pt x="63271" y="1400"/>
                </a:lnTo>
                <a:lnTo>
                  <a:pt x="1400" y="1400"/>
                </a:lnTo>
                <a:close/>
              </a:path>
              <a:path fill="darken" w="64671" h="21600">
                <a:moveTo>
                  <a:pt x="64671" y="0"/>
                </a:moveTo>
                <a:lnTo>
                  <a:pt x="64671" y="21600"/>
                </a:lnTo>
                <a:lnTo>
                  <a:pt x="63271" y="20200"/>
                </a:lnTo>
                <a:lnTo>
                  <a:pt x="63271" y="1400"/>
                </a:lnTo>
                <a:close/>
              </a:path>
              <a:path fill="darkenLess" w="64671" h="21600">
                <a:moveTo>
                  <a:pt x="646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71" y="20200"/>
                </a:lnTo>
                <a:close/>
              </a:path>
              <a:path fill="lighten" w="646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671" h="21600">
                <a:moveTo>
                  <a:pt x="25329" y="10800"/>
                </a:moveTo>
                <a:lnTo>
                  <a:pt x="39342" y="3794"/>
                </a:lnTo>
                <a:lnTo>
                  <a:pt x="39342" y="17806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>
            <a:hlinkClick r:id="" action="ppaction://hlinkshowjump?jump=firstslide"/>
          </p:cNvPr>
          <p:cNvSpPr/>
          <p:nvPr/>
        </p:nvSpPr>
        <p:spPr>
          <a:xfrm>
            <a:off x="6837480" y="358920"/>
            <a:ext cx="1079280" cy="360360"/>
          </a:xfrm>
          <a:custGeom>
            <a:avLst/>
            <a:gdLst>
              <a:gd name="textAreaLeft" fmla="*/ 23040 w 1079280"/>
              <a:gd name="textAreaRight" fmla="*/ 1056240 w 107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649" h="21600">
                <a:moveTo>
                  <a:pt x="0" y="0"/>
                </a:moveTo>
                <a:lnTo>
                  <a:pt x="64649" y="0"/>
                </a:lnTo>
                <a:lnTo>
                  <a:pt x="64649" y="21600"/>
                </a:lnTo>
                <a:lnTo>
                  <a:pt x="0" y="21600"/>
                </a:lnTo>
                <a:close/>
              </a:path>
              <a:path fill="lightenLess" w="64649" h="21600">
                <a:moveTo>
                  <a:pt x="0" y="0"/>
                </a:moveTo>
                <a:lnTo>
                  <a:pt x="64649" y="0"/>
                </a:lnTo>
                <a:lnTo>
                  <a:pt x="63249" y="1400"/>
                </a:lnTo>
                <a:lnTo>
                  <a:pt x="1400" y="1400"/>
                </a:lnTo>
                <a:close/>
              </a:path>
              <a:path fill="darken" w="64649" h="21600">
                <a:moveTo>
                  <a:pt x="64649" y="0"/>
                </a:moveTo>
                <a:lnTo>
                  <a:pt x="64649" y="21600"/>
                </a:lnTo>
                <a:lnTo>
                  <a:pt x="63249" y="20200"/>
                </a:lnTo>
                <a:lnTo>
                  <a:pt x="63249" y="1400"/>
                </a:lnTo>
                <a:close/>
              </a:path>
              <a:path fill="darkenLess" w="64649" h="21600">
                <a:moveTo>
                  <a:pt x="646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49" y="20200"/>
                </a:lnTo>
                <a:close/>
              </a:path>
              <a:path fill="lighten" w="646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649" h="21600">
                <a:moveTo>
                  <a:pt x="32325" y="3837"/>
                </a:moveTo>
                <a:lnTo>
                  <a:pt x="34901" y="6448"/>
                </a:lnTo>
                <a:lnTo>
                  <a:pt x="34901" y="4707"/>
                </a:lnTo>
                <a:lnTo>
                  <a:pt x="36676" y="4707"/>
                </a:lnTo>
                <a:lnTo>
                  <a:pt x="36676" y="8224"/>
                </a:lnTo>
                <a:lnTo>
                  <a:pt x="39288" y="10800"/>
                </a:lnTo>
                <a:lnTo>
                  <a:pt x="37634" y="10800"/>
                </a:lnTo>
                <a:lnTo>
                  <a:pt x="37634" y="17989"/>
                </a:lnTo>
                <a:lnTo>
                  <a:pt x="27015" y="17989"/>
                </a:lnTo>
                <a:lnTo>
                  <a:pt x="27015" y="10800"/>
                </a:lnTo>
                <a:lnTo>
                  <a:pt x="25362" y="10800"/>
                </a:lnTo>
                <a:close/>
              </a:path>
              <a:path fill="darkenLess" w="64649" h="21600">
                <a:moveTo>
                  <a:pt x="34901" y="6448"/>
                </a:moveTo>
                <a:lnTo>
                  <a:pt x="34901" y="4707"/>
                </a:lnTo>
                <a:lnTo>
                  <a:pt x="36676" y="4707"/>
                </a:lnTo>
                <a:lnTo>
                  <a:pt x="36676" y="8224"/>
                </a:lnTo>
                <a:close/>
              </a:path>
              <a:path fill="darkenLess" w="64649" h="21600">
                <a:moveTo>
                  <a:pt x="31402" y="14299"/>
                </a:moveTo>
                <a:lnTo>
                  <a:pt x="33247" y="14299"/>
                </a:lnTo>
                <a:lnTo>
                  <a:pt x="33247" y="17989"/>
                </a:lnTo>
                <a:lnTo>
                  <a:pt x="37634" y="17989"/>
                </a:lnTo>
                <a:lnTo>
                  <a:pt x="37634" y="10800"/>
                </a:lnTo>
                <a:lnTo>
                  <a:pt x="27015" y="10800"/>
                </a:lnTo>
                <a:lnTo>
                  <a:pt x="27015" y="17989"/>
                </a:lnTo>
                <a:lnTo>
                  <a:pt x="31402" y="17989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962160" y="846000"/>
            <a:ext cx="5181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3333ff"/>
                </a:solidFill>
                <a:latin typeface="Georgia"/>
              </a:rPr>
              <a:t>Linux Mandrake 6.1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44" name="linux_4" descr=""/>
          <p:cNvPicPr/>
          <p:nvPr/>
        </p:nvPicPr>
        <p:blipFill>
          <a:blip r:embed="rId2"/>
          <a:stretch/>
        </p:blipFill>
        <p:spPr>
          <a:xfrm>
            <a:off x="1905120" y="5334120"/>
            <a:ext cx="604800" cy="717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B32BB-A9D4-4C80-834A-35981F0D9C1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0" y="143820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Georgia"/>
              </a:rPr>
              <a:t>Decydujemy jaki rodzaj instalacji będzie dokonany :  stacja robocza, serwer lub </a:t>
            </a:r>
            <a:r>
              <a:rPr b="1" lang="pl-PL" sz="1200" spc="-1" strike="noStrike">
                <a:solidFill>
                  <a:srgbClr val="000000"/>
                </a:solidFill>
                <a:latin typeface="Georgia"/>
              </a:rPr>
              <a:t>normalny</a:t>
            </a:r>
            <a:r>
              <a:rPr b="0" lang="pl-PL" sz="1200" spc="-1" strike="noStrike">
                <a:solidFill>
                  <a:srgbClr val="000000"/>
                </a:solidFill>
                <a:latin typeface="Georgia"/>
              </a:rPr>
              <a:t>. Zaznaczamy ostatni z nich. Na kolejnym ekranie odpowiadamy, czy posiadamy urządzenia SCSI w naszym komputerze – zaznaczamy </a:t>
            </a:r>
            <a:r>
              <a:rPr b="1" lang="pl-PL" sz="1200" spc="-1" strike="noStrike">
                <a:solidFill>
                  <a:srgbClr val="000000"/>
                </a:solidFill>
                <a:latin typeface="Georgia"/>
              </a:rPr>
              <a:t>Nie</a:t>
            </a:r>
            <a:r>
              <a:rPr b="0" lang="pl-PL" sz="12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5rodzajinstla" descr=""/>
          <p:cNvPicPr/>
          <p:nvPr/>
        </p:nvPicPr>
        <p:blipFill>
          <a:blip r:embed="rId1"/>
          <a:stretch/>
        </p:blipFill>
        <p:spPr>
          <a:xfrm>
            <a:off x="2158920" y="2158920"/>
            <a:ext cx="5499360" cy="3600360"/>
          </a:xfrm>
          <a:prstGeom prst="rect">
            <a:avLst/>
          </a:prstGeom>
          <a:ln w="0">
            <a:noFill/>
          </a:ln>
        </p:spPr>
      </p:pic>
      <p:sp>
        <p:nvSpPr>
          <p:cNvPr id="147" name="">
            <a:hlinkClick r:id="" action="ppaction://hlinkshowjump?jump=nextslide"/>
          </p:cNvPr>
          <p:cNvSpPr/>
          <p:nvPr/>
        </p:nvSpPr>
        <p:spPr>
          <a:xfrm>
            <a:off x="7916760" y="358920"/>
            <a:ext cx="1079640" cy="360360"/>
          </a:xfrm>
          <a:custGeom>
            <a:avLst/>
            <a:gdLst>
              <a:gd name="textAreaLeft" fmla="*/ 23040 w 1079640"/>
              <a:gd name="textAreaRight" fmla="*/ 1056600 w 1079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671" h="21600">
                <a:moveTo>
                  <a:pt x="0" y="0"/>
                </a:moveTo>
                <a:lnTo>
                  <a:pt x="64671" y="0"/>
                </a:lnTo>
                <a:lnTo>
                  <a:pt x="64671" y="21600"/>
                </a:lnTo>
                <a:lnTo>
                  <a:pt x="0" y="21600"/>
                </a:lnTo>
                <a:close/>
              </a:path>
              <a:path fill="lightenLess" w="64671" h="21600">
                <a:moveTo>
                  <a:pt x="0" y="0"/>
                </a:moveTo>
                <a:lnTo>
                  <a:pt x="64671" y="0"/>
                </a:lnTo>
                <a:lnTo>
                  <a:pt x="63271" y="1400"/>
                </a:lnTo>
                <a:lnTo>
                  <a:pt x="1400" y="1400"/>
                </a:lnTo>
                <a:close/>
              </a:path>
              <a:path fill="darken" w="64671" h="21600">
                <a:moveTo>
                  <a:pt x="64671" y="0"/>
                </a:moveTo>
                <a:lnTo>
                  <a:pt x="64671" y="21600"/>
                </a:lnTo>
                <a:lnTo>
                  <a:pt x="63271" y="20200"/>
                </a:lnTo>
                <a:lnTo>
                  <a:pt x="63271" y="1400"/>
                </a:lnTo>
                <a:close/>
              </a:path>
              <a:path fill="darkenLess" w="64671" h="21600">
                <a:moveTo>
                  <a:pt x="646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71" y="20200"/>
                </a:lnTo>
                <a:close/>
              </a:path>
              <a:path fill="lighten" w="646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671" h="21600">
                <a:moveTo>
                  <a:pt x="25329" y="3794"/>
                </a:moveTo>
                <a:lnTo>
                  <a:pt x="39342" y="10800"/>
                </a:lnTo>
                <a:lnTo>
                  <a:pt x="25329" y="17806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>
            <a:hlinkClick r:id="" action="ppaction://hlinkshowjump?jump=previousslide"/>
          </p:cNvPr>
          <p:cNvSpPr/>
          <p:nvPr/>
        </p:nvSpPr>
        <p:spPr>
          <a:xfrm>
            <a:off x="5757840" y="358920"/>
            <a:ext cx="1079640" cy="360360"/>
          </a:xfrm>
          <a:custGeom>
            <a:avLst/>
            <a:gdLst>
              <a:gd name="textAreaLeft" fmla="*/ 23040 w 1079640"/>
              <a:gd name="textAreaRight" fmla="*/ 1056600 w 1079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671" h="21600">
                <a:moveTo>
                  <a:pt x="0" y="0"/>
                </a:moveTo>
                <a:lnTo>
                  <a:pt x="64671" y="0"/>
                </a:lnTo>
                <a:lnTo>
                  <a:pt x="64671" y="21600"/>
                </a:lnTo>
                <a:lnTo>
                  <a:pt x="0" y="21600"/>
                </a:lnTo>
                <a:close/>
              </a:path>
              <a:path fill="lightenLess" w="64671" h="21600">
                <a:moveTo>
                  <a:pt x="0" y="0"/>
                </a:moveTo>
                <a:lnTo>
                  <a:pt x="64671" y="0"/>
                </a:lnTo>
                <a:lnTo>
                  <a:pt x="63271" y="1400"/>
                </a:lnTo>
                <a:lnTo>
                  <a:pt x="1400" y="1400"/>
                </a:lnTo>
                <a:close/>
              </a:path>
              <a:path fill="darken" w="64671" h="21600">
                <a:moveTo>
                  <a:pt x="64671" y="0"/>
                </a:moveTo>
                <a:lnTo>
                  <a:pt x="64671" y="21600"/>
                </a:lnTo>
                <a:lnTo>
                  <a:pt x="63271" y="20200"/>
                </a:lnTo>
                <a:lnTo>
                  <a:pt x="63271" y="1400"/>
                </a:lnTo>
                <a:close/>
              </a:path>
              <a:path fill="darkenLess" w="64671" h="21600">
                <a:moveTo>
                  <a:pt x="646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71" y="20200"/>
                </a:lnTo>
                <a:close/>
              </a:path>
              <a:path fill="lighten" w="646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671" h="21600">
                <a:moveTo>
                  <a:pt x="25329" y="10800"/>
                </a:moveTo>
                <a:lnTo>
                  <a:pt x="39342" y="3794"/>
                </a:lnTo>
                <a:lnTo>
                  <a:pt x="39342" y="17806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>
            <a:hlinkClick r:id="" action="ppaction://hlinkshowjump?jump=firstslide"/>
          </p:cNvPr>
          <p:cNvSpPr/>
          <p:nvPr/>
        </p:nvSpPr>
        <p:spPr>
          <a:xfrm>
            <a:off x="6837480" y="358920"/>
            <a:ext cx="1079280" cy="360360"/>
          </a:xfrm>
          <a:custGeom>
            <a:avLst/>
            <a:gdLst>
              <a:gd name="textAreaLeft" fmla="*/ 23040 w 1079280"/>
              <a:gd name="textAreaRight" fmla="*/ 1056240 w 107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649" h="21600">
                <a:moveTo>
                  <a:pt x="0" y="0"/>
                </a:moveTo>
                <a:lnTo>
                  <a:pt x="64649" y="0"/>
                </a:lnTo>
                <a:lnTo>
                  <a:pt x="64649" y="21600"/>
                </a:lnTo>
                <a:lnTo>
                  <a:pt x="0" y="21600"/>
                </a:lnTo>
                <a:close/>
              </a:path>
              <a:path fill="lightenLess" w="64649" h="21600">
                <a:moveTo>
                  <a:pt x="0" y="0"/>
                </a:moveTo>
                <a:lnTo>
                  <a:pt x="64649" y="0"/>
                </a:lnTo>
                <a:lnTo>
                  <a:pt x="63249" y="1400"/>
                </a:lnTo>
                <a:lnTo>
                  <a:pt x="1400" y="1400"/>
                </a:lnTo>
                <a:close/>
              </a:path>
              <a:path fill="darken" w="64649" h="21600">
                <a:moveTo>
                  <a:pt x="64649" y="0"/>
                </a:moveTo>
                <a:lnTo>
                  <a:pt x="64649" y="21600"/>
                </a:lnTo>
                <a:lnTo>
                  <a:pt x="63249" y="20200"/>
                </a:lnTo>
                <a:lnTo>
                  <a:pt x="63249" y="1400"/>
                </a:lnTo>
                <a:close/>
              </a:path>
              <a:path fill="darkenLess" w="64649" h="21600">
                <a:moveTo>
                  <a:pt x="646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49" y="20200"/>
                </a:lnTo>
                <a:close/>
              </a:path>
              <a:path fill="lighten" w="646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649" h="21600">
                <a:moveTo>
                  <a:pt x="32325" y="3837"/>
                </a:moveTo>
                <a:lnTo>
                  <a:pt x="34901" y="6448"/>
                </a:lnTo>
                <a:lnTo>
                  <a:pt x="34901" y="4707"/>
                </a:lnTo>
                <a:lnTo>
                  <a:pt x="36676" y="4707"/>
                </a:lnTo>
                <a:lnTo>
                  <a:pt x="36676" y="8224"/>
                </a:lnTo>
                <a:lnTo>
                  <a:pt x="39288" y="10800"/>
                </a:lnTo>
                <a:lnTo>
                  <a:pt x="37634" y="10800"/>
                </a:lnTo>
                <a:lnTo>
                  <a:pt x="37634" y="17989"/>
                </a:lnTo>
                <a:lnTo>
                  <a:pt x="27015" y="17989"/>
                </a:lnTo>
                <a:lnTo>
                  <a:pt x="27015" y="10800"/>
                </a:lnTo>
                <a:lnTo>
                  <a:pt x="25362" y="10800"/>
                </a:lnTo>
                <a:close/>
              </a:path>
              <a:path fill="darkenLess" w="64649" h="21600">
                <a:moveTo>
                  <a:pt x="34901" y="6448"/>
                </a:moveTo>
                <a:lnTo>
                  <a:pt x="34901" y="4707"/>
                </a:lnTo>
                <a:lnTo>
                  <a:pt x="36676" y="4707"/>
                </a:lnTo>
                <a:lnTo>
                  <a:pt x="36676" y="8224"/>
                </a:lnTo>
                <a:close/>
              </a:path>
              <a:path fill="darkenLess" w="64649" h="21600">
                <a:moveTo>
                  <a:pt x="31402" y="14299"/>
                </a:moveTo>
                <a:lnTo>
                  <a:pt x="33247" y="14299"/>
                </a:lnTo>
                <a:lnTo>
                  <a:pt x="33247" y="17989"/>
                </a:lnTo>
                <a:lnTo>
                  <a:pt x="37634" y="17989"/>
                </a:lnTo>
                <a:lnTo>
                  <a:pt x="37634" y="10800"/>
                </a:lnTo>
                <a:lnTo>
                  <a:pt x="27015" y="10800"/>
                </a:lnTo>
                <a:lnTo>
                  <a:pt x="27015" y="17989"/>
                </a:lnTo>
                <a:lnTo>
                  <a:pt x="31402" y="17989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962160" y="846000"/>
            <a:ext cx="5181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3333ff"/>
                </a:solidFill>
                <a:latin typeface="Georgia"/>
              </a:rPr>
              <a:t>Linux Mandrake 6.1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51" name="linux_4" descr=""/>
          <p:cNvPicPr/>
          <p:nvPr/>
        </p:nvPicPr>
        <p:blipFill>
          <a:blip r:embed="rId2"/>
          <a:stretch/>
        </p:blipFill>
        <p:spPr>
          <a:xfrm>
            <a:off x="1905120" y="5334120"/>
            <a:ext cx="604800" cy="717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A9249-E088-4C22-A5BC-56D9ABBB5D9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5T22:49:26Z</dcterms:created>
  <dc:creator>Stanisław Rożniatowski</dc:creator>
  <dc:description/>
  <dc:language>en-US</dc:language>
  <cp:lastModifiedBy>Stanisław Rożniatowski</cp:lastModifiedBy>
  <dcterms:modified xsi:type="dcterms:W3CDTF">2000-02-20T21:04:17Z</dcterms:modified>
  <cp:revision>33</cp:revision>
  <dc:subject/>
  <dc:title>Instalacja systemu Linux Mandrake 6.1</dc:title>
</cp:coreProperties>
</file>